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14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10666413" cy="8002588"/>
  <p:notesSz cx="6664325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773520" y="-360"/>
            <a:ext cx="2889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07920" y="727200"/>
            <a:ext cx="4848480" cy="36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605480"/>
            <a:ext cx="488484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9210600"/>
            <a:ext cx="28893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773520" y="9210600"/>
            <a:ext cx="28893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A4F8-87DF-4AF2-B351-BC62B4D122E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907920" y="727200"/>
            <a:ext cx="4849920" cy="363672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888480" y="4606920"/>
            <a:ext cx="4884840" cy="4362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rate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sich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sor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mö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907920" y="727200"/>
            <a:ext cx="4849920" cy="363672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88480" y="4606920"/>
            <a:ext cx="4884840" cy="4362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 Gesellschaften in Deutschlan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GIS als Dienstleister für all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samtbedarf mit AG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zeit 250 MA pro Ja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95997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296600"/>
            <a:ext cx="95997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52200" y="187236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29660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52200" y="429660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3090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8920" y="1872360"/>
            <a:ext cx="3090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25040" y="1872360"/>
            <a:ext cx="3090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296600"/>
            <a:ext cx="3090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8920" y="4296600"/>
            <a:ext cx="3090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25040" y="4296600"/>
            <a:ext cx="3090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872360"/>
            <a:ext cx="959976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2700" spc="-1" strike="noStrike">
              <a:solidFill>
                <a:srgbClr val="0849a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959976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4684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52200" y="1872360"/>
            <a:ext cx="4684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318960"/>
            <a:ext cx="959976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700" spc="-1" strike="noStrike">
              <a:solidFill>
                <a:srgbClr val="0849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52200" y="1872360"/>
            <a:ext cx="4684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29660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1872360"/>
            <a:ext cx="959976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2700" spc="-1" strike="noStrike">
              <a:solidFill>
                <a:srgbClr val="0849a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4684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52200" y="187236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52200" y="429660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200" y="187236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296600"/>
            <a:ext cx="95997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95997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296600"/>
            <a:ext cx="95997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52200" y="187236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29660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52200" y="429660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3090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78920" y="1872360"/>
            <a:ext cx="3090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25040" y="1872360"/>
            <a:ext cx="3090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296600"/>
            <a:ext cx="3090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78920" y="4296600"/>
            <a:ext cx="3090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25040" y="4296600"/>
            <a:ext cx="3090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959976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4684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52200" y="1872360"/>
            <a:ext cx="4684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160" y="318960"/>
            <a:ext cx="959976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700" spc="-1" strike="noStrike">
              <a:solidFill>
                <a:srgbClr val="0849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52200" y="1872360"/>
            <a:ext cx="4684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29660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4684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52200" y="187236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52200" y="429660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52200" y="187236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296600"/>
            <a:ext cx="95997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838080" y="7240320"/>
            <a:ext cx="4430880" cy="2667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Autofit/>
          </a:bodyPr>
          <a:lstStyle>
            <a:lvl1pPr>
              <a:lnSpc>
                <a:spcPct val="100000"/>
              </a:lnSpc>
              <a:buClr>
                <a:srgbClr val="000000"/>
              </a:buClr>
              <a:buFont typeface="Arial"/>
              <a:buChar char="©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©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unther.Mathy@Allianz.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sl1" descr=""/>
          <p:cNvPicPr/>
          <p:nvPr/>
        </p:nvPicPr>
        <p:blipFill>
          <a:blip r:embed="rId2"/>
          <a:stretch/>
        </p:blipFill>
        <p:spPr>
          <a:xfrm>
            <a:off x="8388360" y="423720"/>
            <a:ext cx="1898640" cy="5367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385120" y="960480"/>
            <a:ext cx="1905120" cy="18252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48840" y="955800"/>
            <a:ext cx="173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issens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533160" y="1872360"/>
            <a:ext cx="959976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1760" indent="-401760"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00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64960">
              <a:buClr>
                <a:srgbClr val="000000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2320" indent="-266400">
              <a:buClr>
                <a:srgbClr val="000000"/>
              </a:buClr>
              <a:buFont typeface="Arial"/>
              <a:buChar char="–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08320" indent="-263520">
              <a:buClr>
                <a:srgbClr val="000000"/>
              </a:buClr>
              <a:buFont typeface="Arial"/>
              <a:buChar char="»"/>
              <a:tabLst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308320" indent="-263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308320" indent="-263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2"/>
          </p:nvPr>
        </p:nvSpPr>
        <p:spPr>
          <a:xfrm>
            <a:off x="7953120" y="7242120"/>
            <a:ext cx="2214360" cy="1778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fld id="{CEBECF5D-953D-4A75-B3B4-0BBF6A519F5C}" type="datetime">
              <a:rPr b="0" lang="de-DE" sz="13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653840" y="418680"/>
            <a:ext cx="5661000" cy="4446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8520" y="534960"/>
            <a:ext cx="801720" cy="6931080"/>
          </a:xfrm>
          <a:prstGeom prst="rect">
            <a:avLst/>
          </a:prstGeom>
          <a:solidFill>
            <a:srgbClr val="0849ae"/>
          </a:solidFill>
          <a:ln w="9360">
            <a:solidFill>
              <a:srgbClr val="0849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Adlerneb" descr=""/>
          <p:cNvPicPr/>
          <p:nvPr/>
        </p:nvPicPr>
        <p:blipFill>
          <a:blip r:embed="rId2"/>
          <a:stretch/>
        </p:blipFill>
        <p:spPr>
          <a:xfrm>
            <a:off x="8204040" y="533520"/>
            <a:ext cx="186876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package" Target="../embeddings/oleObject5.docx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838080" cy="8001000"/>
          </a:xfrm>
          <a:prstGeom prst="rect">
            <a:avLst/>
          </a:prstGeom>
          <a:solidFill>
            <a:srgbClr val="0000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90120" y="1517760"/>
            <a:ext cx="6470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c8"/>
                </a:solidFill>
                <a:latin typeface="Arial"/>
              </a:rPr>
              <a:t>Wissensmanagement mit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c8"/>
                </a:solidFill>
                <a:latin typeface="Arial"/>
              </a:rPr>
              <a:t>Wissensmanagement in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c8"/>
                </a:solidFill>
                <a:latin typeface="Arial"/>
              </a:rPr>
              <a:t>Gunther Math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c8"/>
                </a:solidFill>
                <a:latin typeface="Arial"/>
              </a:rPr>
              <a:t>Allianz Versicherungs-A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c8"/>
                </a:solidFill>
                <a:latin typeface="Arial"/>
              </a:rPr>
              <a:t>17.7.200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0" y="1828800"/>
            <a:ext cx="10667880" cy="5592600"/>
            <a:chOff x="0" y="1828800"/>
            <a:chExt cx="10667880" cy="5592600"/>
          </a:xfrm>
        </p:grpSpPr>
        <p:grpSp>
          <p:nvGrpSpPr>
            <p:cNvPr id="555" name=""/>
            <p:cNvGrpSpPr/>
            <p:nvPr/>
          </p:nvGrpSpPr>
          <p:grpSpPr>
            <a:xfrm>
              <a:off x="0" y="1828800"/>
              <a:ext cx="10667880" cy="3333600"/>
              <a:chOff x="0" y="1828800"/>
              <a:chExt cx="10667880" cy="3333600"/>
            </a:xfrm>
          </p:grpSpPr>
          <p:sp>
            <p:nvSpPr>
              <p:cNvPr id="556" name=""/>
              <p:cNvSpPr/>
              <p:nvPr/>
            </p:nvSpPr>
            <p:spPr>
              <a:xfrm>
                <a:off x="0" y="1828800"/>
                <a:ext cx="10667880" cy="3333600"/>
              </a:xfrm>
              <a:prstGeom prst="rect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bb4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 rot="16200000">
                <a:off x="-315720" y="3304080"/>
                <a:ext cx="1602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3200" spc="-1" strike="noStrike">
                    <a:solidFill>
                      <a:srgbClr val="000066"/>
                    </a:solidFill>
                    <a:latin typeface="Arial"/>
                  </a:rPr>
                  <a:t>Wisse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0" y="5005080"/>
              <a:ext cx="10667880" cy="2416320"/>
              <a:chOff x="0" y="5005080"/>
              <a:chExt cx="10667880" cy="2416320"/>
            </a:xfrm>
          </p:grpSpPr>
          <p:sp>
            <p:nvSpPr>
              <p:cNvPr id="559" name=""/>
              <p:cNvSpPr/>
              <p:nvPr/>
            </p:nvSpPr>
            <p:spPr>
              <a:xfrm>
                <a:off x="0" y="5148000"/>
                <a:ext cx="10667880" cy="2130120"/>
              </a:xfrm>
              <a:prstGeom prst="rect">
                <a:avLst/>
              </a:prstGeom>
              <a:gradFill rotWithShape="0">
                <a:gsLst>
                  <a:gs pos="0">
                    <a:srgbClr val="fb8054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 rot="16200000">
                <a:off x="-723960" y="5922360"/>
                <a:ext cx="2416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3200" spc="-1" strike="noStrike">
                    <a:solidFill>
                      <a:srgbClr val="000066"/>
                    </a:solidFill>
                    <a:latin typeface="Arial"/>
                  </a:rPr>
                  <a:t>Informatio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Wissensmanagement aus der Sicht </a:t>
            </a:r>
            <a:br>
              <a:rPr sz="2800"/>
            </a:b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mehrerer Person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619440" y="4689360"/>
            <a:ext cx="10288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3619440" y="4689360"/>
            <a:ext cx="1084320" cy="990360"/>
            <a:chOff x="3619440" y="4689360"/>
            <a:chExt cx="1084320" cy="990360"/>
          </a:xfrm>
        </p:grpSpPr>
        <p:sp>
          <p:nvSpPr>
            <p:cNvPr id="564" name=""/>
            <p:cNvSpPr/>
            <p:nvPr/>
          </p:nvSpPr>
          <p:spPr>
            <a:xfrm>
              <a:off x="3619440" y="4689360"/>
              <a:ext cx="1028880" cy="990360"/>
            </a:xfrm>
            <a:prstGeom prst="ellipse">
              <a:avLst/>
            </a:prstGeom>
            <a:solidFill>
              <a:srgbClr val="eb3e2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660480" y="4939920"/>
              <a:ext cx="1043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66"/>
                  </a:solidFill>
                  <a:latin typeface="Arial"/>
                </a:rPr>
                <a:t>Pers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3554280" y="3473280"/>
            <a:ext cx="1171440" cy="1187280"/>
            <a:chOff x="3554280" y="3473280"/>
            <a:chExt cx="1171440" cy="1187280"/>
          </a:xfrm>
        </p:grpSpPr>
        <p:sp>
          <p:nvSpPr>
            <p:cNvPr id="567" name=""/>
            <p:cNvSpPr/>
            <p:nvPr/>
          </p:nvSpPr>
          <p:spPr>
            <a:xfrm>
              <a:off x="3554280" y="3473280"/>
              <a:ext cx="1171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66"/>
                  </a:solidFill>
                  <a:latin typeface="Arial"/>
                </a:rPr>
                <a:t>Wiss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66"/>
                  </a:solidFill>
                  <a:latin typeface="Arial"/>
                </a:rPr>
                <a:t>kreie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 rot="5400000">
              <a:off x="3911760" y="3974760"/>
              <a:ext cx="457200" cy="91440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159840 h 914400"/>
                <a:gd name="textAreaBottom" fmla="*/ 6631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4705200" y="4597560"/>
            <a:ext cx="2400480" cy="1008360"/>
            <a:chOff x="4705200" y="4597560"/>
            <a:chExt cx="2400480" cy="1008360"/>
          </a:xfrm>
        </p:grpSpPr>
        <p:sp>
          <p:nvSpPr>
            <p:cNvPr id="570" name=""/>
            <p:cNvSpPr/>
            <p:nvPr/>
          </p:nvSpPr>
          <p:spPr>
            <a:xfrm>
              <a:off x="4705200" y="4974840"/>
              <a:ext cx="2400480" cy="345960"/>
            </a:xfrm>
            <a:prstGeom prst="rightArrow">
              <a:avLst>
                <a:gd name="adj1" fmla="val 49519"/>
                <a:gd name="adj2" fmla="val 14323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2760" y="4597560"/>
              <a:ext cx="1666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66"/>
                  </a:solidFill>
                  <a:latin typeface="Arial"/>
                </a:rPr>
                <a:t>Wiss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66"/>
                  </a:solidFill>
                  <a:latin typeface="Arial"/>
                </a:rPr>
                <a:t>weitergeb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8229600" y="4597560"/>
            <a:ext cx="2076480" cy="1008360"/>
            <a:chOff x="8229600" y="4597560"/>
            <a:chExt cx="2076480" cy="1008360"/>
          </a:xfrm>
        </p:grpSpPr>
        <p:sp>
          <p:nvSpPr>
            <p:cNvPr id="573" name=""/>
            <p:cNvSpPr/>
            <p:nvPr/>
          </p:nvSpPr>
          <p:spPr>
            <a:xfrm>
              <a:off x="8229600" y="4993920"/>
              <a:ext cx="2076480" cy="326880"/>
            </a:xfrm>
            <a:prstGeom prst="rightArrow">
              <a:avLst>
                <a:gd name="adj1" fmla="val 49519"/>
                <a:gd name="adj2" fmla="val 13113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433720" y="4597560"/>
              <a:ext cx="1666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66"/>
                  </a:solidFill>
                  <a:latin typeface="Arial"/>
                </a:rPr>
                <a:t>Wiss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66"/>
                  </a:solidFill>
                  <a:latin typeface="Arial"/>
                </a:rPr>
                <a:t>weitergeb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1524240" y="5347440"/>
            <a:ext cx="2403000" cy="1856880"/>
            <a:chOff x="1524240" y="5347440"/>
            <a:chExt cx="2403000" cy="1856880"/>
          </a:xfrm>
        </p:grpSpPr>
        <p:sp>
          <p:nvSpPr>
            <p:cNvPr id="576" name=""/>
            <p:cNvSpPr/>
            <p:nvPr/>
          </p:nvSpPr>
          <p:spPr>
            <a:xfrm rot="19656600">
              <a:off x="1717560" y="6000480"/>
              <a:ext cx="2286000" cy="378000"/>
            </a:xfrm>
            <a:prstGeom prst="rightArrow">
              <a:avLst>
                <a:gd name="adj1" fmla="val 50000"/>
                <a:gd name="adj2" fmla="val 15119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19656600">
              <a:off x="1648080" y="5771520"/>
              <a:ext cx="18770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66"/>
                  </a:solidFill>
                  <a:latin typeface="Arial"/>
                </a:rPr>
                <a:t>Information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66"/>
                  </a:solidFill>
                  <a:latin typeface="Arial"/>
                </a:rPr>
                <a:t>sammel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1523880" y="4575240"/>
            <a:ext cx="2076480" cy="1008360"/>
            <a:chOff x="1523880" y="4575240"/>
            <a:chExt cx="2076480" cy="1008360"/>
          </a:xfrm>
        </p:grpSpPr>
        <p:sp>
          <p:nvSpPr>
            <p:cNvPr id="579" name=""/>
            <p:cNvSpPr/>
            <p:nvPr/>
          </p:nvSpPr>
          <p:spPr>
            <a:xfrm>
              <a:off x="1919880" y="4575240"/>
              <a:ext cx="1282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66"/>
                  </a:solidFill>
                  <a:latin typeface="Arial"/>
                </a:rPr>
                <a:t>Wiss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66"/>
                  </a:solidFill>
                  <a:latin typeface="Arial"/>
                </a:rPr>
                <a:t>sammel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523880" y="4988160"/>
              <a:ext cx="2076480" cy="326880"/>
            </a:xfrm>
            <a:prstGeom prst="rightArrow">
              <a:avLst>
                <a:gd name="adj1" fmla="val 49519"/>
                <a:gd name="adj2" fmla="val 13113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5064480" y="5347440"/>
            <a:ext cx="2403000" cy="1856880"/>
            <a:chOff x="5064480" y="5347440"/>
            <a:chExt cx="2403000" cy="1856880"/>
          </a:xfrm>
        </p:grpSpPr>
        <p:sp>
          <p:nvSpPr>
            <p:cNvPr id="582" name=""/>
            <p:cNvSpPr/>
            <p:nvPr/>
          </p:nvSpPr>
          <p:spPr>
            <a:xfrm rot="19656600">
              <a:off x="5257800" y="6000480"/>
              <a:ext cx="2286000" cy="378000"/>
            </a:xfrm>
            <a:prstGeom prst="rightArrow">
              <a:avLst>
                <a:gd name="adj1" fmla="val 50000"/>
                <a:gd name="adj2" fmla="val 15119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19656600">
              <a:off x="5188320" y="5771520"/>
              <a:ext cx="18770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66"/>
                  </a:solidFill>
                  <a:latin typeface="Arial"/>
                </a:rPr>
                <a:t>Information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66"/>
                  </a:solidFill>
                  <a:latin typeface="Arial"/>
                </a:rPr>
                <a:t>sammel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6172200" y="1946160"/>
            <a:ext cx="2819520" cy="3733920"/>
            <a:chOff x="6172200" y="1946160"/>
            <a:chExt cx="2819520" cy="3733920"/>
          </a:xfrm>
        </p:grpSpPr>
        <p:sp>
          <p:nvSpPr>
            <p:cNvPr id="585" name=""/>
            <p:cNvSpPr/>
            <p:nvPr/>
          </p:nvSpPr>
          <p:spPr>
            <a:xfrm>
              <a:off x="7124760" y="4689360"/>
              <a:ext cx="10285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" name=""/>
            <p:cNvGrpSpPr/>
            <p:nvPr/>
          </p:nvGrpSpPr>
          <p:grpSpPr>
            <a:xfrm>
              <a:off x="7124760" y="4689360"/>
              <a:ext cx="1084320" cy="990360"/>
              <a:chOff x="7124760" y="4689360"/>
              <a:chExt cx="1084320" cy="990360"/>
            </a:xfrm>
          </p:grpSpPr>
          <p:sp>
            <p:nvSpPr>
              <p:cNvPr id="587" name=""/>
              <p:cNvSpPr/>
              <p:nvPr/>
            </p:nvSpPr>
            <p:spPr>
              <a:xfrm>
                <a:off x="7124760" y="4689360"/>
                <a:ext cx="1028520" cy="990360"/>
              </a:xfrm>
              <a:prstGeom prst="ellipse">
                <a:avLst/>
              </a:prstGeom>
              <a:solidFill>
                <a:srgbClr val="eb3e2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165800" y="4939920"/>
                <a:ext cx="10432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66"/>
                    </a:solidFill>
                    <a:latin typeface="Arial"/>
                  </a:rPr>
                  <a:t>Pers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7059600" y="3473280"/>
              <a:ext cx="1171440" cy="1187280"/>
              <a:chOff x="7059600" y="3473280"/>
              <a:chExt cx="1171440" cy="1187280"/>
            </a:xfrm>
          </p:grpSpPr>
          <p:sp>
            <p:nvSpPr>
              <p:cNvPr id="590" name=""/>
              <p:cNvSpPr/>
              <p:nvPr/>
            </p:nvSpPr>
            <p:spPr>
              <a:xfrm>
                <a:off x="7059600" y="3473280"/>
                <a:ext cx="11714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66"/>
                    </a:solidFill>
                    <a:latin typeface="Arial"/>
                  </a:rPr>
                  <a:t>Wiss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66"/>
                    </a:solidFill>
                    <a:latin typeface="Arial"/>
                  </a:rPr>
                  <a:t>kreier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 rot="5400000">
                <a:off x="7416720" y="3974760"/>
                <a:ext cx="457200" cy="914400"/>
              </a:xfrm>
              <a:custGeom>
                <a:avLst/>
                <a:gdLst>
                  <a:gd name="textAreaLeft" fmla="*/ 61200 w 457200"/>
                  <a:gd name="textAreaRight" fmla="*/ 396000 w 457200"/>
                  <a:gd name="textAreaTop" fmla="*/ 159840 h 914400"/>
                  <a:gd name="textAreaBottom" fmla="*/ 66312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6172200" y="1946160"/>
              <a:ext cx="2819520" cy="3063600"/>
              <a:chOff x="6172200" y="1946160"/>
              <a:chExt cx="2819520" cy="3063600"/>
            </a:xfrm>
          </p:grpSpPr>
          <p:sp>
            <p:nvSpPr>
              <p:cNvPr id="593" name=""/>
              <p:cNvSpPr/>
              <p:nvPr/>
            </p:nvSpPr>
            <p:spPr>
              <a:xfrm>
                <a:off x="6172200" y="1946160"/>
                <a:ext cx="2819520" cy="1218960"/>
              </a:xfrm>
              <a:prstGeom prst="cloudCallout">
                <a:avLst>
                  <a:gd name="adj1" fmla="val 449"/>
                  <a:gd name="adj2" fmla="val 73569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172200" y="1946160"/>
                <a:ext cx="2819520" cy="1218960"/>
              </a:xfrm>
              <a:prstGeom prst="cloudCallout">
                <a:avLst>
                  <a:gd name="adj1" fmla="val 449"/>
                  <a:gd name="adj2" fmla="val 74347"/>
                </a:avLst>
              </a:prstGeom>
              <a:solidFill>
                <a:srgbClr val="eb3e2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803640" y="1963440"/>
                <a:ext cx="1681920" cy="12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000066"/>
                    </a:solidFill>
                    <a:latin typeface="Arial"/>
                  </a:rPr>
                  <a:t>Kontext,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000066"/>
                    </a:solidFill>
                    <a:latin typeface="Arial"/>
                  </a:rPr>
                  <a:t>Weltbild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000066"/>
                    </a:solidFill>
                    <a:latin typeface="Arial"/>
                  </a:rPr>
                  <a:t>Person 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553080" y="2876400"/>
                <a:ext cx="685800" cy="2133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8077320" y="2876400"/>
                <a:ext cx="457200" cy="19810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8" name=""/>
          <p:cNvGrpSpPr/>
          <p:nvPr/>
        </p:nvGrpSpPr>
        <p:grpSpPr>
          <a:xfrm>
            <a:off x="2666880" y="1927080"/>
            <a:ext cx="2838600" cy="3082680"/>
            <a:chOff x="2666880" y="1927080"/>
            <a:chExt cx="2838600" cy="3082680"/>
          </a:xfrm>
        </p:grpSpPr>
        <p:sp>
          <p:nvSpPr>
            <p:cNvPr id="599" name=""/>
            <p:cNvSpPr/>
            <p:nvPr/>
          </p:nvSpPr>
          <p:spPr>
            <a:xfrm>
              <a:off x="3067200" y="2876400"/>
              <a:ext cx="685800" cy="2133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4591080" y="2876400"/>
              <a:ext cx="457200" cy="1981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1" name=""/>
            <p:cNvGrpSpPr/>
            <p:nvPr/>
          </p:nvGrpSpPr>
          <p:grpSpPr>
            <a:xfrm>
              <a:off x="2666880" y="1927080"/>
              <a:ext cx="2838600" cy="1247760"/>
              <a:chOff x="2666880" y="1927080"/>
              <a:chExt cx="2838600" cy="1247760"/>
            </a:xfrm>
          </p:grpSpPr>
          <p:sp>
            <p:nvSpPr>
              <p:cNvPr id="602" name=""/>
              <p:cNvSpPr/>
              <p:nvPr/>
            </p:nvSpPr>
            <p:spPr>
              <a:xfrm>
                <a:off x="2685960" y="1927080"/>
                <a:ext cx="2819520" cy="1247760"/>
              </a:xfrm>
              <a:prstGeom prst="cloudCallout">
                <a:avLst>
                  <a:gd name="adj1" fmla="val 902"/>
                  <a:gd name="adj2" fmla="val 76592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666880" y="1946160"/>
                <a:ext cx="2838600" cy="1218960"/>
              </a:xfrm>
              <a:prstGeom prst="cloudCallout">
                <a:avLst>
                  <a:gd name="adj1" fmla="val 560"/>
                  <a:gd name="adj2" fmla="val 74870"/>
                </a:avLst>
              </a:prstGeom>
              <a:solidFill>
                <a:srgbClr val="eb3e2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298320" y="1963440"/>
                <a:ext cx="1681920" cy="12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000066"/>
                    </a:solidFill>
                    <a:latin typeface="Arial"/>
                  </a:rPr>
                  <a:t>Kontext,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000066"/>
                    </a:solidFill>
                    <a:latin typeface="Arial"/>
                  </a:rPr>
                  <a:t>Weltbild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000066"/>
                    </a:solidFill>
                    <a:latin typeface="Arial"/>
                  </a:rPr>
                  <a:t>Person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Phasen des Wissensmanagement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 rot="16200000">
            <a:off x="7009200" y="4242600"/>
            <a:ext cx="516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Nach Probst, Raub, Romhardt: „Wissen managen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386080" y="1676520"/>
            <a:ext cx="1676160" cy="99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Wissen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zi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86080" y="3200400"/>
            <a:ext cx="1676160" cy="9907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b3e29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Wissen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transparen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547640" y="4724280"/>
            <a:ext cx="1676520" cy="9907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b3e29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Wissen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erwe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766960" y="6095880"/>
            <a:ext cx="1676520" cy="9907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b3e29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Wissen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entwick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510160" y="6095880"/>
            <a:ext cx="1676520" cy="9907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b3e29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Wissen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(ver)tei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729480" y="4724280"/>
            <a:ext cx="1676160" cy="9907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b3e29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Wissen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nutz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891040" y="3200400"/>
            <a:ext cx="1676520" cy="9907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b3e29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Wissen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bewah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891040" y="1676520"/>
            <a:ext cx="1676520" cy="99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Wissen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bewer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5" name=""/>
          <p:cNvCxnSpPr>
            <a:stCxn id="607" idx="2"/>
            <a:endCxn id="608" idx="0"/>
          </p:cNvCxnSpPr>
          <p:nvPr/>
        </p:nvCxnSpPr>
        <p:spPr>
          <a:xfrm>
            <a:off x="3223800" y="2666880"/>
            <a:ext cx="1080" cy="534240"/>
          </a:xfrm>
          <a:prstGeom prst="straightConnector1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616" name=""/>
          <p:cNvCxnSpPr>
            <a:stCxn id="608" idx="2"/>
            <a:endCxn id="609" idx="0"/>
          </p:cNvCxnSpPr>
          <p:nvPr/>
        </p:nvCxnSpPr>
        <p:spPr>
          <a:xfrm flipH="1">
            <a:off x="2385720" y="4190760"/>
            <a:ext cx="838800" cy="533880"/>
          </a:xfrm>
          <a:prstGeom prst="straightConnector1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617" name=""/>
          <p:cNvCxnSpPr>
            <a:stCxn id="609" idx="2"/>
            <a:endCxn id="610" idx="0"/>
          </p:cNvCxnSpPr>
          <p:nvPr/>
        </p:nvCxnSpPr>
        <p:spPr>
          <a:xfrm>
            <a:off x="2386080" y="5715000"/>
            <a:ext cx="1219680" cy="381600"/>
          </a:xfrm>
          <a:prstGeom prst="straightConnector1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618" name=""/>
          <p:cNvCxnSpPr>
            <a:stCxn id="610" idx="3"/>
            <a:endCxn id="611" idx="1"/>
          </p:cNvCxnSpPr>
          <p:nvPr/>
        </p:nvCxnSpPr>
        <p:spPr>
          <a:xfrm>
            <a:off x="4443120" y="6590880"/>
            <a:ext cx="1067400" cy="1080"/>
          </a:xfrm>
          <a:prstGeom prst="straightConnector1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619" name=""/>
          <p:cNvCxnSpPr>
            <a:stCxn id="611" idx="0"/>
            <a:endCxn id="612" idx="2"/>
          </p:cNvCxnSpPr>
          <p:nvPr/>
        </p:nvCxnSpPr>
        <p:spPr>
          <a:xfrm flipV="1">
            <a:off x="6347880" y="5714640"/>
            <a:ext cx="1220040" cy="381600"/>
          </a:xfrm>
          <a:prstGeom prst="straightConnector1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620" name=""/>
          <p:cNvCxnSpPr>
            <a:stCxn id="612" idx="0"/>
            <a:endCxn id="613" idx="2"/>
          </p:cNvCxnSpPr>
          <p:nvPr/>
        </p:nvCxnSpPr>
        <p:spPr>
          <a:xfrm flipH="1" flipV="1">
            <a:off x="6729120" y="4190400"/>
            <a:ext cx="838800" cy="533880"/>
          </a:xfrm>
          <a:prstGeom prst="straightConnector1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621" name=""/>
          <p:cNvCxnSpPr>
            <a:stCxn id="613" idx="0"/>
            <a:endCxn id="614" idx="2"/>
          </p:cNvCxnSpPr>
          <p:nvPr/>
        </p:nvCxnSpPr>
        <p:spPr>
          <a:xfrm flipV="1">
            <a:off x="6729120" y="2666520"/>
            <a:ext cx="1080" cy="534240"/>
          </a:xfrm>
          <a:prstGeom prst="straightConnector1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622" name=""/>
          <p:cNvCxnSpPr>
            <a:stCxn id="614" idx="1"/>
            <a:endCxn id="607" idx="3"/>
          </p:cNvCxnSpPr>
          <p:nvPr/>
        </p:nvCxnSpPr>
        <p:spPr>
          <a:xfrm flipH="1">
            <a:off x="4061880" y="2171520"/>
            <a:ext cx="1829520" cy="1080"/>
          </a:xfrm>
          <a:prstGeom prst="straightConnector1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623" name=""/>
          <p:cNvSpPr/>
          <p:nvPr/>
        </p:nvSpPr>
        <p:spPr>
          <a:xfrm rot="16200000">
            <a:off x="7069680" y="3949920"/>
            <a:ext cx="5837040" cy="5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4300" spc="-1" strike="noStrike">
                <a:solidFill>
                  <a:srgbClr val="a1bae0"/>
                </a:solidFill>
                <a:latin typeface="Arial"/>
              </a:rPr>
              <a:t>Definitione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Wissensmanagement mi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49200" y="2144520"/>
            <a:ext cx="943632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6880" indent="-335160">
              <a:lnSpc>
                <a:spcPct val="90000"/>
              </a:lnSpc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Anforderungen von Benutzern an die Techni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lnSpc>
                <a:spcPct val="90000"/>
              </a:lnSpc>
              <a:buClr>
                <a:srgbClr val="0000c8"/>
              </a:buClr>
              <a:buFont typeface="Arial"/>
              <a:buChar char=" 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Welche Bedürfnisse habe ich als Benutz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lnSpc>
                <a:spcPct val="90000"/>
              </a:lnSpc>
              <a:buClr>
                <a:srgbClr val="0000c8"/>
              </a:buClr>
              <a:buFont typeface="Arial"/>
              <a:buChar char=" 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Wie möchte ich arbeiten mit der Techni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0">
              <a:lnSpc>
                <a:spcPct val="90000"/>
              </a:lnSpc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lnSpc>
                <a:spcPct val="90000"/>
              </a:lnSpc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Technik allgem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lnSpc>
                <a:spcPct val="90000"/>
              </a:lnSpc>
              <a:buClr>
                <a:srgbClr val="0000c8"/>
              </a:buClr>
              <a:buFont typeface="Arial"/>
              <a:buChar char=" 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Was kann die Technik für mich als Benutzer leis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lnSpc>
                <a:spcPct val="90000"/>
              </a:lnSpc>
              <a:buClr>
                <a:srgbClr val="0000c8"/>
              </a:buClr>
              <a:buFont typeface="Arial"/>
              <a:buChar char=" 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Welche Unterstützung kann die Technik leis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0">
              <a:lnSpc>
                <a:spcPct val="90000"/>
              </a:lnSpc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lnSpc>
                <a:spcPct val="90000"/>
              </a:lnSpc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Produk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lnSpc>
                <a:spcPct val="90000"/>
              </a:lnSpc>
              <a:buClr>
                <a:srgbClr val="0000c8"/>
              </a:buClr>
              <a:buFont typeface="Arial"/>
              <a:buChar char=" 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Welche Produkte werden in der Allianz eingesetz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lnSpc>
                <a:spcPct val="90000"/>
              </a:lnSpc>
              <a:buClr>
                <a:srgbClr val="0000c8"/>
              </a:buClr>
              <a:buFont typeface="Arial"/>
              <a:buChar char=" 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Welche Produkte gibt es darüber hina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Anforderungen von Benutze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100281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92960" indent="-192960">
              <a:buClr>
                <a:srgbClr val="0000c8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595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Ich möchte Informationen dokumentieren und verwal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595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Ich möchte Informationen schnell und leicht fin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buClr>
                <a:srgbClr val="0000c8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Kommunik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595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Ich möchte mit Kollegen kommunizie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595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Ich möchte mit Kollegen Informationen und Dokumente austausch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buClr>
                <a:srgbClr val="0000c8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Arbei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595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Ich möchte mit Kollegen zusammenarbei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595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Ich möchte Arbeitsprozesse automatisie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9068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Wie bekomme ich Informationen?</a:t>
            </a:r>
            <a:br>
              <a:rPr sz="3200"/>
            </a:b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Wie finde ich Information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2050920"/>
            <a:ext cx="10515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Allgemein sind wir nicht an den Dokumenten interessiert, sondern an den Inhal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Oftmals sind wir nicht an allen Informationen eines Dokuments interessiert, sondern nur an Tei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Ein Anwender möchte möglichst schnell erkennen, ob ein Dokument für ihn interessant 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lnSpc>
                <a:spcPct val="110000"/>
              </a:lnSpc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Ein Anwender sollte schnell und einfach die Informationen finden, an denen er interessiert 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Wie finde ich Dokumente über die Strukt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41200" y="1752120"/>
            <a:ext cx="9436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823320" indent="-31824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ie Dokumente sollten hierarchisch strukturiert wer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3320" indent="-31824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ie Strukturierung sollte sich an der Zielgruppe ausrichten. Die Strukturierung sollte sich an den Denkmustern der Anwender orientie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3320" indent="-31824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Vielfach werden Dokumente entsprechend den Denkmustern der Autoren abgeleg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3320" indent="-31824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as abgelegte Dokument sollte in einen Kontext eingebettet werden - Links z.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3320" indent="-31824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Es wird generell nur etwas gefunden, wenn in die Unterstützung möglicher Suchprozesse investiert wur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Beispiel - Microsoft Explo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695840" cy="39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771480" indent="-29808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Verwaltung von Dateien unter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29808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Strukturierung über Verzeichni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29808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ateien werden in Verzeichnissen abgeleg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29808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Angabe vom Dateinamen, Größe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29808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Voransicht von Bildern, Folien, 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5100480" y="2303640"/>
            <a:ext cx="5256360" cy="378432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5769000" y="5427720"/>
            <a:ext cx="0" cy="91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9210600" y="5276880"/>
            <a:ext cx="0" cy="1065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875640" y="6423120"/>
            <a:ext cx="182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Vorans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eines Bil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740720" y="5470560"/>
            <a:ext cx="0" cy="871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454640" y="6423120"/>
            <a:ext cx="224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Hierarchie v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Verzeich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8852400" y="642312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Liste 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Date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Wie finde ich Informationen </a:t>
            </a:r>
            <a:br>
              <a:rPr sz="3200"/>
            </a:b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über die Suc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80880" y="1943280"/>
            <a:ext cx="9436320" cy="43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57880" indent="-3315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Schlagwortsuche sucht nur über die Schlagworte, die für die Dokumente angegeben worden s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880" indent="-3315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Volltextsuche sucht nach dem Suchbegriff im gesamten  Doku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880" indent="-3315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ie Suche sollte verschiedene Dokumenttypen (Microsoft Word, PDF, ...) durchsuchen könn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880" indent="-3315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Über die Eingabe von Suchbegriffen versucht der Anwender Informationen zu fin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880" indent="-3315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ie Suche wird effektiver, wenn mehrere Suchbegriffe über UND, ODER oder NICHT kombinierbar s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Beispiel - Suche im Microsoft Explo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54594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849240"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Suche ist möglich n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32832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ateina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32832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ateity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32832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ateigröß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32832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at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259560">
              <a:buClr>
                <a:srgbClr val="0000c8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er Erstellu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259560">
              <a:buClr>
                <a:srgbClr val="0000c8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er Änderung 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259560">
              <a:buClr>
                <a:srgbClr val="0000c8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es letzten Zugri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32832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Zeichenketten in Date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6726240" y="2509920"/>
            <a:ext cx="3638520" cy="258264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6404040" y="3413160"/>
            <a:ext cx="4057560" cy="287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9068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Wie unterstützt Personalisierung </a:t>
            </a:r>
            <a:br>
              <a:rPr sz="3200"/>
            </a:b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bei der Suche nach Information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9435960" cy="43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780120" indent="-30132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Ein System besitzt Informationen über den Anwendern (Name, Alter, Beruf, ..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0120" indent="-30132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Anhand der Informationen über den Anwender versucht  das System, dem Anwender interessante Informationen anzubie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0120" indent="-30132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er Anwender kann dem System Interessen über Angabe von Schlagworten bekannt machen (Börse, Internet, ..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0120" indent="-30132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Bei Verwenden des Systems sucht das System anhand der Angaben interessante Dokume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0120" indent="-30132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Werden neue Dokumente ins System abgelegt, werden diese berücksichtig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11360" y="833400"/>
            <a:ext cx="695160" cy="6453360"/>
          </a:xfrm>
          <a:prstGeom prst="rect">
            <a:avLst/>
          </a:prstGeom>
          <a:solidFill>
            <a:srgbClr val="336699"/>
          </a:solidFill>
          <a:ln w="7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2800" y="825480"/>
            <a:ext cx="927000" cy="6473880"/>
          </a:xfrm>
          <a:prstGeom prst="rect">
            <a:avLst/>
          </a:prstGeom>
          <a:solidFill>
            <a:srgbClr val="000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8800" y="2732040"/>
            <a:ext cx="3224160" cy="4479840"/>
          </a:xfrm>
          <a:custGeom>
            <a:avLst/>
            <a:gdLst/>
            <a:ahLst/>
            <a:rect l="l" t="t" r="r" b="b"/>
            <a:pathLst>
              <a:path w="5183" h="7154">
                <a:moveTo>
                  <a:pt x="0" y="540"/>
                </a:moveTo>
                <a:lnTo>
                  <a:pt x="71" y="559"/>
                </a:lnTo>
                <a:lnTo>
                  <a:pt x="46" y="572"/>
                </a:lnTo>
                <a:lnTo>
                  <a:pt x="74" y="616"/>
                </a:lnTo>
                <a:lnTo>
                  <a:pt x="193" y="611"/>
                </a:lnTo>
                <a:lnTo>
                  <a:pt x="214" y="639"/>
                </a:lnTo>
                <a:lnTo>
                  <a:pt x="261" y="620"/>
                </a:lnTo>
                <a:lnTo>
                  <a:pt x="273" y="699"/>
                </a:lnTo>
                <a:lnTo>
                  <a:pt x="113" y="774"/>
                </a:lnTo>
                <a:lnTo>
                  <a:pt x="85" y="855"/>
                </a:lnTo>
                <a:lnTo>
                  <a:pt x="110" y="885"/>
                </a:lnTo>
                <a:lnTo>
                  <a:pt x="168" y="900"/>
                </a:lnTo>
                <a:lnTo>
                  <a:pt x="139" y="939"/>
                </a:lnTo>
                <a:lnTo>
                  <a:pt x="166" y="978"/>
                </a:lnTo>
                <a:lnTo>
                  <a:pt x="194" y="979"/>
                </a:lnTo>
                <a:lnTo>
                  <a:pt x="222" y="934"/>
                </a:lnTo>
                <a:lnTo>
                  <a:pt x="251" y="1019"/>
                </a:lnTo>
                <a:lnTo>
                  <a:pt x="230" y="1054"/>
                </a:lnTo>
                <a:lnTo>
                  <a:pt x="301" y="1010"/>
                </a:lnTo>
                <a:lnTo>
                  <a:pt x="356" y="1073"/>
                </a:lnTo>
                <a:lnTo>
                  <a:pt x="441" y="1021"/>
                </a:lnTo>
                <a:lnTo>
                  <a:pt x="362" y="1181"/>
                </a:lnTo>
                <a:lnTo>
                  <a:pt x="303" y="1213"/>
                </a:lnTo>
                <a:lnTo>
                  <a:pt x="301" y="1246"/>
                </a:lnTo>
                <a:lnTo>
                  <a:pt x="230" y="1252"/>
                </a:lnTo>
                <a:lnTo>
                  <a:pt x="181" y="1313"/>
                </a:lnTo>
                <a:lnTo>
                  <a:pt x="251" y="1263"/>
                </a:lnTo>
                <a:lnTo>
                  <a:pt x="323" y="1267"/>
                </a:lnTo>
                <a:lnTo>
                  <a:pt x="347" y="1219"/>
                </a:lnTo>
                <a:lnTo>
                  <a:pt x="395" y="1205"/>
                </a:lnTo>
                <a:lnTo>
                  <a:pt x="542" y="1086"/>
                </a:lnTo>
                <a:lnTo>
                  <a:pt x="572" y="1042"/>
                </a:lnTo>
                <a:lnTo>
                  <a:pt x="544" y="1005"/>
                </a:lnTo>
                <a:lnTo>
                  <a:pt x="680" y="863"/>
                </a:lnTo>
                <a:lnTo>
                  <a:pt x="703" y="876"/>
                </a:lnTo>
                <a:lnTo>
                  <a:pt x="651" y="908"/>
                </a:lnTo>
                <a:lnTo>
                  <a:pt x="631" y="978"/>
                </a:lnTo>
                <a:lnTo>
                  <a:pt x="664" y="978"/>
                </a:lnTo>
                <a:lnTo>
                  <a:pt x="632" y="1015"/>
                </a:lnTo>
                <a:lnTo>
                  <a:pt x="759" y="962"/>
                </a:lnTo>
                <a:lnTo>
                  <a:pt x="785" y="895"/>
                </a:lnTo>
                <a:lnTo>
                  <a:pt x="846" y="875"/>
                </a:lnTo>
                <a:lnTo>
                  <a:pt x="829" y="910"/>
                </a:lnTo>
                <a:lnTo>
                  <a:pt x="934" y="962"/>
                </a:lnTo>
                <a:lnTo>
                  <a:pt x="1132" y="971"/>
                </a:lnTo>
                <a:lnTo>
                  <a:pt x="1146" y="1019"/>
                </a:lnTo>
                <a:lnTo>
                  <a:pt x="1185" y="1060"/>
                </a:lnTo>
                <a:lnTo>
                  <a:pt x="1225" y="1084"/>
                </a:lnTo>
                <a:lnTo>
                  <a:pt x="1298" y="1074"/>
                </a:lnTo>
                <a:lnTo>
                  <a:pt x="1360" y="1110"/>
                </a:lnTo>
                <a:lnTo>
                  <a:pt x="1352" y="1161"/>
                </a:lnTo>
                <a:lnTo>
                  <a:pt x="1440" y="1231"/>
                </a:lnTo>
                <a:lnTo>
                  <a:pt x="1468" y="1341"/>
                </a:lnTo>
                <a:lnTo>
                  <a:pt x="1565" y="1479"/>
                </a:lnTo>
                <a:lnTo>
                  <a:pt x="1573" y="1559"/>
                </a:lnTo>
                <a:lnTo>
                  <a:pt x="1696" y="1635"/>
                </a:lnTo>
                <a:lnTo>
                  <a:pt x="1756" y="1647"/>
                </a:lnTo>
                <a:lnTo>
                  <a:pt x="1776" y="1752"/>
                </a:lnTo>
                <a:lnTo>
                  <a:pt x="1696" y="1748"/>
                </a:lnTo>
                <a:lnTo>
                  <a:pt x="1723" y="1874"/>
                </a:lnTo>
                <a:lnTo>
                  <a:pt x="1709" y="2208"/>
                </a:lnTo>
                <a:lnTo>
                  <a:pt x="1787" y="2389"/>
                </a:lnTo>
                <a:lnTo>
                  <a:pt x="1856" y="2535"/>
                </a:lnTo>
                <a:lnTo>
                  <a:pt x="1935" y="2563"/>
                </a:lnTo>
                <a:lnTo>
                  <a:pt x="1993" y="2645"/>
                </a:lnTo>
                <a:lnTo>
                  <a:pt x="2049" y="2792"/>
                </a:lnTo>
                <a:lnTo>
                  <a:pt x="2147" y="2939"/>
                </a:lnTo>
                <a:lnTo>
                  <a:pt x="2184" y="3048"/>
                </a:lnTo>
                <a:lnTo>
                  <a:pt x="2271" y="3145"/>
                </a:lnTo>
                <a:lnTo>
                  <a:pt x="2294" y="3119"/>
                </a:lnTo>
                <a:lnTo>
                  <a:pt x="2091" y="2772"/>
                </a:lnTo>
                <a:lnTo>
                  <a:pt x="2079" y="2676"/>
                </a:lnTo>
                <a:lnTo>
                  <a:pt x="2120" y="2697"/>
                </a:lnTo>
                <a:lnTo>
                  <a:pt x="2196" y="2850"/>
                </a:lnTo>
                <a:lnTo>
                  <a:pt x="2303" y="2966"/>
                </a:lnTo>
                <a:lnTo>
                  <a:pt x="2299" y="3009"/>
                </a:lnTo>
                <a:lnTo>
                  <a:pt x="2439" y="3162"/>
                </a:lnTo>
                <a:lnTo>
                  <a:pt x="2459" y="3228"/>
                </a:lnTo>
                <a:lnTo>
                  <a:pt x="2444" y="3278"/>
                </a:lnTo>
                <a:lnTo>
                  <a:pt x="2476" y="3334"/>
                </a:lnTo>
                <a:lnTo>
                  <a:pt x="2756" y="3495"/>
                </a:lnTo>
                <a:lnTo>
                  <a:pt x="2880" y="3483"/>
                </a:lnTo>
                <a:lnTo>
                  <a:pt x="2962" y="3559"/>
                </a:lnTo>
                <a:lnTo>
                  <a:pt x="3043" y="3602"/>
                </a:lnTo>
                <a:lnTo>
                  <a:pt x="3133" y="3617"/>
                </a:lnTo>
                <a:lnTo>
                  <a:pt x="3212" y="3736"/>
                </a:lnTo>
                <a:lnTo>
                  <a:pt x="3215" y="3787"/>
                </a:lnTo>
                <a:lnTo>
                  <a:pt x="3243" y="3779"/>
                </a:lnTo>
                <a:lnTo>
                  <a:pt x="3320" y="3866"/>
                </a:lnTo>
                <a:lnTo>
                  <a:pt x="3411" y="3925"/>
                </a:lnTo>
                <a:lnTo>
                  <a:pt x="3418" y="3874"/>
                </a:lnTo>
                <a:lnTo>
                  <a:pt x="3466" y="3834"/>
                </a:lnTo>
                <a:lnTo>
                  <a:pt x="3512" y="3866"/>
                </a:lnTo>
                <a:lnTo>
                  <a:pt x="3516" y="3919"/>
                </a:lnTo>
                <a:lnTo>
                  <a:pt x="3535" y="4077"/>
                </a:lnTo>
                <a:lnTo>
                  <a:pt x="3436" y="4234"/>
                </a:lnTo>
                <a:lnTo>
                  <a:pt x="3406" y="4380"/>
                </a:lnTo>
                <a:lnTo>
                  <a:pt x="3397" y="4553"/>
                </a:lnTo>
                <a:lnTo>
                  <a:pt x="3478" y="4674"/>
                </a:lnTo>
                <a:lnTo>
                  <a:pt x="3577" y="4965"/>
                </a:lnTo>
                <a:lnTo>
                  <a:pt x="3806" y="5159"/>
                </a:lnTo>
                <a:lnTo>
                  <a:pt x="3820" y="5325"/>
                </a:lnTo>
                <a:lnTo>
                  <a:pt x="3767" y="5711"/>
                </a:lnTo>
                <a:lnTo>
                  <a:pt x="3769" y="5914"/>
                </a:lnTo>
                <a:lnTo>
                  <a:pt x="3687" y="6158"/>
                </a:lnTo>
                <a:lnTo>
                  <a:pt x="3679" y="6389"/>
                </a:lnTo>
                <a:lnTo>
                  <a:pt x="3737" y="6408"/>
                </a:lnTo>
                <a:lnTo>
                  <a:pt x="3726" y="6588"/>
                </a:lnTo>
                <a:lnTo>
                  <a:pt x="3662" y="6708"/>
                </a:lnTo>
                <a:lnTo>
                  <a:pt x="3651" y="6782"/>
                </a:lnTo>
                <a:lnTo>
                  <a:pt x="3680" y="6879"/>
                </a:lnTo>
                <a:lnTo>
                  <a:pt x="3668" y="6967"/>
                </a:lnTo>
                <a:lnTo>
                  <a:pt x="3715" y="7007"/>
                </a:lnTo>
                <a:lnTo>
                  <a:pt x="3718" y="7074"/>
                </a:lnTo>
                <a:lnTo>
                  <a:pt x="3738" y="7133"/>
                </a:lnTo>
                <a:lnTo>
                  <a:pt x="3784" y="7154"/>
                </a:lnTo>
                <a:lnTo>
                  <a:pt x="3796" y="7079"/>
                </a:lnTo>
                <a:lnTo>
                  <a:pt x="3891" y="7054"/>
                </a:lnTo>
                <a:lnTo>
                  <a:pt x="3849" y="7009"/>
                </a:lnTo>
                <a:lnTo>
                  <a:pt x="3907" y="6910"/>
                </a:lnTo>
                <a:lnTo>
                  <a:pt x="3998" y="6754"/>
                </a:lnTo>
                <a:lnTo>
                  <a:pt x="3924" y="6660"/>
                </a:lnTo>
                <a:lnTo>
                  <a:pt x="4002" y="6604"/>
                </a:lnTo>
                <a:lnTo>
                  <a:pt x="4069" y="6427"/>
                </a:lnTo>
                <a:lnTo>
                  <a:pt x="4019" y="6355"/>
                </a:lnTo>
                <a:lnTo>
                  <a:pt x="4119" y="6360"/>
                </a:lnTo>
                <a:lnTo>
                  <a:pt x="4127" y="6242"/>
                </a:lnTo>
                <a:lnTo>
                  <a:pt x="4295" y="6217"/>
                </a:lnTo>
                <a:lnTo>
                  <a:pt x="4344" y="6136"/>
                </a:lnTo>
                <a:lnTo>
                  <a:pt x="4275" y="5974"/>
                </a:lnTo>
                <a:lnTo>
                  <a:pt x="4417" y="6028"/>
                </a:lnTo>
                <a:lnTo>
                  <a:pt x="4474" y="5958"/>
                </a:lnTo>
                <a:lnTo>
                  <a:pt x="4660" y="5672"/>
                </a:lnTo>
                <a:lnTo>
                  <a:pt x="4672" y="5522"/>
                </a:lnTo>
                <a:lnTo>
                  <a:pt x="4821" y="5393"/>
                </a:lnTo>
                <a:lnTo>
                  <a:pt x="4950" y="5344"/>
                </a:lnTo>
                <a:lnTo>
                  <a:pt x="5027" y="5127"/>
                </a:lnTo>
                <a:lnTo>
                  <a:pt x="5037" y="4911"/>
                </a:lnTo>
                <a:lnTo>
                  <a:pt x="5183" y="4705"/>
                </a:lnTo>
                <a:lnTo>
                  <a:pt x="5170" y="4520"/>
                </a:lnTo>
                <a:lnTo>
                  <a:pt x="5021" y="4421"/>
                </a:lnTo>
                <a:lnTo>
                  <a:pt x="4825" y="4400"/>
                </a:lnTo>
                <a:lnTo>
                  <a:pt x="4807" y="4341"/>
                </a:lnTo>
                <a:lnTo>
                  <a:pt x="4720" y="4304"/>
                </a:lnTo>
                <a:lnTo>
                  <a:pt x="4553" y="4369"/>
                </a:lnTo>
                <a:lnTo>
                  <a:pt x="4556" y="4293"/>
                </a:lnTo>
                <a:lnTo>
                  <a:pt x="4612" y="4195"/>
                </a:lnTo>
                <a:lnTo>
                  <a:pt x="4549" y="4072"/>
                </a:lnTo>
                <a:lnTo>
                  <a:pt x="4451" y="4001"/>
                </a:lnTo>
                <a:lnTo>
                  <a:pt x="4334" y="3990"/>
                </a:lnTo>
                <a:lnTo>
                  <a:pt x="4222" y="3867"/>
                </a:lnTo>
                <a:lnTo>
                  <a:pt x="4177" y="3819"/>
                </a:lnTo>
                <a:lnTo>
                  <a:pt x="4106" y="3768"/>
                </a:lnTo>
                <a:lnTo>
                  <a:pt x="3905" y="3760"/>
                </a:lnTo>
                <a:lnTo>
                  <a:pt x="3826" y="3677"/>
                </a:lnTo>
                <a:lnTo>
                  <a:pt x="3774" y="3744"/>
                </a:lnTo>
                <a:lnTo>
                  <a:pt x="3767" y="3672"/>
                </a:lnTo>
                <a:lnTo>
                  <a:pt x="3631" y="3737"/>
                </a:lnTo>
                <a:lnTo>
                  <a:pt x="3560" y="3882"/>
                </a:lnTo>
                <a:lnTo>
                  <a:pt x="3536" y="3850"/>
                </a:lnTo>
                <a:lnTo>
                  <a:pt x="3466" y="3803"/>
                </a:lnTo>
                <a:lnTo>
                  <a:pt x="3387" y="3840"/>
                </a:lnTo>
                <a:lnTo>
                  <a:pt x="3338" y="3801"/>
                </a:lnTo>
                <a:lnTo>
                  <a:pt x="3292" y="3739"/>
                </a:lnTo>
                <a:lnTo>
                  <a:pt x="3310" y="3536"/>
                </a:lnTo>
                <a:lnTo>
                  <a:pt x="3236" y="3491"/>
                </a:lnTo>
                <a:lnTo>
                  <a:pt x="3088" y="3491"/>
                </a:lnTo>
                <a:lnTo>
                  <a:pt x="3129" y="3386"/>
                </a:lnTo>
                <a:lnTo>
                  <a:pt x="3169" y="3230"/>
                </a:lnTo>
                <a:lnTo>
                  <a:pt x="3124" y="3203"/>
                </a:lnTo>
                <a:lnTo>
                  <a:pt x="3031" y="3235"/>
                </a:lnTo>
                <a:lnTo>
                  <a:pt x="2982" y="3364"/>
                </a:lnTo>
                <a:lnTo>
                  <a:pt x="2824" y="3349"/>
                </a:lnTo>
                <a:lnTo>
                  <a:pt x="2748" y="3182"/>
                </a:lnTo>
                <a:lnTo>
                  <a:pt x="2774" y="2994"/>
                </a:lnTo>
                <a:lnTo>
                  <a:pt x="2761" y="2891"/>
                </a:lnTo>
                <a:lnTo>
                  <a:pt x="2853" y="2792"/>
                </a:lnTo>
                <a:lnTo>
                  <a:pt x="2971" y="2784"/>
                </a:lnTo>
                <a:lnTo>
                  <a:pt x="3069" y="2831"/>
                </a:lnTo>
                <a:lnTo>
                  <a:pt x="3070" y="2772"/>
                </a:lnTo>
                <a:lnTo>
                  <a:pt x="3125" y="2729"/>
                </a:lnTo>
                <a:lnTo>
                  <a:pt x="3290" y="2777"/>
                </a:lnTo>
                <a:lnTo>
                  <a:pt x="3329" y="2823"/>
                </a:lnTo>
                <a:lnTo>
                  <a:pt x="3333" y="2912"/>
                </a:lnTo>
                <a:lnTo>
                  <a:pt x="3389" y="3030"/>
                </a:lnTo>
                <a:lnTo>
                  <a:pt x="3417" y="3026"/>
                </a:lnTo>
                <a:lnTo>
                  <a:pt x="3429" y="2939"/>
                </a:lnTo>
                <a:lnTo>
                  <a:pt x="3379" y="2729"/>
                </a:lnTo>
                <a:lnTo>
                  <a:pt x="3409" y="2643"/>
                </a:lnTo>
                <a:lnTo>
                  <a:pt x="3603" y="2475"/>
                </a:lnTo>
                <a:lnTo>
                  <a:pt x="3580" y="2347"/>
                </a:lnTo>
                <a:lnTo>
                  <a:pt x="3603" y="2389"/>
                </a:lnTo>
                <a:lnTo>
                  <a:pt x="3640" y="2289"/>
                </a:lnTo>
                <a:lnTo>
                  <a:pt x="3679" y="2179"/>
                </a:lnTo>
                <a:lnTo>
                  <a:pt x="3829" y="2132"/>
                </a:lnTo>
                <a:lnTo>
                  <a:pt x="3789" y="2102"/>
                </a:lnTo>
                <a:lnTo>
                  <a:pt x="3820" y="2017"/>
                </a:lnTo>
                <a:lnTo>
                  <a:pt x="3943" y="1958"/>
                </a:lnTo>
                <a:lnTo>
                  <a:pt x="3945" y="1927"/>
                </a:lnTo>
                <a:lnTo>
                  <a:pt x="4039" y="1879"/>
                </a:lnTo>
                <a:lnTo>
                  <a:pt x="4032" y="1920"/>
                </a:lnTo>
                <a:lnTo>
                  <a:pt x="4089" y="1915"/>
                </a:lnTo>
                <a:lnTo>
                  <a:pt x="3982" y="1966"/>
                </a:lnTo>
                <a:lnTo>
                  <a:pt x="4010" y="2028"/>
                </a:lnTo>
                <a:lnTo>
                  <a:pt x="4058" y="1963"/>
                </a:lnTo>
                <a:lnTo>
                  <a:pt x="4176" y="1920"/>
                </a:lnTo>
                <a:lnTo>
                  <a:pt x="4222" y="1868"/>
                </a:lnTo>
                <a:lnTo>
                  <a:pt x="4194" y="1815"/>
                </a:lnTo>
                <a:lnTo>
                  <a:pt x="4165" y="1903"/>
                </a:lnTo>
                <a:lnTo>
                  <a:pt x="4067" y="1879"/>
                </a:lnTo>
                <a:lnTo>
                  <a:pt x="4014" y="1813"/>
                </a:lnTo>
                <a:lnTo>
                  <a:pt x="4032" y="1766"/>
                </a:lnTo>
                <a:lnTo>
                  <a:pt x="3963" y="1754"/>
                </a:lnTo>
                <a:lnTo>
                  <a:pt x="4055" y="1720"/>
                </a:lnTo>
                <a:lnTo>
                  <a:pt x="4002" y="1683"/>
                </a:lnTo>
                <a:lnTo>
                  <a:pt x="3873" y="1706"/>
                </a:lnTo>
                <a:lnTo>
                  <a:pt x="3972" y="1618"/>
                </a:lnTo>
                <a:lnTo>
                  <a:pt x="4214" y="1618"/>
                </a:lnTo>
                <a:lnTo>
                  <a:pt x="4388" y="1495"/>
                </a:lnTo>
                <a:lnTo>
                  <a:pt x="4380" y="1400"/>
                </a:lnTo>
                <a:lnTo>
                  <a:pt x="4328" y="1410"/>
                </a:lnTo>
                <a:lnTo>
                  <a:pt x="4328" y="1361"/>
                </a:lnTo>
                <a:lnTo>
                  <a:pt x="4205" y="1420"/>
                </a:lnTo>
                <a:lnTo>
                  <a:pt x="4176" y="1394"/>
                </a:lnTo>
                <a:lnTo>
                  <a:pt x="4320" y="1330"/>
                </a:lnTo>
                <a:lnTo>
                  <a:pt x="4205" y="1254"/>
                </a:lnTo>
                <a:lnTo>
                  <a:pt x="4149" y="1199"/>
                </a:lnTo>
                <a:lnTo>
                  <a:pt x="4148" y="1125"/>
                </a:lnTo>
                <a:lnTo>
                  <a:pt x="4095" y="1096"/>
                </a:lnTo>
                <a:lnTo>
                  <a:pt x="4107" y="1054"/>
                </a:lnTo>
                <a:lnTo>
                  <a:pt x="4086" y="1011"/>
                </a:lnTo>
                <a:lnTo>
                  <a:pt x="4039" y="936"/>
                </a:lnTo>
                <a:lnTo>
                  <a:pt x="4000" y="978"/>
                </a:lnTo>
                <a:lnTo>
                  <a:pt x="3970" y="1042"/>
                </a:lnTo>
                <a:lnTo>
                  <a:pt x="3893" y="1090"/>
                </a:lnTo>
                <a:lnTo>
                  <a:pt x="3888" y="1042"/>
                </a:lnTo>
                <a:lnTo>
                  <a:pt x="3796" y="1073"/>
                </a:lnTo>
                <a:lnTo>
                  <a:pt x="3861" y="1010"/>
                </a:lnTo>
                <a:lnTo>
                  <a:pt x="3846" y="958"/>
                </a:lnTo>
                <a:lnTo>
                  <a:pt x="3840" y="881"/>
                </a:lnTo>
                <a:lnTo>
                  <a:pt x="3767" y="875"/>
                </a:lnTo>
                <a:lnTo>
                  <a:pt x="3767" y="844"/>
                </a:lnTo>
                <a:lnTo>
                  <a:pt x="3679" y="778"/>
                </a:lnTo>
                <a:lnTo>
                  <a:pt x="3631" y="800"/>
                </a:lnTo>
                <a:lnTo>
                  <a:pt x="3523" y="777"/>
                </a:lnTo>
                <a:lnTo>
                  <a:pt x="3507" y="815"/>
                </a:lnTo>
                <a:lnTo>
                  <a:pt x="3535" y="844"/>
                </a:lnTo>
                <a:lnTo>
                  <a:pt x="3508" y="904"/>
                </a:lnTo>
                <a:lnTo>
                  <a:pt x="3552" y="989"/>
                </a:lnTo>
                <a:lnTo>
                  <a:pt x="3482" y="1046"/>
                </a:lnTo>
                <a:lnTo>
                  <a:pt x="3535" y="1084"/>
                </a:lnTo>
                <a:lnTo>
                  <a:pt x="3560" y="1220"/>
                </a:lnTo>
                <a:lnTo>
                  <a:pt x="3448" y="1335"/>
                </a:lnTo>
                <a:lnTo>
                  <a:pt x="3486" y="1473"/>
                </a:lnTo>
                <a:lnTo>
                  <a:pt x="3516" y="1489"/>
                </a:lnTo>
                <a:lnTo>
                  <a:pt x="3446" y="1564"/>
                </a:lnTo>
                <a:lnTo>
                  <a:pt x="3391" y="1567"/>
                </a:lnTo>
                <a:lnTo>
                  <a:pt x="3410" y="1523"/>
                </a:lnTo>
                <a:lnTo>
                  <a:pt x="3347" y="1442"/>
                </a:lnTo>
                <a:lnTo>
                  <a:pt x="3347" y="1301"/>
                </a:lnTo>
                <a:lnTo>
                  <a:pt x="3224" y="1283"/>
                </a:lnTo>
                <a:lnTo>
                  <a:pt x="3078" y="1181"/>
                </a:lnTo>
                <a:lnTo>
                  <a:pt x="3002" y="1155"/>
                </a:lnTo>
                <a:lnTo>
                  <a:pt x="2936" y="1177"/>
                </a:lnTo>
                <a:lnTo>
                  <a:pt x="2922" y="1047"/>
                </a:lnTo>
                <a:lnTo>
                  <a:pt x="2880" y="1069"/>
                </a:lnTo>
                <a:lnTo>
                  <a:pt x="2868" y="857"/>
                </a:lnTo>
                <a:lnTo>
                  <a:pt x="2944" y="809"/>
                </a:lnTo>
                <a:lnTo>
                  <a:pt x="2951" y="756"/>
                </a:lnTo>
                <a:lnTo>
                  <a:pt x="3022" y="737"/>
                </a:lnTo>
                <a:lnTo>
                  <a:pt x="2911" y="654"/>
                </a:lnTo>
                <a:lnTo>
                  <a:pt x="3021" y="699"/>
                </a:lnTo>
                <a:lnTo>
                  <a:pt x="3051" y="653"/>
                </a:lnTo>
                <a:lnTo>
                  <a:pt x="3113" y="654"/>
                </a:lnTo>
                <a:lnTo>
                  <a:pt x="3168" y="568"/>
                </a:lnTo>
                <a:lnTo>
                  <a:pt x="3085" y="556"/>
                </a:lnTo>
                <a:lnTo>
                  <a:pt x="3043" y="515"/>
                </a:lnTo>
                <a:lnTo>
                  <a:pt x="3173" y="541"/>
                </a:lnTo>
                <a:lnTo>
                  <a:pt x="3181" y="461"/>
                </a:lnTo>
                <a:lnTo>
                  <a:pt x="3310" y="474"/>
                </a:lnTo>
                <a:lnTo>
                  <a:pt x="3382" y="417"/>
                </a:lnTo>
                <a:lnTo>
                  <a:pt x="3338" y="304"/>
                </a:lnTo>
                <a:lnTo>
                  <a:pt x="3387" y="290"/>
                </a:lnTo>
                <a:lnTo>
                  <a:pt x="3221" y="191"/>
                </a:lnTo>
                <a:lnTo>
                  <a:pt x="3254" y="278"/>
                </a:lnTo>
                <a:lnTo>
                  <a:pt x="3212" y="290"/>
                </a:lnTo>
                <a:lnTo>
                  <a:pt x="3149" y="401"/>
                </a:lnTo>
                <a:lnTo>
                  <a:pt x="3129" y="316"/>
                </a:lnTo>
                <a:lnTo>
                  <a:pt x="3068" y="235"/>
                </a:lnTo>
                <a:lnTo>
                  <a:pt x="3033" y="316"/>
                </a:lnTo>
                <a:lnTo>
                  <a:pt x="2991" y="229"/>
                </a:lnTo>
                <a:lnTo>
                  <a:pt x="2940" y="201"/>
                </a:lnTo>
                <a:lnTo>
                  <a:pt x="2951" y="162"/>
                </a:lnTo>
                <a:lnTo>
                  <a:pt x="2989" y="162"/>
                </a:lnTo>
                <a:lnTo>
                  <a:pt x="2927" y="62"/>
                </a:lnTo>
                <a:lnTo>
                  <a:pt x="2844" y="0"/>
                </a:lnTo>
                <a:lnTo>
                  <a:pt x="2799" y="62"/>
                </a:lnTo>
                <a:lnTo>
                  <a:pt x="2789" y="165"/>
                </a:lnTo>
                <a:lnTo>
                  <a:pt x="2902" y="216"/>
                </a:lnTo>
                <a:lnTo>
                  <a:pt x="2911" y="295"/>
                </a:lnTo>
                <a:lnTo>
                  <a:pt x="2825" y="331"/>
                </a:lnTo>
                <a:lnTo>
                  <a:pt x="2837" y="401"/>
                </a:lnTo>
                <a:lnTo>
                  <a:pt x="2797" y="381"/>
                </a:lnTo>
                <a:lnTo>
                  <a:pt x="2785" y="338"/>
                </a:lnTo>
                <a:lnTo>
                  <a:pt x="2721" y="359"/>
                </a:lnTo>
                <a:lnTo>
                  <a:pt x="2564" y="369"/>
                </a:lnTo>
                <a:lnTo>
                  <a:pt x="2524" y="327"/>
                </a:lnTo>
                <a:lnTo>
                  <a:pt x="2412" y="262"/>
                </a:lnTo>
                <a:lnTo>
                  <a:pt x="2313" y="311"/>
                </a:lnTo>
                <a:lnTo>
                  <a:pt x="2344" y="327"/>
                </a:lnTo>
                <a:lnTo>
                  <a:pt x="2427" y="284"/>
                </a:lnTo>
                <a:lnTo>
                  <a:pt x="2372" y="412"/>
                </a:lnTo>
                <a:lnTo>
                  <a:pt x="2261" y="338"/>
                </a:lnTo>
                <a:lnTo>
                  <a:pt x="2048" y="342"/>
                </a:lnTo>
                <a:lnTo>
                  <a:pt x="2108" y="303"/>
                </a:lnTo>
                <a:lnTo>
                  <a:pt x="1969" y="266"/>
                </a:lnTo>
                <a:lnTo>
                  <a:pt x="1769" y="185"/>
                </a:lnTo>
                <a:lnTo>
                  <a:pt x="1699" y="229"/>
                </a:lnTo>
                <a:lnTo>
                  <a:pt x="1701" y="162"/>
                </a:lnTo>
                <a:lnTo>
                  <a:pt x="1650" y="229"/>
                </a:lnTo>
                <a:lnTo>
                  <a:pt x="1573" y="153"/>
                </a:lnTo>
                <a:lnTo>
                  <a:pt x="1446" y="243"/>
                </a:lnTo>
                <a:lnTo>
                  <a:pt x="1440" y="219"/>
                </a:lnTo>
                <a:lnTo>
                  <a:pt x="1304" y="254"/>
                </a:lnTo>
                <a:lnTo>
                  <a:pt x="1321" y="298"/>
                </a:lnTo>
                <a:lnTo>
                  <a:pt x="1056" y="197"/>
                </a:lnTo>
                <a:lnTo>
                  <a:pt x="640" y="136"/>
                </a:lnTo>
                <a:lnTo>
                  <a:pt x="621" y="100"/>
                </a:lnTo>
                <a:lnTo>
                  <a:pt x="489" y="69"/>
                </a:lnTo>
                <a:lnTo>
                  <a:pt x="443" y="57"/>
                </a:lnTo>
                <a:lnTo>
                  <a:pt x="398" y="100"/>
                </a:lnTo>
                <a:lnTo>
                  <a:pt x="307" y="125"/>
                </a:lnTo>
                <a:lnTo>
                  <a:pt x="222" y="168"/>
                </a:lnTo>
                <a:lnTo>
                  <a:pt x="176" y="250"/>
                </a:lnTo>
                <a:lnTo>
                  <a:pt x="70" y="266"/>
                </a:lnTo>
                <a:lnTo>
                  <a:pt x="48" y="311"/>
                </a:lnTo>
                <a:lnTo>
                  <a:pt x="174" y="417"/>
                </a:lnTo>
                <a:lnTo>
                  <a:pt x="235" y="454"/>
                </a:lnTo>
                <a:lnTo>
                  <a:pt x="280" y="481"/>
                </a:lnTo>
                <a:lnTo>
                  <a:pt x="174" y="499"/>
                </a:lnTo>
                <a:lnTo>
                  <a:pt x="174" y="458"/>
                </a:lnTo>
                <a:lnTo>
                  <a:pt x="135" y="458"/>
                </a:lnTo>
                <a:lnTo>
                  <a:pt x="0" y="54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49480" y="4692600"/>
            <a:ext cx="258840" cy="103320"/>
          </a:xfrm>
          <a:custGeom>
            <a:avLst/>
            <a:gdLst/>
            <a:ahLst/>
            <a:rect l="l" t="t" r="r" b="b"/>
            <a:pathLst>
              <a:path w="412" h="164">
                <a:moveTo>
                  <a:pt x="0" y="69"/>
                </a:moveTo>
                <a:lnTo>
                  <a:pt x="53" y="11"/>
                </a:lnTo>
                <a:lnTo>
                  <a:pt x="159" y="0"/>
                </a:lnTo>
                <a:lnTo>
                  <a:pt x="412" y="145"/>
                </a:lnTo>
                <a:lnTo>
                  <a:pt x="277" y="164"/>
                </a:lnTo>
                <a:lnTo>
                  <a:pt x="236" y="77"/>
                </a:lnTo>
                <a:lnTo>
                  <a:pt x="109" y="49"/>
                </a:lnTo>
                <a:lnTo>
                  <a:pt x="0" y="6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5080" y="4799160"/>
            <a:ext cx="142920" cy="54000"/>
          </a:xfrm>
          <a:custGeom>
            <a:avLst/>
            <a:gdLst/>
            <a:ahLst/>
            <a:rect l="l" t="t" r="r" b="b"/>
            <a:pathLst>
              <a:path w="232" h="86">
                <a:moveTo>
                  <a:pt x="0" y="64"/>
                </a:moveTo>
                <a:lnTo>
                  <a:pt x="74" y="58"/>
                </a:lnTo>
                <a:lnTo>
                  <a:pt x="35" y="0"/>
                </a:lnTo>
                <a:lnTo>
                  <a:pt x="167" y="8"/>
                </a:lnTo>
                <a:lnTo>
                  <a:pt x="232" y="54"/>
                </a:lnTo>
                <a:lnTo>
                  <a:pt x="100" y="86"/>
                </a:lnTo>
                <a:lnTo>
                  <a:pt x="0" y="64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7164360"/>
            <a:ext cx="152280" cy="88920"/>
          </a:xfrm>
          <a:custGeom>
            <a:avLst/>
            <a:gdLst/>
            <a:ahLst/>
            <a:rect l="l" t="t" r="r" b="b"/>
            <a:pathLst>
              <a:path w="242" h="144">
                <a:moveTo>
                  <a:pt x="0" y="119"/>
                </a:moveTo>
                <a:lnTo>
                  <a:pt x="16" y="93"/>
                </a:lnTo>
                <a:lnTo>
                  <a:pt x="37" y="40"/>
                </a:lnTo>
                <a:lnTo>
                  <a:pt x="104" y="0"/>
                </a:lnTo>
                <a:lnTo>
                  <a:pt x="134" y="67"/>
                </a:lnTo>
                <a:lnTo>
                  <a:pt x="242" y="135"/>
                </a:lnTo>
                <a:lnTo>
                  <a:pt x="107" y="144"/>
                </a:lnTo>
                <a:lnTo>
                  <a:pt x="0" y="11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70120" y="3689280"/>
            <a:ext cx="160560" cy="184320"/>
          </a:xfrm>
          <a:custGeom>
            <a:avLst/>
            <a:gdLst/>
            <a:ahLst/>
            <a:rect l="l" t="t" r="r" b="b"/>
            <a:pathLst>
              <a:path w="256" h="294">
                <a:moveTo>
                  <a:pt x="0" y="239"/>
                </a:moveTo>
                <a:lnTo>
                  <a:pt x="104" y="20"/>
                </a:lnTo>
                <a:lnTo>
                  <a:pt x="149" y="0"/>
                </a:lnTo>
                <a:lnTo>
                  <a:pt x="129" y="95"/>
                </a:lnTo>
                <a:lnTo>
                  <a:pt x="156" y="152"/>
                </a:lnTo>
                <a:lnTo>
                  <a:pt x="224" y="143"/>
                </a:lnTo>
                <a:lnTo>
                  <a:pt x="248" y="215"/>
                </a:lnTo>
                <a:lnTo>
                  <a:pt x="256" y="261"/>
                </a:lnTo>
                <a:lnTo>
                  <a:pt x="202" y="294"/>
                </a:lnTo>
                <a:lnTo>
                  <a:pt x="202" y="234"/>
                </a:lnTo>
                <a:lnTo>
                  <a:pt x="121" y="256"/>
                </a:lnTo>
                <a:lnTo>
                  <a:pt x="0" y="239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51000" y="3429000"/>
            <a:ext cx="63360" cy="46080"/>
          </a:xfrm>
          <a:custGeom>
            <a:avLst/>
            <a:gdLst/>
            <a:ahLst/>
            <a:rect l="l" t="t" r="r" b="b"/>
            <a:pathLst>
              <a:path w="104" h="71">
                <a:moveTo>
                  <a:pt x="0" y="34"/>
                </a:moveTo>
                <a:lnTo>
                  <a:pt x="30" y="71"/>
                </a:lnTo>
                <a:lnTo>
                  <a:pt x="104" y="15"/>
                </a:lnTo>
                <a:lnTo>
                  <a:pt x="37" y="0"/>
                </a:lnTo>
                <a:lnTo>
                  <a:pt x="38" y="28"/>
                </a:lnTo>
                <a:lnTo>
                  <a:pt x="0" y="34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3240" y="3024360"/>
            <a:ext cx="264960" cy="150480"/>
          </a:xfrm>
          <a:custGeom>
            <a:avLst/>
            <a:gdLst/>
            <a:ahLst/>
            <a:rect l="l" t="t" r="r" b="b"/>
            <a:pathLst>
              <a:path w="429" h="244">
                <a:moveTo>
                  <a:pt x="0" y="83"/>
                </a:moveTo>
                <a:lnTo>
                  <a:pt x="56" y="0"/>
                </a:lnTo>
                <a:lnTo>
                  <a:pt x="125" y="102"/>
                </a:lnTo>
                <a:lnTo>
                  <a:pt x="243" y="24"/>
                </a:lnTo>
                <a:lnTo>
                  <a:pt x="386" y="9"/>
                </a:lnTo>
                <a:lnTo>
                  <a:pt x="429" y="110"/>
                </a:lnTo>
                <a:lnTo>
                  <a:pt x="212" y="244"/>
                </a:lnTo>
                <a:lnTo>
                  <a:pt x="74" y="214"/>
                </a:lnTo>
                <a:lnTo>
                  <a:pt x="0" y="83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90800" y="3056040"/>
            <a:ext cx="150840" cy="129960"/>
          </a:xfrm>
          <a:custGeom>
            <a:avLst/>
            <a:gdLst/>
            <a:ahLst/>
            <a:rect l="l" t="t" r="r" b="b"/>
            <a:pathLst>
              <a:path w="244" h="210">
                <a:moveTo>
                  <a:pt x="0" y="175"/>
                </a:moveTo>
                <a:lnTo>
                  <a:pt x="40" y="132"/>
                </a:lnTo>
                <a:lnTo>
                  <a:pt x="66" y="0"/>
                </a:lnTo>
                <a:lnTo>
                  <a:pt x="244" y="183"/>
                </a:lnTo>
                <a:lnTo>
                  <a:pt x="77" y="210"/>
                </a:lnTo>
                <a:lnTo>
                  <a:pt x="0" y="17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0" y="2579760"/>
            <a:ext cx="257040" cy="196920"/>
          </a:xfrm>
          <a:custGeom>
            <a:avLst/>
            <a:gdLst/>
            <a:ahLst/>
            <a:rect l="l" t="t" r="r" b="b"/>
            <a:pathLst>
              <a:path w="414" h="313">
                <a:moveTo>
                  <a:pt x="0" y="238"/>
                </a:moveTo>
                <a:lnTo>
                  <a:pt x="82" y="72"/>
                </a:lnTo>
                <a:lnTo>
                  <a:pt x="51" y="18"/>
                </a:lnTo>
                <a:lnTo>
                  <a:pt x="173" y="0"/>
                </a:lnTo>
                <a:lnTo>
                  <a:pt x="260" y="50"/>
                </a:lnTo>
                <a:lnTo>
                  <a:pt x="320" y="32"/>
                </a:lnTo>
                <a:lnTo>
                  <a:pt x="414" y="90"/>
                </a:lnTo>
                <a:lnTo>
                  <a:pt x="225" y="217"/>
                </a:lnTo>
                <a:lnTo>
                  <a:pt x="203" y="280"/>
                </a:lnTo>
                <a:lnTo>
                  <a:pt x="115" y="313"/>
                </a:lnTo>
                <a:lnTo>
                  <a:pt x="0" y="23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19320" y="2657520"/>
            <a:ext cx="439560" cy="263520"/>
          </a:xfrm>
          <a:custGeom>
            <a:avLst/>
            <a:gdLst/>
            <a:ahLst/>
            <a:rect l="l" t="t" r="r" b="b"/>
            <a:pathLst>
              <a:path w="707" h="424">
                <a:moveTo>
                  <a:pt x="0" y="128"/>
                </a:moveTo>
                <a:lnTo>
                  <a:pt x="105" y="17"/>
                </a:lnTo>
                <a:lnTo>
                  <a:pt x="272" y="89"/>
                </a:lnTo>
                <a:lnTo>
                  <a:pt x="425" y="0"/>
                </a:lnTo>
                <a:lnTo>
                  <a:pt x="530" y="44"/>
                </a:lnTo>
                <a:lnTo>
                  <a:pt x="568" y="198"/>
                </a:lnTo>
                <a:lnTo>
                  <a:pt x="707" y="283"/>
                </a:lnTo>
                <a:lnTo>
                  <a:pt x="629" y="397"/>
                </a:lnTo>
                <a:lnTo>
                  <a:pt x="483" y="337"/>
                </a:lnTo>
                <a:lnTo>
                  <a:pt x="224" y="424"/>
                </a:lnTo>
                <a:lnTo>
                  <a:pt x="65" y="289"/>
                </a:lnTo>
                <a:lnTo>
                  <a:pt x="58" y="238"/>
                </a:lnTo>
                <a:lnTo>
                  <a:pt x="134" y="159"/>
                </a:lnTo>
                <a:lnTo>
                  <a:pt x="35" y="176"/>
                </a:lnTo>
                <a:lnTo>
                  <a:pt x="0" y="12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53040" y="5772240"/>
            <a:ext cx="169920" cy="420480"/>
          </a:xfrm>
          <a:custGeom>
            <a:avLst/>
            <a:gdLst/>
            <a:ahLst/>
            <a:rect l="l" t="t" r="r" b="b"/>
            <a:pathLst>
              <a:path w="277" h="673">
                <a:moveTo>
                  <a:pt x="0" y="483"/>
                </a:moveTo>
                <a:lnTo>
                  <a:pt x="26" y="618"/>
                </a:lnTo>
                <a:lnTo>
                  <a:pt x="79" y="673"/>
                </a:lnTo>
                <a:lnTo>
                  <a:pt x="161" y="618"/>
                </a:lnTo>
                <a:lnTo>
                  <a:pt x="277" y="173"/>
                </a:lnTo>
                <a:lnTo>
                  <a:pt x="229" y="0"/>
                </a:lnTo>
                <a:lnTo>
                  <a:pt x="27" y="265"/>
                </a:lnTo>
                <a:lnTo>
                  <a:pt x="50" y="381"/>
                </a:lnTo>
                <a:lnTo>
                  <a:pt x="0" y="483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67720" y="5726160"/>
            <a:ext cx="963360" cy="914400"/>
          </a:xfrm>
          <a:custGeom>
            <a:avLst/>
            <a:gdLst/>
            <a:ahLst/>
            <a:rect l="l" t="t" r="r" b="b"/>
            <a:pathLst>
              <a:path w="1548" h="1460">
                <a:moveTo>
                  <a:pt x="0" y="795"/>
                </a:moveTo>
                <a:lnTo>
                  <a:pt x="5" y="592"/>
                </a:lnTo>
                <a:lnTo>
                  <a:pt x="111" y="490"/>
                </a:lnTo>
                <a:lnTo>
                  <a:pt x="275" y="447"/>
                </a:lnTo>
                <a:lnTo>
                  <a:pt x="326" y="316"/>
                </a:lnTo>
                <a:lnTo>
                  <a:pt x="475" y="165"/>
                </a:lnTo>
                <a:lnTo>
                  <a:pt x="568" y="205"/>
                </a:lnTo>
                <a:lnTo>
                  <a:pt x="637" y="107"/>
                </a:lnTo>
                <a:lnTo>
                  <a:pt x="702" y="26"/>
                </a:lnTo>
                <a:lnTo>
                  <a:pt x="880" y="85"/>
                </a:lnTo>
                <a:lnTo>
                  <a:pt x="848" y="218"/>
                </a:lnTo>
                <a:lnTo>
                  <a:pt x="1022" y="354"/>
                </a:lnTo>
                <a:lnTo>
                  <a:pt x="1070" y="296"/>
                </a:lnTo>
                <a:lnTo>
                  <a:pt x="1089" y="68"/>
                </a:lnTo>
                <a:lnTo>
                  <a:pt x="1129" y="0"/>
                </a:lnTo>
                <a:lnTo>
                  <a:pt x="1228" y="218"/>
                </a:lnTo>
                <a:lnTo>
                  <a:pt x="1272" y="418"/>
                </a:lnTo>
                <a:lnTo>
                  <a:pt x="1369" y="482"/>
                </a:lnTo>
                <a:lnTo>
                  <a:pt x="1442" y="646"/>
                </a:lnTo>
                <a:lnTo>
                  <a:pt x="1520" y="727"/>
                </a:lnTo>
                <a:lnTo>
                  <a:pt x="1548" y="888"/>
                </a:lnTo>
                <a:lnTo>
                  <a:pt x="1529" y="1038"/>
                </a:lnTo>
                <a:lnTo>
                  <a:pt x="1462" y="1166"/>
                </a:lnTo>
                <a:lnTo>
                  <a:pt x="1411" y="1390"/>
                </a:lnTo>
                <a:lnTo>
                  <a:pt x="1267" y="1454"/>
                </a:lnTo>
                <a:lnTo>
                  <a:pt x="1211" y="1403"/>
                </a:lnTo>
                <a:lnTo>
                  <a:pt x="1151" y="1460"/>
                </a:lnTo>
                <a:lnTo>
                  <a:pt x="1015" y="1382"/>
                </a:lnTo>
                <a:lnTo>
                  <a:pt x="994" y="1265"/>
                </a:lnTo>
                <a:lnTo>
                  <a:pt x="934" y="1113"/>
                </a:lnTo>
                <a:lnTo>
                  <a:pt x="864" y="1249"/>
                </a:lnTo>
                <a:lnTo>
                  <a:pt x="793" y="1113"/>
                </a:lnTo>
                <a:lnTo>
                  <a:pt x="679" y="1062"/>
                </a:lnTo>
                <a:lnTo>
                  <a:pt x="471" y="1098"/>
                </a:lnTo>
                <a:lnTo>
                  <a:pt x="382" y="1177"/>
                </a:lnTo>
                <a:lnTo>
                  <a:pt x="238" y="1184"/>
                </a:lnTo>
                <a:lnTo>
                  <a:pt x="158" y="1249"/>
                </a:lnTo>
                <a:lnTo>
                  <a:pt x="48" y="1201"/>
                </a:lnTo>
                <a:lnTo>
                  <a:pt x="73" y="1066"/>
                </a:lnTo>
                <a:lnTo>
                  <a:pt x="0" y="79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21560" y="6707160"/>
            <a:ext cx="82800" cy="103320"/>
          </a:xfrm>
          <a:custGeom>
            <a:avLst/>
            <a:gdLst/>
            <a:ahLst/>
            <a:rect l="l" t="t" r="r" b="b"/>
            <a:pathLst>
              <a:path w="138" h="167">
                <a:moveTo>
                  <a:pt x="0" y="32"/>
                </a:moveTo>
                <a:lnTo>
                  <a:pt x="1" y="0"/>
                </a:lnTo>
                <a:lnTo>
                  <a:pt x="123" y="8"/>
                </a:lnTo>
                <a:lnTo>
                  <a:pt x="138" y="95"/>
                </a:lnTo>
                <a:lnTo>
                  <a:pt x="80" y="167"/>
                </a:lnTo>
                <a:lnTo>
                  <a:pt x="0" y="32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045720" y="6707160"/>
            <a:ext cx="185760" cy="219240"/>
          </a:xfrm>
          <a:custGeom>
            <a:avLst/>
            <a:gdLst/>
            <a:ahLst/>
            <a:rect l="l" t="t" r="r" b="b"/>
            <a:pathLst>
              <a:path w="298" h="356">
                <a:moveTo>
                  <a:pt x="0" y="310"/>
                </a:moveTo>
                <a:lnTo>
                  <a:pt x="67" y="203"/>
                </a:lnTo>
                <a:lnTo>
                  <a:pt x="175" y="121"/>
                </a:lnTo>
                <a:lnTo>
                  <a:pt x="230" y="0"/>
                </a:lnTo>
                <a:lnTo>
                  <a:pt x="298" y="64"/>
                </a:lnTo>
                <a:lnTo>
                  <a:pt x="257" y="187"/>
                </a:lnTo>
                <a:lnTo>
                  <a:pt x="193" y="196"/>
                </a:lnTo>
                <a:lnTo>
                  <a:pt x="96" y="356"/>
                </a:lnTo>
                <a:lnTo>
                  <a:pt x="0" y="31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96560" y="6488280"/>
            <a:ext cx="136440" cy="242640"/>
          </a:xfrm>
          <a:custGeom>
            <a:avLst/>
            <a:gdLst/>
            <a:ahLst/>
            <a:rect l="l" t="t" r="r" b="b"/>
            <a:pathLst>
              <a:path w="221" h="388">
                <a:moveTo>
                  <a:pt x="0" y="0"/>
                </a:moveTo>
                <a:lnTo>
                  <a:pt x="126" y="139"/>
                </a:lnTo>
                <a:lnTo>
                  <a:pt x="221" y="177"/>
                </a:lnTo>
                <a:lnTo>
                  <a:pt x="206" y="265"/>
                </a:lnTo>
                <a:lnTo>
                  <a:pt x="124" y="388"/>
                </a:lnTo>
                <a:lnTo>
                  <a:pt x="39" y="274"/>
                </a:lnTo>
                <a:lnTo>
                  <a:pt x="87" y="199"/>
                </a:lnTo>
                <a:lnTo>
                  <a:pt x="80" y="142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08360" y="4211640"/>
            <a:ext cx="1668600" cy="2257560"/>
          </a:xfrm>
          <a:custGeom>
            <a:avLst/>
            <a:gdLst/>
            <a:ahLst/>
            <a:rect l="l" t="t" r="r" b="b"/>
            <a:pathLst>
              <a:path w="2686" h="3606">
                <a:moveTo>
                  <a:pt x="82" y="1310"/>
                </a:moveTo>
                <a:lnTo>
                  <a:pt x="98" y="1343"/>
                </a:lnTo>
                <a:lnTo>
                  <a:pt x="168" y="1434"/>
                </a:lnTo>
                <a:lnTo>
                  <a:pt x="238" y="1533"/>
                </a:lnTo>
                <a:lnTo>
                  <a:pt x="391" y="1665"/>
                </a:lnTo>
                <a:lnTo>
                  <a:pt x="607" y="1651"/>
                </a:lnTo>
                <a:lnTo>
                  <a:pt x="871" y="1582"/>
                </a:lnTo>
                <a:lnTo>
                  <a:pt x="927" y="1670"/>
                </a:lnTo>
                <a:lnTo>
                  <a:pt x="1012" y="1650"/>
                </a:lnTo>
                <a:lnTo>
                  <a:pt x="1026" y="1910"/>
                </a:lnTo>
                <a:lnTo>
                  <a:pt x="1148" y="2121"/>
                </a:lnTo>
                <a:lnTo>
                  <a:pt x="1220" y="2404"/>
                </a:lnTo>
                <a:lnTo>
                  <a:pt x="1137" y="2718"/>
                </a:lnTo>
                <a:lnTo>
                  <a:pt x="1246" y="2986"/>
                </a:lnTo>
                <a:lnTo>
                  <a:pt x="1274" y="3234"/>
                </a:lnTo>
                <a:lnTo>
                  <a:pt x="1401" y="3606"/>
                </a:lnTo>
                <a:lnTo>
                  <a:pt x="1744" y="3554"/>
                </a:lnTo>
                <a:lnTo>
                  <a:pt x="1947" y="3287"/>
                </a:lnTo>
                <a:lnTo>
                  <a:pt x="1964" y="3137"/>
                </a:lnTo>
                <a:lnTo>
                  <a:pt x="2065" y="3066"/>
                </a:lnTo>
                <a:lnTo>
                  <a:pt x="2035" y="2847"/>
                </a:lnTo>
                <a:lnTo>
                  <a:pt x="2260" y="2630"/>
                </a:lnTo>
                <a:lnTo>
                  <a:pt x="2264" y="2378"/>
                </a:lnTo>
                <a:lnTo>
                  <a:pt x="2201" y="2177"/>
                </a:lnTo>
                <a:lnTo>
                  <a:pt x="2307" y="1951"/>
                </a:lnTo>
                <a:lnTo>
                  <a:pt x="2544" y="1678"/>
                </a:lnTo>
                <a:lnTo>
                  <a:pt x="2686" y="1379"/>
                </a:lnTo>
                <a:lnTo>
                  <a:pt x="2667" y="1296"/>
                </a:lnTo>
                <a:lnTo>
                  <a:pt x="2439" y="1371"/>
                </a:lnTo>
                <a:lnTo>
                  <a:pt x="2365" y="1256"/>
                </a:lnTo>
                <a:lnTo>
                  <a:pt x="2231" y="1140"/>
                </a:lnTo>
                <a:lnTo>
                  <a:pt x="2185" y="992"/>
                </a:lnTo>
                <a:lnTo>
                  <a:pt x="2078" y="697"/>
                </a:lnTo>
                <a:lnTo>
                  <a:pt x="1944" y="403"/>
                </a:lnTo>
                <a:lnTo>
                  <a:pt x="1880" y="299"/>
                </a:lnTo>
                <a:lnTo>
                  <a:pt x="1813" y="340"/>
                </a:lnTo>
                <a:lnTo>
                  <a:pt x="1658" y="296"/>
                </a:lnTo>
                <a:lnTo>
                  <a:pt x="1457" y="275"/>
                </a:lnTo>
                <a:lnTo>
                  <a:pt x="1417" y="369"/>
                </a:lnTo>
                <a:lnTo>
                  <a:pt x="1270" y="260"/>
                </a:lnTo>
                <a:lnTo>
                  <a:pt x="1069" y="169"/>
                </a:lnTo>
                <a:lnTo>
                  <a:pt x="1116" y="0"/>
                </a:lnTo>
                <a:lnTo>
                  <a:pt x="1025" y="8"/>
                </a:lnTo>
                <a:lnTo>
                  <a:pt x="744" y="27"/>
                </a:lnTo>
                <a:lnTo>
                  <a:pt x="599" y="105"/>
                </a:lnTo>
                <a:lnTo>
                  <a:pt x="459" y="75"/>
                </a:lnTo>
                <a:lnTo>
                  <a:pt x="332" y="251"/>
                </a:lnTo>
                <a:lnTo>
                  <a:pt x="288" y="422"/>
                </a:lnTo>
                <a:lnTo>
                  <a:pt x="181" y="497"/>
                </a:lnTo>
                <a:lnTo>
                  <a:pt x="25" y="841"/>
                </a:lnTo>
                <a:lnTo>
                  <a:pt x="61" y="966"/>
                </a:lnTo>
                <a:lnTo>
                  <a:pt x="0" y="1154"/>
                </a:lnTo>
                <a:lnTo>
                  <a:pt x="82" y="131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82080" y="5415120"/>
            <a:ext cx="487080" cy="298440"/>
          </a:xfrm>
          <a:custGeom>
            <a:avLst/>
            <a:gdLst/>
            <a:ahLst/>
            <a:rect l="l" t="t" r="r" b="b"/>
            <a:pathLst>
              <a:path w="784" h="478">
                <a:moveTo>
                  <a:pt x="0" y="45"/>
                </a:moveTo>
                <a:lnTo>
                  <a:pt x="118" y="82"/>
                </a:lnTo>
                <a:lnTo>
                  <a:pt x="76" y="176"/>
                </a:lnTo>
                <a:lnTo>
                  <a:pt x="281" y="244"/>
                </a:lnTo>
                <a:lnTo>
                  <a:pt x="272" y="394"/>
                </a:lnTo>
                <a:lnTo>
                  <a:pt x="467" y="430"/>
                </a:lnTo>
                <a:lnTo>
                  <a:pt x="530" y="349"/>
                </a:lnTo>
                <a:lnTo>
                  <a:pt x="784" y="478"/>
                </a:lnTo>
                <a:lnTo>
                  <a:pt x="656" y="275"/>
                </a:lnTo>
                <a:lnTo>
                  <a:pt x="273" y="45"/>
                </a:lnTo>
                <a:lnTo>
                  <a:pt x="58" y="0"/>
                </a:lnTo>
                <a:lnTo>
                  <a:pt x="0" y="4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66080" y="5110200"/>
            <a:ext cx="100080" cy="122040"/>
          </a:xfrm>
          <a:custGeom>
            <a:avLst/>
            <a:gdLst/>
            <a:ahLst/>
            <a:rect l="l" t="t" r="r" b="b"/>
            <a:pathLst>
              <a:path w="162" h="199">
                <a:moveTo>
                  <a:pt x="0" y="133"/>
                </a:moveTo>
                <a:lnTo>
                  <a:pt x="37" y="69"/>
                </a:lnTo>
                <a:lnTo>
                  <a:pt x="142" y="0"/>
                </a:lnTo>
                <a:lnTo>
                  <a:pt x="162" y="122"/>
                </a:lnTo>
                <a:lnTo>
                  <a:pt x="136" y="199"/>
                </a:lnTo>
                <a:lnTo>
                  <a:pt x="67" y="96"/>
                </a:lnTo>
                <a:lnTo>
                  <a:pt x="0" y="133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913520" y="4834080"/>
            <a:ext cx="101880" cy="191880"/>
          </a:xfrm>
          <a:custGeom>
            <a:avLst/>
            <a:gdLst/>
            <a:ahLst/>
            <a:rect l="l" t="t" r="r" b="b"/>
            <a:pathLst>
              <a:path w="160" h="308">
                <a:moveTo>
                  <a:pt x="0" y="121"/>
                </a:moveTo>
                <a:lnTo>
                  <a:pt x="29" y="0"/>
                </a:lnTo>
                <a:lnTo>
                  <a:pt x="86" y="2"/>
                </a:lnTo>
                <a:lnTo>
                  <a:pt x="99" y="83"/>
                </a:lnTo>
                <a:lnTo>
                  <a:pt x="56" y="168"/>
                </a:lnTo>
                <a:lnTo>
                  <a:pt x="160" y="308"/>
                </a:lnTo>
                <a:lnTo>
                  <a:pt x="29" y="239"/>
                </a:lnTo>
                <a:lnTo>
                  <a:pt x="0" y="12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89760" y="5353200"/>
            <a:ext cx="152640" cy="217440"/>
          </a:xfrm>
          <a:custGeom>
            <a:avLst/>
            <a:gdLst/>
            <a:ahLst/>
            <a:rect l="l" t="t" r="r" b="b"/>
            <a:pathLst>
              <a:path w="243" h="348">
                <a:moveTo>
                  <a:pt x="0" y="210"/>
                </a:moveTo>
                <a:lnTo>
                  <a:pt x="20" y="334"/>
                </a:lnTo>
                <a:lnTo>
                  <a:pt x="96" y="348"/>
                </a:lnTo>
                <a:lnTo>
                  <a:pt x="154" y="294"/>
                </a:lnTo>
                <a:lnTo>
                  <a:pt x="96" y="170"/>
                </a:lnTo>
                <a:lnTo>
                  <a:pt x="210" y="64"/>
                </a:lnTo>
                <a:lnTo>
                  <a:pt x="243" y="0"/>
                </a:lnTo>
                <a:lnTo>
                  <a:pt x="85" y="20"/>
                </a:lnTo>
                <a:lnTo>
                  <a:pt x="47" y="48"/>
                </a:lnTo>
                <a:lnTo>
                  <a:pt x="0" y="21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51800" y="5192640"/>
            <a:ext cx="247680" cy="336600"/>
          </a:xfrm>
          <a:custGeom>
            <a:avLst/>
            <a:gdLst/>
            <a:ahLst/>
            <a:rect l="l" t="t" r="r" b="b"/>
            <a:pathLst>
              <a:path w="400" h="536">
                <a:moveTo>
                  <a:pt x="0" y="317"/>
                </a:moveTo>
                <a:lnTo>
                  <a:pt x="30" y="260"/>
                </a:lnTo>
                <a:lnTo>
                  <a:pt x="319" y="0"/>
                </a:lnTo>
                <a:lnTo>
                  <a:pt x="400" y="86"/>
                </a:lnTo>
                <a:lnTo>
                  <a:pt x="320" y="169"/>
                </a:lnTo>
                <a:lnTo>
                  <a:pt x="352" y="288"/>
                </a:lnTo>
                <a:lnTo>
                  <a:pt x="230" y="536"/>
                </a:lnTo>
                <a:lnTo>
                  <a:pt x="54" y="482"/>
                </a:lnTo>
                <a:lnTo>
                  <a:pt x="0" y="317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64320" y="5584680"/>
            <a:ext cx="220680" cy="86040"/>
          </a:xfrm>
          <a:custGeom>
            <a:avLst/>
            <a:gdLst/>
            <a:ahLst/>
            <a:rect l="l" t="t" r="r" b="b"/>
            <a:pathLst>
              <a:path w="352" h="139">
                <a:moveTo>
                  <a:pt x="0" y="37"/>
                </a:moveTo>
                <a:lnTo>
                  <a:pt x="23" y="0"/>
                </a:lnTo>
                <a:lnTo>
                  <a:pt x="274" y="41"/>
                </a:lnTo>
                <a:lnTo>
                  <a:pt x="349" y="90"/>
                </a:lnTo>
                <a:lnTo>
                  <a:pt x="352" y="139"/>
                </a:lnTo>
                <a:lnTo>
                  <a:pt x="60" y="72"/>
                </a:lnTo>
                <a:lnTo>
                  <a:pt x="0" y="37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9880" y="5232240"/>
            <a:ext cx="262080" cy="349560"/>
          </a:xfrm>
          <a:custGeom>
            <a:avLst/>
            <a:gdLst/>
            <a:ahLst/>
            <a:rect l="l" t="t" r="r" b="b"/>
            <a:pathLst>
              <a:path w="424" h="554">
                <a:moveTo>
                  <a:pt x="0" y="0"/>
                </a:moveTo>
                <a:lnTo>
                  <a:pt x="91" y="25"/>
                </a:lnTo>
                <a:lnTo>
                  <a:pt x="308" y="225"/>
                </a:lnTo>
                <a:lnTo>
                  <a:pt x="327" y="312"/>
                </a:lnTo>
                <a:lnTo>
                  <a:pt x="424" y="421"/>
                </a:lnTo>
                <a:lnTo>
                  <a:pt x="368" y="554"/>
                </a:lnTo>
                <a:lnTo>
                  <a:pt x="281" y="470"/>
                </a:lnTo>
                <a:lnTo>
                  <a:pt x="139" y="194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99520" y="3930480"/>
            <a:ext cx="144360" cy="131760"/>
          </a:xfrm>
          <a:custGeom>
            <a:avLst/>
            <a:gdLst/>
            <a:ahLst/>
            <a:rect l="l" t="t" r="r" b="b"/>
            <a:pathLst>
              <a:path w="233" h="207">
                <a:moveTo>
                  <a:pt x="0" y="174"/>
                </a:moveTo>
                <a:lnTo>
                  <a:pt x="28" y="175"/>
                </a:lnTo>
                <a:lnTo>
                  <a:pt x="136" y="207"/>
                </a:lnTo>
                <a:lnTo>
                  <a:pt x="233" y="124"/>
                </a:lnTo>
                <a:lnTo>
                  <a:pt x="219" y="68"/>
                </a:lnTo>
                <a:lnTo>
                  <a:pt x="85" y="0"/>
                </a:lnTo>
                <a:lnTo>
                  <a:pt x="0" y="174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443800" y="3578400"/>
            <a:ext cx="77760" cy="330120"/>
          </a:xfrm>
          <a:custGeom>
            <a:avLst/>
            <a:gdLst/>
            <a:ahLst/>
            <a:rect l="l" t="t" r="r" b="b"/>
            <a:pathLst>
              <a:path w="119" h="530">
                <a:moveTo>
                  <a:pt x="0" y="134"/>
                </a:moveTo>
                <a:lnTo>
                  <a:pt x="20" y="530"/>
                </a:lnTo>
                <a:lnTo>
                  <a:pt x="119" y="365"/>
                </a:lnTo>
                <a:lnTo>
                  <a:pt x="38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185320" y="4078440"/>
            <a:ext cx="269640" cy="257040"/>
          </a:xfrm>
          <a:custGeom>
            <a:avLst/>
            <a:gdLst/>
            <a:ahLst/>
            <a:rect l="l" t="t" r="r" b="b"/>
            <a:pathLst>
              <a:path w="438" h="411">
                <a:moveTo>
                  <a:pt x="0" y="411"/>
                </a:moveTo>
                <a:lnTo>
                  <a:pt x="72" y="331"/>
                </a:lnTo>
                <a:lnTo>
                  <a:pt x="187" y="331"/>
                </a:lnTo>
                <a:lnTo>
                  <a:pt x="248" y="221"/>
                </a:lnTo>
                <a:lnTo>
                  <a:pt x="344" y="146"/>
                </a:lnTo>
                <a:lnTo>
                  <a:pt x="412" y="0"/>
                </a:lnTo>
                <a:lnTo>
                  <a:pt x="438" y="107"/>
                </a:lnTo>
                <a:lnTo>
                  <a:pt x="369" y="345"/>
                </a:lnTo>
                <a:lnTo>
                  <a:pt x="230" y="403"/>
                </a:lnTo>
                <a:lnTo>
                  <a:pt x="130" y="384"/>
                </a:lnTo>
                <a:lnTo>
                  <a:pt x="0" y="41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45480" y="5110200"/>
            <a:ext cx="44280" cy="111240"/>
          </a:xfrm>
          <a:custGeom>
            <a:avLst/>
            <a:gdLst/>
            <a:ahLst/>
            <a:rect l="l" t="t" r="r" b="b"/>
            <a:pathLst>
              <a:path w="74" h="181">
                <a:moveTo>
                  <a:pt x="0" y="0"/>
                </a:moveTo>
                <a:lnTo>
                  <a:pt x="12" y="181"/>
                </a:lnTo>
                <a:lnTo>
                  <a:pt x="74" y="145"/>
                </a:lnTo>
                <a:lnTo>
                  <a:pt x="42" y="37"/>
                </a:lnTo>
                <a:lnTo>
                  <a:pt x="0" y="0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68960" y="2228760"/>
            <a:ext cx="257040" cy="225360"/>
          </a:xfrm>
          <a:custGeom>
            <a:avLst/>
            <a:gdLst/>
            <a:ahLst/>
            <a:rect l="l" t="t" r="r" b="b"/>
            <a:pathLst>
              <a:path w="413" h="365">
                <a:moveTo>
                  <a:pt x="0" y="43"/>
                </a:moveTo>
                <a:lnTo>
                  <a:pt x="2" y="86"/>
                </a:lnTo>
                <a:lnTo>
                  <a:pt x="76" y="203"/>
                </a:lnTo>
                <a:lnTo>
                  <a:pt x="190" y="177"/>
                </a:lnTo>
                <a:lnTo>
                  <a:pt x="112" y="221"/>
                </a:lnTo>
                <a:lnTo>
                  <a:pt x="203" y="276"/>
                </a:lnTo>
                <a:lnTo>
                  <a:pt x="125" y="286"/>
                </a:lnTo>
                <a:lnTo>
                  <a:pt x="244" y="365"/>
                </a:lnTo>
                <a:lnTo>
                  <a:pt x="413" y="133"/>
                </a:lnTo>
                <a:lnTo>
                  <a:pt x="215" y="0"/>
                </a:lnTo>
                <a:lnTo>
                  <a:pt x="222" y="128"/>
                </a:lnTo>
                <a:lnTo>
                  <a:pt x="141" y="29"/>
                </a:lnTo>
                <a:lnTo>
                  <a:pt x="0" y="43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48240" y="2197080"/>
            <a:ext cx="219240" cy="92160"/>
          </a:xfrm>
          <a:custGeom>
            <a:avLst/>
            <a:gdLst/>
            <a:ahLst/>
            <a:rect l="l" t="t" r="r" b="b"/>
            <a:pathLst>
              <a:path w="354" h="146">
                <a:moveTo>
                  <a:pt x="0" y="66"/>
                </a:moveTo>
                <a:lnTo>
                  <a:pt x="62" y="106"/>
                </a:lnTo>
                <a:lnTo>
                  <a:pt x="201" y="146"/>
                </a:lnTo>
                <a:lnTo>
                  <a:pt x="354" y="66"/>
                </a:lnTo>
                <a:lnTo>
                  <a:pt x="263" y="19"/>
                </a:lnTo>
                <a:lnTo>
                  <a:pt x="162" y="62"/>
                </a:lnTo>
                <a:lnTo>
                  <a:pt x="62" y="0"/>
                </a:lnTo>
                <a:lnTo>
                  <a:pt x="0" y="66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11960" y="2351160"/>
            <a:ext cx="96840" cy="61920"/>
          </a:xfrm>
          <a:custGeom>
            <a:avLst/>
            <a:gdLst/>
            <a:ahLst/>
            <a:rect l="l" t="t" r="r" b="b"/>
            <a:pathLst>
              <a:path w="161" h="101">
                <a:moveTo>
                  <a:pt x="0" y="83"/>
                </a:moveTo>
                <a:lnTo>
                  <a:pt x="12" y="30"/>
                </a:lnTo>
                <a:lnTo>
                  <a:pt x="82" y="0"/>
                </a:lnTo>
                <a:lnTo>
                  <a:pt x="161" y="51"/>
                </a:lnTo>
                <a:lnTo>
                  <a:pt x="68" y="101"/>
                </a:lnTo>
                <a:lnTo>
                  <a:pt x="0" y="83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54640" y="2668680"/>
            <a:ext cx="150840" cy="131760"/>
          </a:xfrm>
          <a:custGeom>
            <a:avLst/>
            <a:gdLst/>
            <a:ahLst/>
            <a:rect l="l" t="t" r="r" b="b"/>
            <a:pathLst>
              <a:path w="241" h="213">
                <a:moveTo>
                  <a:pt x="0" y="97"/>
                </a:moveTo>
                <a:lnTo>
                  <a:pt x="98" y="150"/>
                </a:lnTo>
                <a:lnTo>
                  <a:pt x="88" y="205"/>
                </a:lnTo>
                <a:lnTo>
                  <a:pt x="241" y="213"/>
                </a:lnTo>
                <a:lnTo>
                  <a:pt x="155" y="29"/>
                </a:lnTo>
                <a:lnTo>
                  <a:pt x="66" y="0"/>
                </a:lnTo>
                <a:lnTo>
                  <a:pt x="0" y="97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08640" y="2432160"/>
            <a:ext cx="354240" cy="226800"/>
          </a:xfrm>
          <a:custGeom>
            <a:avLst/>
            <a:gdLst/>
            <a:ahLst/>
            <a:rect l="l" t="t" r="r" b="b"/>
            <a:pathLst>
              <a:path w="570" h="360">
                <a:moveTo>
                  <a:pt x="0" y="310"/>
                </a:moveTo>
                <a:lnTo>
                  <a:pt x="119" y="360"/>
                </a:lnTo>
                <a:lnTo>
                  <a:pt x="268" y="187"/>
                </a:lnTo>
                <a:lnTo>
                  <a:pt x="570" y="78"/>
                </a:lnTo>
                <a:lnTo>
                  <a:pt x="542" y="0"/>
                </a:lnTo>
                <a:lnTo>
                  <a:pt x="286" y="68"/>
                </a:lnTo>
                <a:lnTo>
                  <a:pt x="76" y="175"/>
                </a:lnTo>
                <a:lnTo>
                  <a:pt x="0" y="310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65680" y="3540240"/>
            <a:ext cx="109440" cy="137880"/>
          </a:xfrm>
          <a:custGeom>
            <a:avLst/>
            <a:gdLst/>
            <a:ahLst/>
            <a:rect l="l" t="t" r="r" b="b"/>
            <a:pathLst>
              <a:path w="178" h="226">
                <a:moveTo>
                  <a:pt x="16" y="226"/>
                </a:moveTo>
                <a:lnTo>
                  <a:pt x="148" y="213"/>
                </a:lnTo>
                <a:lnTo>
                  <a:pt x="178" y="55"/>
                </a:lnTo>
                <a:lnTo>
                  <a:pt x="111" y="0"/>
                </a:lnTo>
                <a:lnTo>
                  <a:pt x="0" y="91"/>
                </a:lnTo>
                <a:lnTo>
                  <a:pt x="45" y="146"/>
                </a:lnTo>
                <a:lnTo>
                  <a:pt x="16" y="226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63960" y="3397320"/>
            <a:ext cx="184320" cy="357120"/>
          </a:xfrm>
          <a:custGeom>
            <a:avLst/>
            <a:gdLst/>
            <a:ahLst/>
            <a:rect l="l" t="t" r="r" b="b"/>
            <a:pathLst>
              <a:path w="298" h="571">
                <a:moveTo>
                  <a:pt x="0" y="128"/>
                </a:moveTo>
                <a:lnTo>
                  <a:pt x="44" y="1"/>
                </a:lnTo>
                <a:lnTo>
                  <a:pt x="110" y="0"/>
                </a:lnTo>
                <a:lnTo>
                  <a:pt x="69" y="69"/>
                </a:lnTo>
                <a:lnTo>
                  <a:pt x="162" y="77"/>
                </a:lnTo>
                <a:lnTo>
                  <a:pt x="108" y="179"/>
                </a:lnTo>
                <a:lnTo>
                  <a:pt x="174" y="206"/>
                </a:lnTo>
                <a:lnTo>
                  <a:pt x="242" y="328"/>
                </a:lnTo>
                <a:lnTo>
                  <a:pt x="235" y="386"/>
                </a:lnTo>
                <a:lnTo>
                  <a:pt x="298" y="397"/>
                </a:lnTo>
                <a:lnTo>
                  <a:pt x="290" y="495"/>
                </a:lnTo>
                <a:lnTo>
                  <a:pt x="16" y="571"/>
                </a:lnTo>
                <a:lnTo>
                  <a:pt x="100" y="482"/>
                </a:lnTo>
                <a:lnTo>
                  <a:pt x="29" y="448"/>
                </a:lnTo>
                <a:lnTo>
                  <a:pt x="49" y="386"/>
                </a:lnTo>
                <a:lnTo>
                  <a:pt x="119" y="346"/>
                </a:lnTo>
                <a:lnTo>
                  <a:pt x="114" y="249"/>
                </a:lnTo>
                <a:lnTo>
                  <a:pt x="40" y="263"/>
                </a:lnTo>
                <a:lnTo>
                  <a:pt x="28" y="136"/>
                </a:lnTo>
                <a:lnTo>
                  <a:pt x="0" y="128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08480" y="4084560"/>
            <a:ext cx="33480" cy="77760"/>
          </a:xfrm>
          <a:custGeom>
            <a:avLst/>
            <a:gdLst/>
            <a:ahLst/>
            <a:rect l="l" t="t" r="r" b="b"/>
            <a:pathLst>
              <a:path w="58" h="129">
                <a:moveTo>
                  <a:pt x="0" y="16"/>
                </a:moveTo>
                <a:lnTo>
                  <a:pt x="10" y="116"/>
                </a:lnTo>
                <a:lnTo>
                  <a:pt x="32" y="129"/>
                </a:lnTo>
                <a:lnTo>
                  <a:pt x="58" y="46"/>
                </a:lnTo>
                <a:lnTo>
                  <a:pt x="34" y="0"/>
                </a:lnTo>
                <a:lnTo>
                  <a:pt x="0" y="16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10360" y="4187880"/>
            <a:ext cx="71280" cy="54000"/>
          </a:xfrm>
          <a:custGeom>
            <a:avLst/>
            <a:gdLst/>
            <a:ahLst/>
            <a:rect l="l" t="t" r="r" b="b"/>
            <a:pathLst>
              <a:path w="118" h="88">
                <a:moveTo>
                  <a:pt x="0" y="22"/>
                </a:moveTo>
                <a:lnTo>
                  <a:pt x="104" y="88"/>
                </a:lnTo>
                <a:lnTo>
                  <a:pt x="118" y="0"/>
                </a:lnTo>
                <a:lnTo>
                  <a:pt x="0" y="22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86200" y="2386080"/>
            <a:ext cx="4840560" cy="2971800"/>
          </a:xfrm>
          <a:custGeom>
            <a:avLst/>
            <a:gdLst/>
            <a:ahLst/>
            <a:rect l="l" t="t" r="r" b="b"/>
            <a:pathLst>
              <a:path w="7789" h="4747">
                <a:moveTo>
                  <a:pt x="1623" y="3349"/>
                </a:moveTo>
                <a:lnTo>
                  <a:pt x="1729" y="3361"/>
                </a:lnTo>
                <a:lnTo>
                  <a:pt x="1860" y="3653"/>
                </a:lnTo>
                <a:lnTo>
                  <a:pt x="1961" y="3869"/>
                </a:lnTo>
                <a:lnTo>
                  <a:pt x="2030" y="4024"/>
                </a:lnTo>
                <a:lnTo>
                  <a:pt x="2061" y="4208"/>
                </a:lnTo>
                <a:lnTo>
                  <a:pt x="2258" y="4143"/>
                </a:lnTo>
                <a:lnTo>
                  <a:pt x="2508" y="3993"/>
                </a:lnTo>
                <a:lnTo>
                  <a:pt x="2616" y="3894"/>
                </a:lnTo>
                <a:lnTo>
                  <a:pt x="2694" y="3718"/>
                </a:lnTo>
                <a:lnTo>
                  <a:pt x="2548" y="3534"/>
                </a:lnTo>
                <a:lnTo>
                  <a:pt x="2466" y="3632"/>
                </a:lnTo>
                <a:lnTo>
                  <a:pt x="2404" y="3630"/>
                </a:lnTo>
                <a:lnTo>
                  <a:pt x="2343" y="3600"/>
                </a:lnTo>
                <a:lnTo>
                  <a:pt x="2248" y="3404"/>
                </a:lnTo>
                <a:lnTo>
                  <a:pt x="2236" y="3333"/>
                </a:lnTo>
                <a:lnTo>
                  <a:pt x="2315" y="3324"/>
                </a:lnTo>
                <a:lnTo>
                  <a:pt x="2370" y="3439"/>
                </a:lnTo>
                <a:lnTo>
                  <a:pt x="2602" y="3552"/>
                </a:lnTo>
                <a:lnTo>
                  <a:pt x="2956" y="3566"/>
                </a:lnTo>
                <a:lnTo>
                  <a:pt x="3107" y="3806"/>
                </a:lnTo>
                <a:lnTo>
                  <a:pt x="3165" y="3787"/>
                </a:lnTo>
                <a:lnTo>
                  <a:pt x="3256" y="4063"/>
                </a:lnTo>
                <a:lnTo>
                  <a:pt x="3293" y="4224"/>
                </a:lnTo>
                <a:lnTo>
                  <a:pt x="3380" y="4428"/>
                </a:lnTo>
                <a:lnTo>
                  <a:pt x="3474" y="4327"/>
                </a:lnTo>
                <a:lnTo>
                  <a:pt x="3496" y="4059"/>
                </a:lnTo>
                <a:lnTo>
                  <a:pt x="3797" y="3738"/>
                </a:lnTo>
                <a:lnTo>
                  <a:pt x="3881" y="3754"/>
                </a:lnTo>
                <a:lnTo>
                  <a:pt x="3934" y="3707"/>
                </a:lnTo>
                <a:lnTo>
                  <a:pt x="4046" y="3926"/>
                </a:lnTo>
                <a:lnTo>
                  <a:pt x="4043" y="4040"/>
                </a:lnTo>
                <a:lnTo>
                  <a:pt x="4141" y="3975"/>
                </a:lnTo>
                <a:lnTo>
                  <a:pt x="4199" y="4423"/>
                </a:lnTo>
                <a:lnTo>
                  <a:pt x="4278" y="4506"/>
                </a:lnTo>
                <a:lnTo>
                  <a:pt x="4321" y="4679"/>
                </a:lnTo>
                <a:lnTo>
                  <a:pt x="4420" y="4747"/>
                </a:lnTo>
                <a:lnTo>
                  <a:pt x="4422" y="4747"/>
                </a:lnTo>
                <a:lnTo>
                  <a:pt x="4403" y="4580"/>
                </a:lnTo>
                <a:lnTo>
                  <a:pt x="4289" y="4466"/>
                </a:lnTo>
                <a:lnTo>
                  <a:pt x="4234" y="4327"/>
                </a:lnTo>
                <a:lnTo>
                  <a:pt x="4274" y="4161"/>
                </a:lnTo>
                <a:lnTo>
                  <a:pt x="4403" y="4305"/>
                </a:lnTo>
                <a:lnTo>
                  <a:pt x="4460" y="4406"/>
                </a:lnTo>
                <a:lnTo>
                  <a:pt x="4625" y="4257"/>
                </a:lnTo>
                <a:lnTo>
                  <a:pt x="4608" y="4075"/>
                </a:lnTo>
                <a:lnTo>
                  <a:pt x="4482" y="3902"/>
                </a:lnTo>
                <a:lnTo>
                  <a:pt x="4578" y="3766"/>
                </a:lnTo>
                <a:lnTo>
                  <a:pt x="4661" y="3831"/>
                </a:lnTo>
                <a:lnTo>
                  <a:pt x="4771" y="3746"/>
                </a:lnTo>
                <a:lnTo>
                  <a:pt x="4996" y="3604"/>
                </a:lnTo>
                <a:lnTo>
                  <a:pt x="5119" y="3240"/>
                </a:lnTo>
                <a:lnTo>
                  <a:pt x="5017" y="3071"/>
                </a:lnTo>
                <a:lnTo>
                  <a:pt x="5150" y="2936"/>
                </a:lnTo>
                <a:lnTo>
                  <a:pt x="5081" y="2909"/>
                </a:lnTo>
                <a:lnTo>
                  <a:pt x="5008" y="2941"/>
                </a:lnTo>
                <a:lnTo>
                  <a:pt x="4953" y="2873"/>
                </a:lnTo>
                <a:lnTo>
                  <a:pt x="5113" y="2724"/>
                </a:lnTo>
                <a:lnTo>
                  <a:pt x="5095" y="2857"/>
                </a:lnTo>
                <a:lnTo>
                  <a:pt x="5261" y="2808"/>
                </a:lnTo>
                <a:lnTo>
                  <a:pt x="5305" y="2909"/>
                </a:lnTo>
                <a:lnTo>
                  <a:pt x="5289" y="3099"/>
                </a:lnTo>
                <a:lnTo>
                  <a:pt x="5421" y="3005"/>
                </a:lnTo>
                <a:lnTo>
                  <a:pt x="5338" y="2795"/>
                </a:lnTo>
                <a:lnTo>
                  <a:pt x="5510" y="2582"/>
                </a:lnTo>
                <a:lnTo>
                  <a:pt x="5567" y="2630"/>
                </a:lnTo>
                <a:lnTo>
                  <a:pt x="5837" y="2280"/>
                </a:lnTo>
                <a:lnTo>
                  <a:pt x="5887" y="2047"/>
                </a:lnTo>
                <a:lnTo>
                  <a:pt x="5819" y="1909"/>
                </a:lnTo>
                <a:lnTo>
                  <a:pt x="5642" y="1878"/>
                </a:lnTo>
                <a:lnTo>
                  <a:pt x="5930" y="1567"/>
                </a:lnTo>
                <a:lnTo>
                  <a:pt x="6167" y="1566"/>
                </a:lnTo>
                <a:lnTo>
                  <a:pt x="6405" y="1571"/>
                </a:lnTo>
                <a:lnTo>
                  <a:pt x="6499" y="1389"/>
                </a:lnTo>
                <a:lnTo>
                  <a:pt x="6620" y="1369"/>
                </a:lnTo>
                <a:lnTo>
                  <a:pt x="6611" y="1471"/>
                </a:lnTo>
                <a:lnTo>
                  <a:pt x="6769" y="1348"/>
                </a:lnTo>
                <a:lnTo>
                  <a:pt x="6481" y="1665"/>
                </a:lnTo>
                <a:lnTo>
                  <a:pt x="6448" y="1744"/>
                </a:lnTo>
                <a:lnTo>
                  <a:pt x="6481" y="2124"/>
                </a:lnTo>
                <a:lnTo>
                  <a:pt x="6687" y="1879"/>
                </a:lnTo>
                <a:lnTo>
                  <a:pt x="6682" y="1648"/>
                </a:lnTo>
                <a:lnTo>
                  <a:pt x="6743" y="1523"/>
                </a:lnTo>
                <a:lnTo>
                  <a:pt x="6925" y="1470"/>
                </a:lnTo>
                <a:lnTo>
                  <a:pt x="7007" y="1520"/>
                </a:lnTo>
                <a:lnTo>
                  <a:pt x="7276" y="1326"/>
                </a:lnTo>
                <a:lnTo>
                  <a:pt x="7363" y="1283"/>
                </a:lnTo>
                <a:lnTo>
                  <a:pt x="7328" y="1168"/>
                </a:lnTo>
                <a:lnTo>
                  <a:pt x="7443" y="1093"/>
                </a:lnTo>
                <a:lnTo>
                  <a:pt x="7686" y="1175"/>
                </a:lnTo>
                <a:lnTo>
                  <a:pt x="7789" y="1045"/>
                </a:lnTo>
                <a:lnTo>
                  <a:pt x="7568" y="921"/>
                </a:lnTo>
                <a:lnTo>
                  <a:pt x="7319" y="773"/>
                </a:lnTo>
                <a:lnTo>
                  <a:pt x="7019" y="720"/>
                </a:lnTo>
                <a:lnTo>
                  <a:pt x="6996" y="830"/>
                </a:lnTo>
                <a:lnTo>
                  <a:pt x="6872" y="771"/>
                </a:lnTo>
                <a:lnTo>
                  <a:pt x="6663" y="781"/>
                </a:lnTo>
                <a:lnTo>
                  <a:pt x="6561" y="646"/>
                </a:lnTo>
                <a:lnTo>
                  <a:pt x="6318" y="656"/>
                </a:lnTo>
                <a:lnTo>
                  <a:pt x="6192" y="532"/>
                </a:lnTo>
                <a:lnTo>
                  <a:pt x="5868" y="473"/>
                </a:lnTo>
                <a:lnTo>
                  <a:pt x="5745" y="621"/>
                </a:lnTo>
                <a:lnTo>
                  <a:pt x="5540" y="548"/>
                </a:lnTo>
                <a:lnTo>
                  <a:pt x="5488" y="666"/>
                </a:lnTo>
                <a:lnTo>
                  <a:pt x="5415" y="453"/>
                </a:lnTo>
                <a:lnTo>
                  <a:pt x="5178" y="386"/>
                </a:lnTo>
                <a:lnTo>
                  <a:pt x="5170" y="453"/>
                </a:lnTo>
                <a:lnTo>
                  <a:pt x="4881" y="393"/>
                </a:lnTo>
                <a:lnTo>
                  <a:pt x="4687" y="397"/>
                </a:lnTo>
                <a:lnTo>
                  <a:pt x="4510" y="445"/>
                </a:lnTo>
                <a:lnTo>
                  <a:pt x="4775" y="265"/>
                </a:lnTo>
                <a:lnTo>
                  <a:pt x="4802" y="186"/>
                </a:lnTo>
                <a:lnTo>
                  <a:pt x="4696" y="97"/>
                </a:lnTo>
                <a:lnTo>
                  <a:pt x="4502" y="128"/>
                </a:lnTo>
                <a:lnTo>
                  <a:pt x="4546" y="76"/>
                </a:lnTo>
                <a:lnTo>
                  <a:pt x="4424" y="0"/>
                </a:lnTo>
                <a:lnTo>
                  <a:pt x="4210" y="149"/>
                </a:lnTo>
                <a:lnTo>
                  <a:pt x="4008" y="186"/>
                </a:lnTo>
                <a:lnTo>
                  <a:pt x="3783" y="270"/>
                </a:lnTo>
                <a:lnTo>
                  <a:pt x="3744" y="377"/>
                </a:lnTo>
                <a:lnTo>
                  <a:pt x="3505" y="405"/>
                </a:lnTo>
                <a:lnTo>
                  <a:pt x="3522" y="515"/>
                </a:lnTo>
                <a:lnTo>
                  <a:pt x="3616" y="582"/>
                </a:lnTo>
                <a:lnTo>
                  <a:pt x="3421" y="520"/>
                </a:lnTo>
                <a:lnTo>
                  <a:pt x="3421" y="646"/>
                </a:lnTo>
                <a:lnTo>
                  <a:pt x="3320" y="614"/>
                </a:lnTo>
                <a:lnTo>
                  <a:pt x="3287" y="527"/>
                </a:lnTo>
                <a:lnTo>
                  <a:pt x="3210" y="590"/>
                </a:lnTo>
                <a:lnTo>
                  <a:pt x="3260" y="666"/>
                </a:lnTo>
                <a:lnTo>
                  <a:pt x="3215" y="921"/>
                </a:lnTo>
                <a:lnTo>
                  <a:pt x="3157" y="464"/>
                </a:lnTo>
                <a:lnTo>
                  <a:pt x="3069" y="464"/>
                </a:lnTo>
                <a:lnTo>
                  <a:pt x="2972" y="759"/>
                </a:lnTo>
                <a:lnTo>
                  <a:pt x="3059" y="826"/>
                </a:lnTo>
                <a:lnTo>
                  <a:pt x="3027" y="876"/>
                </a:lnTo>
                <a:lnTo>
                  <a:pt x="2868" y="768"/>
                </a:lnTo>
                <a:lnTo>
                  <a:pt x="2739" y="737"/>
                </a:lnTo>
                <a:lnTo>
                  <a:pt x="2739" y="818"/>
                </a:lnTo>
                <a:lnTo>
                  <a:pt x="2497" y="879"/>
                </a:lnTo>
                <a:lnTo>
                  <a:pt x="2462" y="818"/>
                </a:lnTo>
                <a:lnTo>
                  <a:pt x="2236" y="933"/>
                </a:lnTo>
                <a:lnTo>
                  <a:pt x="2084" y="868"/>
                </a:lnTo>
                <a:lnTo>
                  <a:pt x="2085" y="1071"/>
                </a:lnTo>
                <a:lnTo>
                  <a:pt x="2015" y="1013"/>
                </a:lnTo>
                <a:lnTo>
                  <a:pt x="1918" y="1092"/>
                </a:lnTo>
                <a:lnTo>
                  <a:pt x="1961" y="1174"/>
                </a:lnTo>
                <a:lnTo>
                  <a:pt x="1796" y="1158"/>
                </a:lnTo>
                <a:lnTo>
                  <a:pt x="1829" y="1237"/>
                </a:lnTo>
                <a:lnTo>
                  <a:pt x="1714" y="1174"/>
                </a:lnTo>
                <a:lnTo>
                  <a:pt x="1721" y="1071"/>
                </a:lnTo>
                <a:lnTo>
                  <a:pt x="1609" y="973"/>
                </a:lnTo>
                <a:lnTo>
                  <a:pt x="1880" y="1051"/>
                </a:lnTo>
                <a:lnTo>
                  <a:pt x="1963" y="925"/>
                </a:lnTo>
                <a:lnTo>
                  <a:pt x="1760" y="796"/>
                </a:lnTo>
                <a:lnTo>
                  <a:pt x="1606" y="733"/>
                </a:lnTo>
                <a:lnTo>
                  <a:pt x="1481" y="714"/>
                </a:lnTo>
                <a:lnTo>
                  <a:pt x="1570" y="693"/>
                </a:lnTo>
                <a:lnTo>
                  <a:pt x="1441" y="629"/>
                </a:lnTo>
                <a:lnTo>
                  <a:pt x="1336" y="641"/>
                </a:lnTo>
                <a:lnTo>
                  <a:pt x="1267" y="731"/>
                </a:lnTo>
                <a:lnTo>
                  <a:pt x="1204" y="701"/>
                </a:lnTo>
                <a:lnTo>
                  <a:pt x="1123" y="791"/>
                </a:lnTo>
                <a:lnTo>
                  <a:pt x="1073" y="771"/>
                </a:lnTo>
                <a:lnTo>
                  <a:pt x="1051" y="835"/>
                </a:lnTo>
                <a:lnTo>
                  <a:pt x="973" y="890"/>
                </a:lnTo>
                <a:lnTo>
                  <a:pt x="846" y="1124"/>
                </a:lnTo>
                <a:lnTo>
                  <a:pt x="744" y="1226"/>
                </a:lnTo>
                <a:lnTo>
                  <a:pt x="565" y="1353"/>
                </a:lnTo>
                <a:lnTo>
                  <a:pt x="657" y="1401"/>
                </a:lnTo>
                <a:lnTo>
                  <a:pt x="562" y="1443"/>
                </a:lnTo>
                <a:lnTo>
                  <a:pt x="585" y="1617"/>
                </a:lnTo>
                <a:lnTo>
                  <a:pt x="680" y="1638"/>
                </a:lnTo>
                <a:lnTo>
                  <a:pt x="776" y="1523"/>
                </a:lnTo>
                <a:lnTo>
                  <a:pt x="820" y="1693"/>
                </a:lnTo>
                <a:lnTo>
                  <a:pt x="865" y="1752"/>
                </a:lnTo>
                <a:lnTo>
                  <a:pt x="861" y="1831"/>
                </a:lnTo>
                <a:lnTo>
                  <a:pt x="981" y="1782"/>
                </a:lnTo>
                <a:lnTo>
                  <a:pt x="1018" y="1621"/>
                </a:lnTo>
                <a:lnTo>
                  <a:pt x="992" y="1606"/>
                </a:lnTo>
                <a:lnTo>
                  <a:pt x="1093" y="1520"/>
                </a:lnTo>
                <a:lnTo>
                  <a:pt x="1036" y="1470"/>
                </a:lnTo>
                <a:lnTo>
                  <a:pt x="1036" y="1326"/>
                </a:lnTo>
                <a:lnTo>
                  <a:pt x="1204" y="1178"/>
                </a:lnTo>
                <a:lnTo>
                  <a:pt x="1215" y="1081"/>
                </a:lnTo>
                <a:lnTo>
                  <a:pt x="1297" y="1063"/>
                </a:lnTo>
                <a:lnTo>
                  <a:pt x="1358" y="1140"/>
                </a:lnTo>
                <a:lnTo>
                  <a:pt x="1182" y="1308"/>
                </a:lnTo>
                <a:lnTo>
                  <a:pt x="1191" y="1467"/>
                </a:lnTo>
                <a:lnTo>
                  <a:pt x="1258" y="1523"/>
                </a:lnTo>
                <a:lnTo>
                  <a:pt x="1443" y="1470"/>
                </a:lnTo>
                <a:lnTo>
                  <a:pt x="1540" y="1518"/>
                </a:lnTo>
                <a:lnTo>
                  <a:pt x="1281" y="1562"/>
                </a:lnTo>
                <a:lnTo>
                  <a:pt x="1301" y="1729"/>
                </a:lnTo>
                <a:lnTo>
                  <a:pt x="1239" y="1670"/>
                </a:lnTo>
                <a:lnTo>
                  <a:pt x="1182" y="1736"/>
                </a:lnTo>
                <a:lnTo>
                  <a:pt x="1180" y="1835"/>
                </a:lnTo>
                <a:lnTo>
                  <a:pt x="1127" y="1893"/>
                </a:lnTo>
                <a:lnTo>
                  <a:pt x="1036" y="1875"/>
                </a:lnTo>
                <a:lnTo>
                  <a:pt x="910" y="1944"/>
                </a:lnTo>
                <a:lnTo>
                  <a:pt x="854" y="1893"/>
                </a:lnTo>
                <a:lnTo>
                  <a:pt x="788" y="1901"/>
                </a:lnTo>
                <a:lnTo>
                  <a:pt x="731" y="1867"/>
                </a:lnTo>
                <a:lnTo>
                  <a:pt x="786" y="1772"/>
                </a:lnTo>
                <a:lnTo>
                  <a:pt x="768" y="1674"/>
                </a:lnTo>
                <a:lnTo>
                  <a:pt x="687" y="1729"/>
                </a:lnTo>
                <a:lnTo>
                  <a:pt x="680" y="1820"/>
                </a:lnTo>
                <a:lnTo>
                  <a:pt x="700" y="1968"/>
                </a:lnTo>
                <a:lnTo>
                  <a:pt x="665" y="1946"/>
                </a:lnTo>
                <a:lnTo>
                  <a:pt x="577" y="1976"/>
                </a:lnTo>
                <a:lnTo>
                  <a:pt x="555" y="2075"/>
                </a:lnTo>
                <a:lnTo>
                  <a:pt x="434" y="2124"/>
                </a:lnTo>
                <a:lnTo>
                  <a:pt x="388" y="2215"/>
                </a:lnTo>
                <a:lnTo>
                  <a:pt x="294" y="2199"/>
                </a:lnTo>
                <a:lnTo>
                  <a:pt x="308" y="2269"/>
                </a:lnTo>
                <a:lnTo>
                  <a:pt x="186" y="2277"/>
                </a:lnTo>
                <a:lnTo>
                  <a:pt x="197" y="2318"/>
                </a:lnTo>
                <a:lnTo>
                  <a:pt x="300" y="2351"/>
                </a:lnTo>
                <a:lnTo>
                  <a:pt x="286" y="2383"/>
                </a:lnTo>
                <a:lnTo>
                  <a:pt x="341" y="2478"/>
                </a:lnTo>
                <a:lnTo>
                  <a:pt x="300" y="2586"/>
                </a:lnTo>
                <a:lnTo>
                  <a:pt x="51" y="2571"/>
                </a:lnTo>
                <a:lnTo>
                  <a:pt x="9" y="2606"/>
                </a:lnTo>
                <a:lnTo>
                  <a:pt x="0" y="2851"/>
                </a:lnTo>
                <a:lnTo>
                  <a:pt x="25" y="2946"/>
                </a:lnTo>
                <a:lnTo>
                  <a:pt x="82" y="2941"/>
                </a:lnTo>
                <a:lnTo>
                  <a:pt x="290" y="2962"/>
                </a:lnTo>
                <a:lnTo>
                  <a:pt x="372" y="2859"/>
                </a:lnTo>
                <a:lnTo>
                  <a:pt x="356" y="2816"/>
                </a:lnTo>
                <a:lnTo>
                  <a:pt x="399" y="2736"/>
                </a:lnTo>
                <a:lnTo>
                  <a:pt x="487" y="2681"/>
                </a:lnTo>
                <a:lnTo>
                  <a:pt x="487" y="2596"/>
                </a:lnTo>
                <a:lnTo>
                  <a:pt x="521" y="2580"/>
                </a:lnTo>
                <a:lnTo>
                  <a:pt x="606" y="2604"/>
                </a:lnTo>
                <a:lnTo>
                  <a:pt x="657" y="2561"/>
                </a:lnTo>
                <a:lnTo>
                  <a:pt x="709" y="2522"/>
                </a:lnTo>
                <a:lnTo>
                  <a:pt x="759" y="2550"/>
                </a:lnTo>
                <a:lnTo>
                  <a:pt x="798" y="2644"/>
                </a:lnTo>
                <a:lnTo>
                  <a:pt x="973" y="2775"/>
                </a:lnTo>
                <a:lnTo>
                  <a:pt x="992" y="2897"/>
                </a:lnTo>
                <a:lnTo>
                  <a:pt x="1032" y="2834"/>
                </a:lnTo>
                <a:lnTo>
                  <a:pt x="1018" y="2763"/>
                </a:lnTo>
                <a:lnTo>
                  <a:pt x="1087" y="2775"/>
                </a:lnTo>
                <a:lnTo>
                  <a:pt x="937" y="2657"/>
                </a:lnTo>
                <a:lnTo>
                  <a:pt x="847" y="2539"/>
                </a:lnTo>
                <a:lnTo>
                  <a:pt x="842" y="2467"/>
                </a:lnTo>
                <a:lnTo>
                  <a:pt x="929" y="2472"/>
                </a:lnTo>
                <a:lnTo>
                  <a:pt x="990" y="2580"/>
                </a:lnTo>
                <a:lnTo>
                  <a:pt x="1117" y="2673"/>
                </a:lnTo>
                <a:lnTo>
                  <a:pt x="1117" y="2755"/>
                </a:lnTo>
                <a:lnTo>
                  <a:pt x="1152" y="2798"/>
                </a:lnTo>
                <a:lnTo>
                  <a:pt x="1186" y="2877"/>
                </a:lnTo>
                <a:lnTo>
                  <a:pt x="1266" y="2889"/>
                </a:lnTo>
                <a:lnTo>
                  <a:pt x="1184" y="2905"/>
                </a:lnTo>
                <a:lnTo>
                  <a:pt x="1210" y="2962"/>
                </a:lnTo>
                <a:lnTo>
                  <a:pt x="1263" y="2978"/>
                </a:lnTo>
                <a:lnTo>
                  <a:pt x="1297" y="2886"/>
                </a:lnTo>
                <a:lnTo>
                  <a:pt x="1243" y="2845"/>
                </a:lnTo>
                <a:lnTo>
                  <a:pt x="1271" y="2825"/>
                </a:lnTo>
                <a:lnTo>
                  <a:pt x="1247" y="2747"/>
                </a:lnTo>
                <a:lnTo>
                  <a:pt x="1443" y="2724"/>
                </a:lnTo>
                <a:lnTo>
                  <a:pt x="1437" y="2640"/>
                </a:lnTo>
                <a:lnTo>
                  <a:pt x="1481" y="2563"/>
                </a:lnTo>
                <a:lnTo>
                  <a:pt x="1519" y="2468"/>
                </a:lnTo>
                <a:lnTo>
                  <a:pt x="1539" y="2407"/>
                </a:lnTo>
                <a:lnTo>
                  <a:pt x="1609" y="2383"/>
                </a:lnTo>
                <a:lnTo>
                  <a:pt x="1606" y="2418"/>
                </a:lnTo>
                <a:lnTo>
                  <a:pt x="1677" y="2424"/>
                </a:lnTo>
                <a:lnTo>
                  <a:pt x="1635" y="2466"/>
                </a:lnTo>
                <a:lnTo>
                  <a:pt x="1690" y="2521"/>
                </a:lnTo>
                <a:lnTo>
                  <a:pt x="1793" y="2462"/>
                </a:lnTo>
                <a:lnTo>
                  <a:pt x="1733" y="2472"/>
                </a:lnTo>
                <a:lnTo>
                  <a:pt x="1730" y="2439"/>
                </a:lnTo>
                <a:lnTo>
                  <a:pt x="1737" y="2403"/>
                </a:lnTo>
                <a:lnTo>
                  <a:pt x="1891" y="2349"/>
                </a:lnTo>
                <a:lnTo>
                  <a:pt x="1840" y="2387"/>
                </a:lnTo>
                <a:lnTo>
                  <a:pt x="1793" y="2478"/>
                </a:lnTo>
                <a:lnTo>
                  <a:pt x="1977" y="2614"/>
                </a:lnTo>
                <a:lnTo>
                  <a:pt x="1983" y="2689"/>
                </a:lnTo>
                <a:lnTo>
                  <a:pt x="1851" y="2725"/>
                </a:lnTo>
                <a:lnTo>
                  <a:pt x="1737" y="2657"/>
                </a:lnTo>
                <a:lnTo>
                  <a:pt x="1579" y="2720"/>
                </a:lnTo>
                <a:lnTo>
                  <a:pt x="1507" y="2709"/>
                </a:lnTo>
                <a:lnTo>
                  <a:pt x="1530" y="2737"/>
                </a:lnTo>
                <a:lnTo>
                  <a:pt x="1389" y="2780"/>
                </a:lnTo>
                <a:lnTo>
                  <a:pt x="1424" y="2873"/>
                </a:lnTo>
                <a:lnTo>
                  <a:pt x="1435" y="2969"/>
                </a:lnTo>
                <a:lnTo>
                  <a:pt x="1530" y="2992"/>
                </a:lnTo>
                <a:lnTo>
                  <a:pt x="1572" y="2958"/>
                </a:lnTo>
                <a:lnTo>
                  <a:pt x="1647" y="3003"/>
                </a:lnTo>
                <a:lnTo>
                  <a:pt x="1773" y="2958"/>
                </a:lnTo>
                <a:lnTo>
                  <a:pt x="1767" y="3076"/>
                </a:lnTo>
                <a:lnTo>
                  <a:pt x="1690" y="3261"/>
                </a:lnTo>
                <a:lnTo>
                  <a:pt x="1559" y="3245"/>
                </a:lnTo>
                <a:lnTo>
                  <a:pt x="1623" y="334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43240" y="1984320"/>
            <a:ext cx="1468440" cy="1346400"/>
          </a:xfrm>
          <a:custGeom>
            <a:avLst/>
            <a:gdLst/>
            <a:ahLst/>
            <a:rect l="l" t="t" r="r" b="b"/>
            <a:pathLst>
              <a:path w="2365" h="2151">
                <a:moveTo>
                  <a:pt x="0" y="598"/>
                </a:moveTo>
                <a:lnTo>
                  <a:pt x="11" y="562"/>
                </a:lnTo>
                <a:lnTo>
                  <a:pt x="162" y="502"/>
                </a:lnTo>
                <a:lnTo>
                  <a:pt x="261" y="502"/>
                </a:lnTo>
                <a:lnTo>
                  <a:pt x="344" y="368"/>
                </a:lnTo>
                <a:lnTo>
                  <a:pt x="272" y="404"/>
                </a:lnTo>
                <a:lnTo>
                  <a:pt x="203" y="368"/>
                </a:lnTo>
                <a:lnTo>
                  <a:pt x="344" y="274"/>
                </a:lnTo>
                <a:lnTo>
                  <a:pt x="443" y="269"/>
                </a:lnTo>
                <a:lnTo>
                  <a:pt x="435" y="197"/>
                </a:lnTo>
                <a:lnTo>
                  <a:pt x="595" y="245"/>
                </a:lnTo>
                <a:lnTo>
                  <a:pt x="500" y="178"/>
                </a:lnTo>
                <a:lnTo>
                  <a:pt x="681" y="134"/>
                </a:lnTo>
                <a:lnTo>
                  <a:pt x="755" y="173"/>
                </a:lnTo>
                <a:lnTo>
                  <a:pt x="885" y="185"/>
                </a:lnTo>
                <a:lnTo>
                  <a:pt x="851" y="112"/>
                </a:lnTo>
                <a:lnTo>
                  <a:pt x="1075" y="202"/>
                </a:lnTo>
                <a:lnTo>
                  <a:pt x="1228" y="134"/>
                </a:lnTo>
                <a:lnTo>
                  <a:pt x="1037" y="39"/>
                </a:lnTo>
                <a:lnTo>
                  <a:pt x="1133" y="24"/>
                </a:lnTo>
                <a:lnTo>
                  <a:pt x="1295" y="83"/>
                </a:lnTo>
                <a:lnTo>
                  <a:pt x="1349" y="39"/>
                </a:lnTo>
                <a:lnTo>
                  <a:pt x="1327" y="0"/>
                </a:lnTo>
                <a:lnTo>
                  <a:pt x="1725" y="24"/>
                </a:lnTo>
                <a:lnTo>
                  <a:pt x="1878" y="71"/>
                </a:lnTo>
                <a:lnTo>
                  <a:pt x="1987" y="104"/>
                </a:lnTo>
                <a:lnTo>
                  <a:pt x="1560" y="155"/>
                </a:lnTo>
                <a:lnTo>
                  <a:pt x="1516" y="215"/>
                </a:lnTo>
                <a:lnTo>
                  <a:pt x="1824" y="199"/>
                </a:lnTo>
                <a:lnTo>
                  <a:pt x="1762" y="242"/>
                </a:lnTo>
                <a:lnTo>
                  <a:pt x="1951" y="171"/>
                </a:lnTo>
                <a:lnTo>
                  <a:pt x="1962" y="234"/>
                </a:lnTo>
                <a:lnTo>
                  <a:pt x="1871" y="349"/>
                </a:lnTo>
                <a:lnTo>
                  <a:pt x="2046" y="242"/>
                </a:lnTo>
                <a:lnTo>
                  <a:pt x="2160" y="197"/>
                </a:lnTo>
                <a:lnTo>
                  <a:pt x="2250" y="185"/>
                </a:lnTo>
                <a:lnTo>
                  <a:pt x="2365" y="222"/>
                </a:lnTo>
                <a:lnTo>
                  <a:pt x="2262" y="306"/>
                </a:lnTo>
                <a:lnTo>
                  <a:pt x="2002" y="340"/>
                </a:lnTo>
                <a:lnTo>
                  <a:pt x="2211" y="347"/>
                </a:lnTo>
                <a:lnTo>
                  <a:pt x="2045" y="394"/>
                </a:lnTo>
                <a:lnTo>
                  <a:pt x="2097" y="481"/>
                </a:lnTo>
                <a:lnTo>
                  <a:pt x="2017" y="538"/>
                </a:lnTo>
                <a:lnTo>
                  <a:pt x="2092" y="637"/>
                </a:lnTo>
                <a:lnTo>
                  <a:pt x="2043" y="675"/>
                </a:lnTo>
                <a:lnTo>
                  <a:pt x="2132" y="687"/>
                </a:lnTo>
                <a:lnTo>
                  <a:pt x="2031" y="739"/>
                </a:lnTo>
                <a:lnTo>
                  <a:pt x="2066" y="798"/>
                </a:lnTo>
                <a:lnTo>
                  <a:pt x="2080" y="901"/>
                </a:lnTo>
                <a:lnTo>
                  <a:pt x="1979" y="873"/>
                </a:lnTo>
                <a:lnTo>
                  <a:pt x="2021" y="953"/>
                </a:lnTo>
                <a:lnTo>
                  <a:pt x="2097" y="975"/>
                </a:lnTo>
                <a:lnTo>
                  <a:pt x="1963" y="987"/>
                </a:lnTo>
                <a:lnTo>
                  <a:pt x="2049" y="1028"/>
                </a:lnTo>
                <a:lnTo>
                  <a:pt x="1966" y="1080"/>
                </a:lnTo>
                <a:lnTo>
                  <a:pt x="1898" y="1029"/>
                </a:lnTo>
                <a:lnTo>
                  <a:pt x="1792" y="1078"/>
                </a:lnTo>
                <a:lnTo>
                  <a:pt x="1847" y="1190"/>
                </a:lnTo>
                <a:lnTo>
                  <a:pt x="1880" y="1161"/>
                </a:lnTo>
                <a:lnTo>
                  <a:pt x="1995" y="1245"/>
                </a:lnTo>
                <a:lnTo>
                  <a:pt x="1998" y="1333"/>
                </a:lnTo>
                <a:lnTo>
                  <a:pt x="1878" y="1256"/>
                </a:lnTo>
                <a:lnTo>
                  <a:pt x="1764" y="1209"/>
                </a:lnTo>
                <a:lnTo>
                  <a:pt x="1742" y="1291"/>
                </a:lnTo>
                <a:lnTo>
                  <a:pt x="1807" y="1344"/>
                </a:lnTo>
                <a:lnTo>
                  <a:pt x="1726" y="1364"/>
                </a:lnTo>
                <a:lnTo>
                  <a:pt x="1970" y="1379"/>
                </a:lnTo>
                <a:lnTo>
                  <a:pt x="1815" y="1483"/>
                </a:lnTo>
                <a:lnTo>
                  <a:pt x="1662" y="1532"/>
                </a:lnTo>
                <a:lnTo>
                  <a:pt x="1546" y="1568"/>
                </a:lnTo>
                <a:lnTo>
                  <a:pt x="1487" y="1672"/>
                </a:lnTo>
                <a:lnTo>
                  <a:pt x="1368" y="1669"/>
                </a:lnTo>
                <a:lnTo>
                  <a:pt x="1348" y="1736"/>
                </a:lnTo>
                <a:lnTo>
                  <a:pt x="1277" y="1740"/>
                </a:lnTo>
                <a:lnTo>
                  <a:pt x="1236" y="1785"/>
                </a:lnTo>
                <a:lnTo>
                  <a:pt x="1253" y="1889"/>
                </a:lnTo>
                <a:lnTo>
                  <a:pt x="1174" y="1964"/>
                </a:lnTo>
                <a:lnTo>
                  <a:pt x="1200" y="2023"/>
                </a:lnTo>
                <a:lnTo>
                  <a:pt x="1162" y="2151"/>
                </a:lnTo>
                <a:lnTo>
                  <a:pt x="1087" y="2151"/>
                </a:lnTo>
                <a:lnTo>
                  <a:pt x="989" y="2080"/>
                </a:lnTo>
                <a:lnTo>
                  <a:pt x="910" y="2011"/>
                </a:lnTo>
                <a:lnTo>
                  <a:pt x="816" y="1843"/>
                </a:lnTo>
                <a:lnTo>
                  <a:pt x="763" y="1703"/>
                </a:lnTo>
                <a:lnTo>
                  <a:pt x="743" y="1601"/>
                </a:lnTo>
                <a:lnTo>
                  <a:pt x="780" y="1510"/>
                </a:lnTo>
                <a:lnTo>
                  <a:pt x="859" y="1428"/>
                </a:lnTo>
                <a:lnTo>
                  <a:pt x="878" y="1371"/>
                </a:lnTo>
                <a:lnTo>
                  <a:pt x="800" y="1363"/>
                </a:lnTo>
                <a:lnTo>
                  <a:pt x="717" y="1312"/>
                </a:lnTo>
                <a:lnTo>
                  <a:pt x="868" y="1312"/>
                </a:lnTo>
                <a:lnTo>
                  <a:pt x="775" y="1250"/>
                </a:lnTo>
                <a:lnTo>
                  <a:pt x="820" y="1228"/>
                </a:lnTo>
                <a:lnTo>
                  <a:pt x="736" y="1245"/>
                </a:lnTo>
                <a:lnTo>
                  <a:pt x="684" y="1250"/>
                </a:lnTo>
                <a:lnTo>
                  <a:pt x="678" y="1191"/>
                </a:lnTo>
                <a:lnTo>
                  <a:pt x="717" y="1116"/>
                </a:lnTo>
                <a:lnTo>
                  <a:pt x="628" y="971"/>
                </a:lnTo>
                <a:lnTo>
                  <a:pt x="558" y="846"/>
                </a:lnTo>
                <a:lnTo>
                  <a:pt x="471" y="807"/>
                </a:lnTo>
                <a:lnTo>
                  <a:pt x="300" y="821"/>
                </a:lnTo>
                <a:lnTo>
                  <a:pt x="130" y="782"/>
                </a:lnTo>
                <a:lnTo>
                  <a:pt x="185" y="751"/>
                </a:lnTo>
                <a:lnTo>
                  <a:pt x="56" y="723"/>
                </a:lnTo>
                <a:lnTo>
                  <a:pt x="280" y="653"/>
                </a:lnTo>
                <a:lnTo>
                  <a:pt x="140" y="669"/>
                </a:lnTo>
                <a:lnTo>
                  <a:pt x="0" y="59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87760" y="2611440"/>
            <a:ext cx="129960" cy="108000"/>
          </a:xfrm>
          <a:custGeom>
            <a:avLst/>
            <a:gdLst/>
            <a:ahLst/>
            <a:rect l="l" t="t" r="r" b="b"/>
            <a:pathLst>
              <a:path w="209" h="171">
                <a:moveTo>
                  <a:pt x="0" y="120"/>
                </a:moveTo>
                <a:lnTo>
                  <a:pt x="103" y="171"/>
                </a:lnTo>
                <a:lnTo>
                  <a:pt x="209" y="17"/>
                </a:lnTo>
                <a:lnTo>
                  <a:pt x="9" y="0"/>
                </a:lnTo>
                <a:lnTo>
                  <a:pt x="0" y="12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21080" y="2459160"/>
            <a:ext cx="122040" cy="93600"/>
          </a:xfrm>
          <a:custGeom>
            <a:avLst/>
            <a:gdLst/>
            <a:ahLst/>
            <a:rect l="l" t="t" r="r" b="b"/>
            <a:pathLst>
              <a:path w="194" h="146">
                <a:moveTo>
                  <a:pt x="0" y="102"/>
                </a:moveTo>
                <a:lnTo>
                  <a:pt x="19" y="11"/>
                </a:lnTo>
                <a:lnTo>
                  <a:pt x="175" y="0"/>
                </a:lnTo>
                <a:lnTo>
                  <a:pt x="194" y="113"/>
                </a:lnTo>
                <a:lnTo>
                  <a:pt x="167" y="146"/>
                </a:lnTo>
                <a:lnTo>
                  <a:pt x="72" y="142"/>
                </a:lnTo>
                <a:lnTo>
                  <a:pt x="0" y="102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21080" y="2611440"/>
            <a:ext cx="145800" cy="157320"/>
          </a:xfrm>
          <a:custGeom>
            <a:avLst/>
            <a:gdLst/>
            <a:ahLst/>
            <a:rect l="l" t="t" r="r" b="b"/>
            <a:pathLst>
              <a:path w="232" h="253">
                <a:moveTo>
                  <a:pt x="0" y="134"/>
                </a:moveTo>
                <a:lnTo>
                  <a:pt x="88" y="0"/>
                </a:lnTo>
                <a:lnTo>
                  <a:pt x="202" y="71"/>
                </a:lnTo>
                <a:lnTo>
                  <a:pt x="158" y="112"/>
                </a:lnTo>
                <a:lnTo>
                  <a:pt x="224" y="124"/>
                </a:lnTo>
                <a:lnTo>
                  <a:pt x="232" y="201"/>
                </a:lnTo>
                <a:lnTo>
                  <a:pt x="134" y="253"/>
                </a:lnTo>
                <a:lnTo>
                  <a:pt x="0" y="134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54240" y="2440080"/>
            <a:ext cx="297000" cy="149040"/>
          </a:xfrm>
          <a:custGeom>
            <a:avLst/>
            <a:gdLst/>
            <a:ahLst/>
            <a:rect l="l" t="t" r="r" b="b"/>
            <a:pathLst>
              <a:path w="475" h="239">
                <a:moveTo>
                  <a:pt x="0" y="153"/>
                </a:moveTo>
                <a:lnTo>
                  <a:pt x="102" y="38"/>
                </a:lnTo>
                <a:lnTo>
                  <a:pt x="197" y="69"/>
                </a:lnTo>
                <a:lnTo>
                  <a:pt x="245" y="130"/>
                </a:lnTo>
                <a:lnTo>
                  <a:pt x="339" y="134"/>
                </a:lnTo>
                <a:lnTo>
                  <a:pt x="281" y="43"/>
                </a:lnTo>
                <a:lnTo>
                  <a:pt x="344" y="0"/>
                </a:lnTo>
                <a:lnTo>
                  <a:pt x="372" y="58"/>
                </a:lnTo>
                <a:lnTo>
                  <a:pt x="442" y="81"/>
                </a:lnTo>
                <a:lnTo>
                  <a:pt x="475" y="123"/>
                </a:lnTo>
                <a:lnTo>
                  <a:pt x="449" y="174"/>
                </a:lnTo>
                <a:lnTo>
                  <a:pt x="348" y="172"/>
                </a:lnTo>
                <a:lnTo>
                  <a:pt x="196" y="239"/>
                </a:lnTo>
                <a:lnTo>
                  <a:pt x="0" y="153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28960" y="2390760"/>
            <a:ext cx="172800" cy="111240"/>
          </a:xfrm>
          <a:custGeom>
            <a:avLst/>
            <a:gdLst/>
            <a:ahLst/>
            <a:rect l="l" t="t" r="r" b="b"/>
            <a:pathLst>
              <a:path w="282" h="177">
                <a:moveTo>
                  <a:pt x="0" y="142"/>
                </a:moveTo>
                <a:lnTo>
                  <a:pt x="96" y="177"/>
                </a:lnTo>
                <a:lnTo>
                  <a:pt x="194" y="80"/>
                </a:lnTo>
                <a:lnTo>
                  <a:pt x="203" y="131"/>
                </a:lnTo>
                <a:lnTo>
                  <a:pt x="265" y="88"/>
                </a:lnTo>
                <a:lnTo>
                  <a:pt x="282" y="23"/>
                </a:lnTo>
                <a:lnTo>
                  <a:pt x="245" y="0"/>
                </a:lnTo>
                <a:lnTo>
                  <a:pt x="138" y="24"/>
                </a:lnTo>
                <a:lnTo>
                  <a:pt x="0" y="142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51240" y="2281320"/>
            <a:ext cx="152280" cy="92160"/>
          </a:xfrm>
          <a:custGeom>
            <a:avLst/>
            <a:gdLst/>
            <a:ahLst/>
            <a:rect l="l" t="t" r="r" b="b"/>
            <a:pathLst>
              <a:path w="245" h="147">
                <a:moveTo>
                  <a:pt x="0" y="0"/>
                </a:moveTo>
                <a:lnTo>
                  <a:pt x="20" y="54"/>
                </a:lnTo>
                <a:lnTo>
                  <a:pt x="22" y="91"/>
                </a:lnTo>
                <a:lnTo>
                  <a:pt x="245" y="147"/>
                </a:lnTo>
                <a:lnTo>
                  <a:pt x="229" y="68"/>
                </a:lnTo>
                <a:lnTo>
                  <a:pt x="127" y="11"/>
                </a:lnTo>
                <a:lnTo>
                  <a:pt x="86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54280" y="2425680"/>
            <a:ext cx="417600" cy="154080"/>
          </a:xfrm>
          <a:custGeom>
            <a:avLst/>
            <a:gdLst/>
            <a:ahLst/>
            <a:rect l="l" t="t" r="r" b="b"/>
            <a:pathLst>
              <a:path w="672" h="246">
                <a:moveTo>
                  <a:pt x="0" y="33"/>
                </a:moveTo>
                <a:lnTo>
                  <a:pt x="40" y="0"/>
                </a:lnTo>
                <a:lnTo>
                  <a:pt x="321" y="103"/>
                </a:lnTo>
                <a:lnTo>
                  <a:pt x="437" y="167"/>
                </a:lnTo>
                <a:lnTo>
                  <a:pt x="567" y="122"/>
                </a:lnTo>
                <a:lnTo>
                  <a:pt x="672" y="174"/>
                </a:lnTo>
                <a:lnTo>
                  <a:pt x="653" y="246"/>
                </a:lnTo>
                <a:lnTo>
                  <a:pt x="205" y="246"/>
                </a:lnTo>
                <a:lnTo>
                  <a:pt x="77" y="90"/>
                </a:lnTo>
                <a:lnTo>
                  <a:pt x="0" y="33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76680" y="2014560"/>
            <a:ext cx="742680" cy="469800"/>
          </a:xfrm>
          <a:custGeom>
            <a:avLst/>
            <a:gdLst/>
            <a:ahLst/>
            <a:rect l="l" t="t" r="r" b="b"/>
            <a:pathLst>
              <a:path w="1194" h="749">
                <a:moveTo>
                  <a:pt x="0" y="158"/>
                </a:moveTo>
                <a:lnTo>
                  <a:pt x="105" y="160"/>
                </a:lnTo>
                <a:lnTo>
                  <a:pt x="105" y="249"/>
                </a:lnTo>
                <a:lnTo>
                  <a:pt x="184" y="286"/>
                </a:lnTo>
                <a:lnTo>
                  <a:pt x="556" y="181"/>
                </a:lnTo>
                <a:lnTo>
                  <a:pt x="333" y="312"/>
                </a:lnTo>
                <a:lnTo>
                  <a:pt x="212" y="312"/>
                </a:lnTo>
                <a:lnTo>
                  <a:pt x="210" y="359"/>
                </a:lnTo>
                <a:lnTo>
                  <a:pt x="333" y="449"/>
                </a:lnTo>
                <a:lnTo>
                  <a:pt x="407" y="458"/>
                </a:lnTo>
                <a:lnTo>
                  <a:pt x="339" y="482"/>
                </a:lnTo>
                <a:lnTo>
                  <a:pt x="262" y="464"/>
                </a:lnTo>
                <a:lnTo>
                  <a:pt x="198" y="485"/>
                </a:lnTo>
                <a:lnTo>
                  <a:pt x="174" y="551"/>
                </a:lnTo>
                <a:lnTo>
                  <a:pt x="241" y="567"/>
                </a:lnTo>
                <a:lnTo>
                  <a:pt x="138" y="583"/>
                </a:lnTo>
                <a:lnTo>
                  <a:pt x="198" y="647"/>
                </a:lnTo>
                <a:lnTo>
                  <a:pt x="98" y="681"/>
                </a:lnTo>
                <a:lnTo>
                  <a:pt x="109" y="725"/>
                </a:lnTo>
                <a:lnTo>
                  <a:pt x="201" y="706"/>
                </a:lnTo>
                <a:lnTo>
                  <a:pt x="250" y="744"/>
                </a:lnTo>
                <a:lnTo>
                  <a:pt x="261" y="713"/>
                </a:lnTo>
                <a:lnTo>
                  <a:pt x="424" y="749"/>
                </a:lnTo>
                <a:lnTo>
                  <a:pt x="522" y="717"/>
                </a:lnTo>
                <a:lnTo>
                  <a:pt x="556" y="599"/>
                </a:lnTo>
                <a:lnTo>
                  <a:pt x="533" y="564"/>
                </a:lnTo>
                <a:lnTo>
                  <a:pt x="620" y="567"/>
                </a:lnTo>
                <a:lnTo>
                  <a:pt x="675" y="498"/>
                </a:lnTo>
                <a:lnTo>
                  <a:pt x="553" y="464"/>
                </a:lnTo>
                <a:lnTo>
                  <a:pt x="716" y="401"/>
                </a:lnTo>
                <a:lnTo>
                  <a:pt x="672" y="365"/>
                </a:lnTo>
                <a:lnTo>
                  <a:pt x="788" y="379"/>
                </a:lnTo>
                <a:lnTo>
                  <a:pt x="866" y="308"/>
                </a:lnTo>
                <a:lnTo>
                  <a:pt x="1068" y="187"/>
                </a:lnTo>
                <a:lnTo>
                  <a:pt x="846" y="228"/>
                </a:lnTo>
                <a:lnTo>
                  <a:pt x="974" y="179"/>
                </a:lnTo>
                <a:lnTo>
                  <a:pt x="878" y="153"/>
                </a:lnTo>
                <a:lnTo>
                  <a:pt x="1013" y="158"/>
                </a:lnTo>
                <a:lnTo>
                  <a:pt x="1194" y="97"/>
                </a:lnTo>
                <a:lnTo>
                  <a:pt x="1099" y="18"/>
                </a:lnTo>
                <a:lnTo>
                  <a:pt x="893" y="45"/>
                </a:lnTo>
                <a:lnTo>
                  <a:pt x="982" y="7"/>
                </a:lnTo>
                <a:lnTo>
                  <a:pt x="537" y="0"/>
                </a:lnTo>
                <a:lnTo>
                  <a:pt x="434" y="7"/>
                </a:lnTo>
                <a:lnTo>
                  <a:pt x="331" y="70"/>
                </a:lnTo>
                <a:lnTo>
                  <a:pt x="230" y="66"/>
                </a:lnTo>
                <a:lnTo>
                  <a:pt x="182" y="100"/>
                </a:lnTo>
                <a:lnTo>
                  <a:pt x="133" y="109"/>
                </a:lnTo>
                <a:lnTo>
                  <a:pt x="0" y="15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73360" y="2157480"/>
            <a:ext cx="271440" cy="204840"/>
          </a:xfrm>
          <a:custGeom>
            <a:avLst/>
            <a:gdLst/>
            <a:ahLst/>
            <a:rect l="l" t="t" r="r" b="b"/>
            <a:pathLst>
              <a:path w="437" h="328">
                <a:moveTo>
                  <a:pt x="0" y="84"/>
                </a:moveTo>
                <a:lnTo>
                  <a:pt x="108" y="65"/>
                </a:lnTo>
                <a:lnTo>
                  <a:pt x="52" y="20"/>
                </a:lnTo>
                <a:lnTo>
                  <a:pt x="188" y="0"/>
                </a:lnTo>
                <a:lnTo>
                  <a:pt x="218" y="65"/>
                </a:lnTo>
                <a:lnTo>
                  <a:pt x="335" y="84"/>
                </a:lnTo>
                <a:lnTo>
                  <a:pt x="335" y="167"/>
                </a:lnTo>
                <a:lnTo>
                  <a:pt x="409" y="166"/>
                </a:lnTo>
                <a:lnTo>
                  <a:pt x="437" y="206"/>
                </a:lnTo>
                <a:lnTo>
                  <a:pt x="317" y="225"/>
                </a:lnTo>
                <a:lnTo>
                  <a:pt x="295" y="328"/>
                </a:lnTo>
                <a:lnTo>
                  <a:pt x="168" y="321"/>
                </a:lnTo>
                <a:lnTo>
                  <a:pt x="99" y="233"/>
                </a:lnTo>
                <a:lnTo>
                  <a:pt x="238" y="199"/>
                </a:lnTo>
                <a:lnTo>
                  <a:pt x="68" y="206"/>
                </a:lnTo>
                <a:lnTo>
                  <a:pt x="0" y="84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0960" y="2629080"/>
            <a:ext cx="698400" cy="617400"/>
          </a:xfrm>
          <a:custGeom>
            <a:avLst/>
            <a:gdLst/>
            <a:ahLst/>
            <a:rect l="l" t="t" r="r" b="b"/>
            <a:pathLst>
              <a:path w="1121" h="990">
                <a:moveTo>
                  <a:pt x="0" y="217"/>
                </a:moveTo>
                <a:lnTo>
                  <a:pt x="8" y="109"/>
                </a:lnTo>
                <a:lnTo>
                  <a:pt x="133" y="0"/>
                </a:lnTo>
                <a:lnTo>
                  <a:pt x="200" y="8"/>
                </a:lnTo>
                <a:lnTo>
                  <a:pt x="144" y="133"/>
                </a:lnTo>
                <a:lnTo>
                  <a:pt x="192" y="201"/>
                </a:lnTo>
                <a:lnTo>
                  <a:pt x="207" y="131"/>
                </a:lnTo>
                <a:lnTo>
                  <a:pt x="249" y="46"/>
                </a:lnTo>
                <a:lnTo>
                  <a:pt x="335" y="5"/>
                </a:lnTo>
                <a:lnTo>
                  <a:pt x="356" y="173"/>
                </a:lnTo>
                <a:lnTo>
                  <a:pt x="484" y="95"/>
                </a:lnTo>
                <a:lnTo>
                  <a:pt x="577" y="119"/>
                </a:lnTo>
                <a:lnTo>
                  <a:pt x="617" y="173"/>
                </a:lnTo>
                <a:lnTo>
                  <a:pt x="658" y="229"/>
                </a:lnTo>
                <a:lnTo>
                  <a:pt x="687" y="194"/>
                </a:lnTo>
                <a:lnTo>
                  <a:pt x="761" y="246"/>
                </a:lnTo>
                <a:lnTo>
                  <a:pt x="770" y="299"/>
                </a:lnTo>
                <a:lnTo>
                  <a:pt x="857" y="316"/>
                </a:lnTo>
                <a:lnTo>
                  <a:pt x="897" y="348"/>
                </a:lnTo>
                <a:lnTo>
                  <a:pt x="830" y="383"/>
                </a:lnTo>
                <a:lnTo>
                  <a:pt x="921" y="400"/>
                </a:lnTo>
                <a:lnTo>
                  <a:pt x="850" y="462"/>
                </a:lnTo>
                <a:lnTo>
                  <a:pt x="941" y="518"/>
                </a:lnTo>
                <a:lnTo>
                  <a:pt x="984" y="505"/>
                </a:lnTo>
                <a:lnTo>
                  <a:pt x="1121" y="620"/>
                </a:lnTo>
                <a:lnTo>
                  <a:pt x="1042" y="694"/>
                </a:lnTo>
                <a:lnTo>
                  <a:pt x="1035" y="757"/>
                </a:lnTo>
                <a:lnTo>
                  <a:pt x="908" y="628"/>
                </a:lnTo>
                <a:lnTo>
                  <a:pt x="860" y="641"/>
                </a:lnTo>
                <a:lnTo>
                  <a:pt x="916" y="766"/>
                </a:lnTo>
                <a:lnTo>
                  <a:pt x="984" y="783"/>
                </a:lnTo>
                <a:lnTo>
                  <a:pt x="985" y="941"/>
                </a:lnTo>
                <a:lnTo>
                  <a:pt x="826" y="854"/>
                </a:lnTo>
                <a:lnTo>
                  <a:pt x="941" y="990"/>
                </a:lnTo>
                <a:lnTo>
                  <a:pt x="735" y="904"/>
                </a:lnTo>
                <a:lnTo>
                  <a:pt x="603" y="793"/>
                </a:lnTo>
                <a:lnTo>
                  <a:pt x="518" y="815"/>
                </a:lnTo>
                <a:lnTo>
                  <a:pt x="496" y="715"/>
                </a:lnTo>
                <a:lnTo>
                  <a:pt x="646" y="715"/>
                </a:lnTo>
                <a:lnTo>
                  <a:pt x="609" y="656"/>
                </a:lnTo>
                <a:lnTo>
                  <a:pt x="694" y="568"/>
                </a:lnTo>
                <a:lnTo>
                  <a:pt x="636" y="454"/>
                </a:lnTo>
                <a:lnTo>
                  <a:pt x="522" y="457"/>
                </a:lnTo>
                <a:lnTo>
                  <a:pt x="518" y="426"/>
                </a:lnTo>
                <a:lnTo>
                  <a:pt x="559" y="400"/>
                </a:lnTo>
                <a:lnTo>
                  <a:pt x="486" y="358"/>
                </a:lnTo>
                <a:lnTo>
                  <a:pt x="423" y="305"/>
                </a:lnTo>
                <a:lnTo>
                  <a:pt x="439" y="352"/>
                </a:lnTo>
                <a:lnTo>
                  <a:pt x="356" y="363"/>
                </a:lnTo>
                <a:lnTo>
                  <a:pt x="71" y="316"/>
                </a:lnTo>
                <a:lnTo>
                  <a:pt x="23" y="244"/>
                </a:lnTo>
                <a:lnTo>
                  <a:pt x="112" y="252"/>
                </a:lnTo>
                <a:lnTo>
                  <a:pt x="0" y="217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56000" y="2076480"/>
            <a:ext cx="2246400" cy="2232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81480" y="2000160"/>
            <a:ext cx="2228760" cy="22147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59360" y="3814920"/>
            <a:ext cx="133560" cy="82440"/>
          </a:xfrm>
          <a:custGeom>
            <a:avLst/>
            <a:gdLst/>
            <a:ahLst/>
            <a:rect l="l" t="t" r="r" b="b"/>
            <a:pathLst>
              <a:path w="213" h="129">
                <a:moveTo>
                  <a:pt x="154" y="0"/>
                </a:moveTo>
                <a:lnTo>
                  <a:pt x="213" y="30"/>
                </a:lnTo>
                <a:lnTo>
                  <a:pt x="198" y="83"/>
                </a:lnTo>
                <a:lnTo>
                  <a:pt x="164" y="101"/>
                </a:lnTo>
                <a:lnTo>
                  <a:pt x="132" y="101"/>
                </a:lnTo>
                <a:lnTo>
                  <a:pt x="91" y="123"/>
                </a:lnTo>
                <a:lnTo>
                  <a:pt x="37" y="129"/>
                </a:lnTo>
                <a:lnTo>
                  <a:pt x="12" y="108"/>
                </a:lnTo>
                <a:lnTo>
                  <a:pt x="0" y="83"/>
                </a:lnTo>
                <a:lnTo>
                  <a:pt x="37" y="18"/>
                </a:lnTo>
                <a:lnTo>
                  <a:pt x="88" y="0"/>
                </a:lnTo>
                <a:lnTo>
                  <a:pt x="127" y="8"/>
                </a:lnTo>
                <a:lnTo>
                  <a:pt x="154" y="0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24360" y="3592440"/>
            <a:ext cx="252720" cy="274680"/>
          </a:xfrm>
          <a:custGeom>
            <a:avLst/>
            <a:gdLst/>
            <a:ahLst/>
            <a:rect l="l" t="t" r="r" b="b"/>
            <a:pathLst>
              <a:path w="401" h="442">
                <a:moveTo>
                  <a:pt x="0" y="155"/>
                </a:moveTo>
                <a:lnTo>
                  <a:pt x="33" y="155"/>
                </a:lnTo>
                <a:lnTo>
                  <a:pt x="79" y="179"/>
                </a:lnTo>
                <a:lnTo>
                  <a:pt x="91" y="213"/>
                </a:lnTo>
                <a:lnTo>
                  <a:pt x="77" y="230"/>
                </a:lnTo>
                <a:lnTo>
                  <a:pt x="77" y="258"/>
                </a:lnTo>
                <a:lnTo>
                  <a:pt x="41" y="282"/>
                </a:lnTo>
                <a:lnTo>
                  <a:pt x="33" y="304"/>
                </a:lnTo>
                <a:lnTo>
                  <a:pt x="17" y="322"/>
                </a:lnTo>
                <a:lnTo>
                  <a:pt x="96" y="373"/>
                </a:lnTo>
                <a:lnTo>
                  <a:pt x="121" y="397"/>
                </a:lnTo>
                <a:lnTo>
                  <a:pt x="129" y="348"/>
                </a:lnTo>
                <a:lnTo>
                  <a:pt x="155" y="326"/>
                </a:lnTo>
                <a:lnTo>
                  <a:pt x="182" y="337"/>
                </a:lnTo>
                <a:lnTo>
                  <a:pt x="219" y="375"/>
                </a:lnTo>
                <a:lnTo>
                  <a:pt x="214" y="442"/>
                </a:lnTo>
                <a:lnTo>
                  <a:pt x="251" y="377"/>
                </a:lnTo>
                <a:lnTo>
                  <a:pt x="302" y="359"/>
                </a:lnTo>
                <a:lnTo>
                  <a:pt x="341" y="367"/>
                </a:lnTo>
                <a:lnTo>
                  <a:pt x="368" y="359"/>
                </a:lnTo>
                <a:lnTo>
                  <a:pt x="368" y="329"/>
                </a:lnTo>
                <a:lnTo>
                  <a:pt x="388" y="297"/>
                </a:lnTo>
                <a:lnTo>
                  <a:pt x="401" y="284"/>
                </a:lnTo>
                <a:lnTo>
                  <a:pt x="368" y="246"/>
                </a:lnTo>
                <a:lnTo>
                  <a:pt x="366" y="221"/>
                </a:lnTo>
                <a:lnTo>
                  <a:pt x="372" y="195"/>
                </a:lnTo>
                <a:lnTo>
                  <a:pt x="396" y="189"/>
                </a:lnTo>
                <a:lnTo>
                  <a:pt x="378" y="183"/>
                </a:lnTo>
                <a:lnTo>
                  <a:pt x="369" y="164"/>
                </a:lnTo>
                <a:lnTo>
                  <a:pt x="385" y="152"/>
                </a:lnTo>
                <a:lnTo>
                  <a:pt x="372" y="138"/>
                </a:lnTo>
                <a:lnTo>
                  <a:pt x="354" y="148"/>
                </a:lnTo>
                <a:lnTo>
                  <a:pt x="291" y="123"/>
                </a:lnTo>
                <a:lnTo>
                  <a:pt x="286" y="92"/>
                </a:lnTo>
                <a:lnTo>
                  <a:pt x="259" y="83"/>
                </a:lnTo>
                <a:lnTo>
                  <a:pt x="226" y="32"/>
                </a:lnTo>
                <a:lnTo>
                  <a:pt x="190" y="7"/>
                </a:lnTo>
                <a:lnTo>
                  <a:pt x="178" y="0"/>
                </a:lnTo>
                <a:lnTo>
                  <a:pt x="141" y="5"/>
                </a:lnTo>
                <a:lnTo>
                  <a:pt x="116" y="16"/>
                </a:lnTo>
                <a:lnTo>
                  <a:pt x="30" y="33"/>
                </a:lnTo>
                <a:lnTo>
                  <a:pt x="14" y="69"/>
                </a:lnTo>
                <a:lnTo>
                  <a:pt x="46" y="126"/>
                </a:lnTo>
                <a:lnTo>
                  <a:pt x="0" y="155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08800" y="3662280"/>
            <a:ext cx="174600" cy="130320"/>
          </a:xfrm>
          <a:custGeom>
            <a:avLst/>
            <a:gdLst/>
            <a:ahLst/>
            <a:rect l="l" t="t" r="r" b="b"/>
            <a:pathLst>
              <a:path w="280" h="211">
                <a:moveTo>
                  <a:pt x="185" y="198"/>
                </a:moveTo>
                <a:lnTo>
                  <a:pt x="123" y="181"/>
                </a:lnTo>
                <a:lnTo>
                  <a:pt x="127" y="175"/>
                </a:lnTo>
                <a:lnTo>
                  <a:pt x="158" y="186"/>
                </a:lnTo>
                <a:lnTo>
                  <a:pt x="158" y="182"/>
                </a:lnTo>
                <a:lnTo>
                  <a:pt x="103" y="143"/>
                </a:lnTo>
                <a:lnTo>
                  <a:pt x="78" y="135"/>
                </a:lnTo>
                <a:lnTo>
                  <a:pt x="68" y="108"/>
                </a:lnTo>
                <a:lnTo>
                  <a:pt x="28" y="79"/>
                </a:lnTo>
                <a:lnTo>
                  <a:pt x="31" y="53"/>
                </a:lnTo>
                <a:lnTo>
                  <a:pt x="0" y="28"/>
                </a:lnTo>
                <a:lnTo>
                  <a:pt x="5" y="3"/>
                </a:lnTo>
                <a:lnTo>
                  <a:pt x="16" y="0"/>
                </a:lnTo>
                <a:lnTo>
                  <a:pt x="55" y="12"/>
                </a:lnTo>
                <a:lnTo>
                  <a:pt x="82" y="32"/>
                </a:lnTo>
                <a:lnTo>
                  <a:pt x="103" y="35"/>
                </a:lnTo>
                <a:lnTo>
                  <a:pt x="158" y="45"/>
                </a:lnTo>
                <a:lnTo>
                  <a:pt x="222" y="44"/>
                </a:lnTo>
                <a:lnTo>
                  <a:pt x="268" y="68"/>
                </a:lnTo>
                <a:lnTo>
                  <a:pt x="280" y="102"/>
                </a:lnTo>
                <a:lnTo>
                  <a:pt x="266" y="119"/>
                </a:lnTo>
                <a:lnTo>
                  <a:pt x="266" y="147"/>
                </a:lnTo>
                <a:lnTo>
                  <a:pt x="230" y="173"/>
                </a:lnTo>
                <a:lnTo>
                  <a:pt x="222" y="193"/>
                </a:lnTo>
                <a:lnTo>
                  <a:pt x="206" y="211"/>
                </a:lnTo>
                <a:lnTo>
                  <a:pt x="185" y="198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04040" y="3575160"/>
            <a:ext cx="250560" cy="171360"/>
          </a:xfrm>
          <a:custGeom>
            <a:avLst/>
            <a:gdLst/>
            <a:ahLst/>
            <a:rect l="l" t="t" r="r" b="b"/>
            <a:pathLst>
              <a:path w="404" h="272">
                <a:moveTo>
                  <a:pt x="388" y="59"/>
                </a:moveTo>
                <a:lnTo>
                  <a:pt x="359" y="66"/>
                </a:lnTo>
                <a:lnTo>
                  <a:pt x="319" y="49"/>
                </a:lnTo>
                <a:lnTo>
                  <a:pt x="271" y="8"/>
                </a:lnTo>
                <a:lnTo>
                  <a:pt x="252" y="0"/>
                </a:lnTo>
                <a:lnTo>
                  <a:pt x="213" y="22"/>
                </a:lnTo>
                <a:lnTo>
                  <a:pt x="210" y="45"/>
                </a:lnTo>
                <a:lnTo>
                  <a:pt x="174" y="51"/>
                </a:lnTo>
                <a:lnTo>
                  <a:pt x="172" y="85"/>
                </a:lnTo>
                <a:lnTo>
                  <a:pt x="154" y="95"/>
                </a:lnTo>
                <a:lnTo>
                  <a:pt x="138" y="89"/>
                </a:lnTo>
                <a:lnTo>
                  <a:pt x="114" y="90"/>
                </a:lnTo>
                <a:lnTo>
                  <a:pt x="87" y="77"/>
                </a:lnTo>
                <a:lnTo>
                  <a:pt x="54" y="81"/>
                </a:lnTo>
                <a:lnTo>
                  <a:pt x="32" y="79"/>
                </a:lnTo>
                <a:lnTo>
                  <a:pt x="26" y="87"/>
                </a:lnTo>
                <a:lnTo>
                  <a:pt x="16" y="89"/>
                </a:lnTo>
                <a:lnTo>
                  <a:pt x="0" y="93"/>
                </a:lnTo>
                <a:lnTo>
                  <a:pt x="6" y="118"/>
                </a:lnTo>
                <a:lnTo>
                  <a:pt x="26" y="149"/>
                </a:lnTo>
                <a:lnTo>
                  <a:pt x="40" y="150"/>
                </a:lnTo>
                <a:lnTo>
                  <a:pt x="67" y="106"/>
                </a:lnTo>
                <a:lnTo>
                  <a:pt x="85" y="111"/>
                </a:lnTo>
                <a:lnTo>
                  <a:pt x="109" y="130"/>
                </a:lnTo>
                <a:lnTo>
                  <a:pt x="114" y="160"/>
                </a:lnTo>
                <a:lnTo>
                  <a:pt x="123" y="178"/>
                </a:lnTo>
                <a:lnTo>
                  <a:pt x="152" y="199"/>
                </a:lnTo>
                <a:lnTo>
                  <a:pt x="141" y="201"/>
                </a:lnTo>
                <a:lnTo>
                  <a:pt x="137" y="212"/>
                </a:lnTo>
                <a:lnTo>
                  <a:pt x="152" y="231"/>
                </a:lnTo>
                <a:lnTo>
                  <a:pt x="196" y="252"/>
                </a:lnTo>
                <a:lnTo>
                  <a:pt x="204" y="272"/>
                </a:lnTo>
                <a:lnTo>
                  <a:pt x="247" y="272"/>
                </a:lnTo>
                <a:lnTo>
                  <a:pt x="237" y="245"/>
                </a:lnTo>
                <a:lnTo>
                  <a:pt x="197" y="216"/>
                </a:lnTo>
                <a:lnTo>
                  <a:pt x="202" y="190"/>
                </a:lnTo>
                <a:lnTo>
                  <a:pt x="169" y="165"/>
                </a:lnTo>
                <a:lnTo>
                  <a:pt x="174" y="140"/>
                </a:lnTo>
                <a:lnTo>
                  <a:pt x="184" y="137"/>
                </a:lnTo>
                <a:lnTo>
                  <a:pt x="224" y="149"/>
                </a:lnTo>
                <a:lnTo>
                  <a:pt x="251" y="169"/>
                </a:lnTo>
                <a:lnTo>
                  <a:pt x="273" y="172"/>
                </a:lnTo>
                <a:lnTo>
                  <a:pt x="327" y="182"/>
                </a:lnTo>
                <a:lnTo>
                  <a:pt x="358" y="182"/>
                </a:lnTo>
                <a:lnTo>
                  <a:pt x="404" y="152"/>
                </a:lnTo>
                <a:lnTo>
                  <a:pt x="372" y="95"/>
                </a:lnTo>
                <a:lnTo>
                  <a:pt x="388" y="59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99000" y="3554280"/>
            <a:ext cx="163440" cy="81000"/>
          </a:xfrm>
          <a:custGeom>
            <a:avLst/>
            <a:gdLst/>
            <a:ahLst/>
            <a:rect l="l" t="t" r="r" b="b"/>
            <a:pathLst>
              <a:path w="260" h="129">
                <a:moveTo>
                  <a:pt x="237" y="4"/>
                </a:moveTo>
                <a:lnTo>
                  <a:pt x="214" y="0"/>
                </a:lnTo>
                <a:lnTo>
                  <a:pt x="200" y="13"/>
                </a:lnTo>
                <a:lnTo>
                  <a:pt x="176" y="10"/>
                </a:lnTo>
                <a:lnTo>
                  <a:pt x="166" y="12"/>
                </a:lnTo>
                <a:lnTo>
                  <a:pt x="160" y="21"/>
                </a:lnTo>
                <a:lnTo>
                  <a:pt x="131" y="16"/>
                </a:lnTo>
                <a:lnTo>
                  <a:pt x="111" y="20"/>
                </a:lnTo>
                <a:lnTo>
                  <a:pt x="86" y="37"/>
                </a:lnTo>
                <a:lnTo>
                  <a:pt x="18" y="33"/>
                </a:lnTo>
                <a:lnTo>
                  <a:pt x="0" y="60"/>
                </a:lnTo>
                <a:lnTo>
                  <a:pt x="10" y="61"/>
                </a:lnTo>
                <a:lnTo>
                  <a:pt x="4" y="77"/>
                </a:lnTo>
                <a:lnTo>
                  <a:pt x="11" y="96"/>
                </a:lnTo>
                <a:lnTo>
                  <a:pt x="40" y="113"/>
                </a:lnTo>
                <a:lnTo>
                  <a:pt x="62" y="115"/>
                </a:lnTo>
                <a:lnTo>
                  <a:pt x="95" y="111"/>
                </a:lnTo>
                <a:lnTo>
                  <a:pt x="122" y="124"/>
                </a:lnTo>
                <a:lnTo>
                  <a:pt x="146" y="123"/>
                </a:lnTo>
                <a:lnTo>
                  <a:pt x="162" y="129"/>
                </a:lnTo>
                <a:lnTo>
                  <a:pt x="180" y="119"/>
                </a:lnTo>
                <a:lnTo>
                  <a:pt x="182" y="85"/>
                </a:lnTo>
                <a:lnTo>
                  <a:pt x="218" y="79"/>
                </a:lnTo>
                <a:lnTo>
                  <a:pt x="221" y="56"/>
                </a:lnTo>
                <a:lnTo>
                  <a:pt x="260" y="34"/>
                </a:lnTo>
                <a:lnTo>
                  <a:pt x="237" y="4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9240" y="3795840"/>
            <a:ext cx="87120" cy="168120"/>
          </a:xfrm>
          <a:custGeom>
            <a:avLst/>
            <a:gdLst/>
            <a:ahLst/>
            <a:rect l="l" t="t" r="r" b="b"/>
            <a:pathLst>
              <a:path w="143" h="269">
                <a:moveTo>
                  <a:pt x="0" y="198"/>
                </a:moveTo>
                <a:lnTo>
                  <a:pt x="10" y="200"/>
                </a:lnTo>
                <a:lnTo>
                  <a:pt x="8" y="173"/>
                </a:lnTo>
                <a:lnTo>
                  <a:pt x="16" y="130"/>
                </a:lnTo>
                <a:lnTo>
                  <a:pt x="9" y="117"/>
                </a:lnTo>
                <a:lnTo>
                  <a:pt x="22" y="79"/>
                </a:lnTo>
                <a:lnTo>
                  <a:pt x="4" y="71"/>
                </a:lnTo>
                <a:lnTo>
                  <a:pt x="14" y="20"/>
                </a:lnTo>
                <a:lnTo>
                  <a:pt x="36" y="0"/>
                </a:lnTo>
                <a:lnTo>
                  <a:pt x="68" y="12"/>
                </a:lnTo>
                <a:lnTo>
                  <a:pt x="109" y="50"/>
                </a:lnTo>
                <a:lnTo>
                  <a:pt x="104" y="117"/>
                </a:lnTo>
                <a:lnTo>
                  <a:pt x="115" y="141"/>
                </a:lnTo>
                <a:lnTo>
                  <a:pt x="142" y="162"/>
                </a:lnTo>
                <a:lnTo>
                  <a:pt x="143" y="192"/>
                </a:lnTo>
                <a:lnTo>
                  <a:pt x="75" y="269"/>
                </a:lnTo>
                <a:lnTo>
                  <a:pt x="60" y="263"/>
                </a:lnTo>
                <a:lnTo>
                  <a:pt x="44" y="237"/>
                </a:lnTo>
                <a:lnTo>
                  <a:pt x="22" y="228"/>
                </a:lnTo>
                <a:lnTo>
                  <a:pt x="0" y="198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436920"/>
            <a:ext cx="384120" cy="142920"/>
          </a:xfrm>
          <a:custGeom>
            <a:avLst/>
            <a:gdLst/>
            <a:ahLst/>
            <a:rect l="l" t="t" r="r" b="b"/>
            <a:pathLst>
              <a:path w="619" h="228">
                <a:moveTo>
                  <a:pt x="0" y="137"/>
                </a:moveTo>
                <a:lnTo>
                  <a:pt x="13" y="145"/>
                </a:lnTo>
                <a:lnTo>
                  <a:pt x="24" y="150"/>
                </a:lnTo>
                <a:lnTo>
                  <a:pt x="25" y="158"/>
                </a:lnTo>
                <a:lnTo>
                  <a:pt x="17" y="180"/>
                </a:lnTo>
                <a:lnTo>
                  <a:pt x="43" y="190"/>
                </a:lnTo>
                <a:lnTo>
                  <a:pt x="65" y="186"/>
                </a:lnTo>
                <a:lnTo>
                  <a:pt x="77" y="192"/>
                </a:lnTo>
                <a:lnTo>
                  <a:pt x="101" y="196"/>
                </a:lnTo>
                <a:lnTo>
                  <a:pt x="154" y="182"/>
                </a:lnTo>
                <a:lnTo>
                  <a:pt x="214" y="173"/>
                </a:lnTo>
                <a:lnTo>
                  <a:pt x="226" y="198"/>
                </a:lnTo>
                <a:lnTo>
                  <a:pt x="242" y="208"/>
                </a:lnTo>
                <a:lnTo>
                  <a:pt x="262" y="214"/>
                </a:lnTo>
                <a:lnTo>
                  <a:pt x="338" y="225"/>
                </a:lnTo>
                <a:lnTo>
                  <a:pt x="407" y="228"/>
                </a:lnTo>
                <a:lnTo>
                  <a:pt x="431" y="212"/>
                </a:lnTo>
                <a:lnTo>
                  <a:pt x="452" y="208"/>
                </a:lnTo>
                <a:lnTo>
                  <a:pt x="479" y="212"/>
                </a:lnTo>
                <a:lnTo>
                  <a:pt x="487" y="202"/>
                </a:lnTo>
                <a:lnTo>
                  <a:pt x="494" y="201"/>
                </a:lnTo>
                <a:lnTo>
                  <a:pt x="519" y="204"/>
                </a:lnTo>
                <a:lnTo>
                  <a:pt x="534" y="190"/>
                </a:lnTo>
                <a:lnTo>
                  <a:pt x="566" y="176"/>
                </a:lnTo>
                <a:lnTo>
                  <a:pt x="565" y="153"/>
                </a:lnTo>
                <a:lnTo>
                  <a:pt x="578" y="133"/>
                </a:lnTo>
                <a:lnTo>
                  <a:pt x="567" y="122"/>
                </a:lnTo>
                <a:lnTo>
                  <a:pt x="574" y="113"/>
                </a:lnTo>
                <a:lnTo>
                  <a:pt x="613" y="113"/>
                </a:lnTo>
                <a:lnTo>
                  <a:pt x="619" y="106"/>
                </a:lnTo>
                <a:lnTo>
                  <a:pt x="619" y="82"/>
                </a:lnTo>
                <a:lnTo>
                  <a:pt x="599" y="42"/>
                </a:lnTo>
                <a:lnTo>
                  <a:pt x="599" y="28"/>
                </a:lnTo>
                <a:lnTo>
                  <a:pt x="587" y="16"/>
                </a:lnTo>
                <a:lnTo>
                  <a:pt x="535" y="20"/>
                </a:lnTo>
                <a:lnTo>
                  <a:pt x="503" y="1"/>
                </a:lnTo>
                <a:lnTo>
                  <a:pt x="452" y="0"/>
                </a:lnTo>
                <a:lnTo>
                  <a:pt x="439" y="20"/>
                </a:lnTo>
                <a:lnTo>
                  <a:pt x="412" y="32"/>
                </a:lnTo>
                <a:lnTo>
                  <a:pt x="379" y="32"/>
                </a:lnTo>
                <a:lnTo>
                  <a:pt x="349" y="22"/>
                </a:lnTo>
                <a:lnTo>
                  <a:pt x="348" y="31"/>
                </a:lnTo>
                <a:lnTo>
                  <a:pt x="322" y="38"/>
                </a:lnTo>
                <a:lnTo>
                  <a:pt x="310" y="58"/>
                </a:lnTo>
                <a:lnTo>
                  <a:pt x="279" y="67"/>
                </a:lnTo>
                <a:lnTo>
                  <a:pt x="273" y="80"/>
                </a:lnTo>
                <a:lnTo>
                  <a:pt x="282" y="125"/>
                </a:lnTo>
                <a:lnTo>
                  <a:pt x="273" y="129"/>
                </a:lnTo>
                <a:lnTo>
                  <a:pt x="266" y="121"/>
                </a:lnTo>
                <a:lnTo>
                  <a:pt x="227" y="117"/>
                </a:lnTo>
                <a:lnTo>
                  <a:pt x="221" y="121"/>
                </a:lnTo>
                <a:lnTo>
                  <a:pt x="172" y="126"/>
                </a:lnTo>
                <a:lnTo>
                  <a:pt x="144" y="141"/>
                </a:lnTo>
                <a:lnTo>
                  <a:pt x="87" y="130"/>
                </a:lnTo>
                <a:lnTo>
                  <a:pt x="64" y="149"/>
                </a:lnTo>
                <a:lnTo>
                  <a:pt x="31" y="131"/>
                </a:lnTo>
                <a:lnTo>
                  <a:pt x="0" y="137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70520" y="3297240"/>
            <a:ext cx="171360" cy="104760"/>
          </a:xfrm>
          <a:custGeom>
            <a:avLst/>
            <a:gdLst/>
            <a:ahLst/>
            <a:rect l="l" t="t" r="r" b="b"/>
            <a:pathLst>
              <a:path w="277" h="169">
                <a:moveTo>
                  <a:pt x="0" y="33"/>
                </a:moveTo>
                <a:lnTo>
                  <a:pt x="3" y="59"/>
                </a:lnTo>
                <a:lnTo>
                  <a:pt x="35" y="63"/>
                </a:lnTo>
                <a:lnTo>
                  <a:pt x="51" y="83"/>
                </a:lnTo>
                <a:lnTo>
                  <a:pt x="106" y="100"/>
                </a:lnTo>
                <a:lnTo>
                  <a:pt x="121" y="131"/>
                </a:lnTo>
                <a:lnTo>
                  <a:pt x="149" y="135"/>
                </a:lnTo>
                <a:lnTo>
                  <a:pt x="164" y="119"/>
                </a:lnTo>
                <a:lnTo>
                  <a:pt x="173" y="119"/>
                </a:lnTo>
                <a:lnTo>
                  <a:pt x="173" y="144"/>
                </a:lnTo>
                <a:lnTo>
                  <a:pt x="181" y="147"/>
                </a:lnTo>
                <a:lnTo>
                  <a:pt x="177" y="152"/>
                </a:lnTo>
                <a:lnTo>
                  <a:pt x="207" y="167"/>
                </a:lnTo>
                <a:lnTo>
                  <a:pt x="235" y="169"/>
                </a:lnTo>
                <a:lnTo>
                  <a:pt x="229" y="139"/>
                </a:lnTo>
                <a:lnTo>
                  <a:pt x="237" y="124"/>
                </a:lnTo>
                <a:lnTo>
                  <a:pt x="261" y="116"/>
                </a:lnTo>
                <a:lnTo>
                  <a:pt x="277" y="99"/>
                </a:lnTo>
                <a:lnTo>
                  <a:pt x="277" y="91"/>
                </a:lnTo>
                <a:lnTo>
                  <a:pt x="259" y="63"/>
                </a:lnTo>
                <a:lnTo>
                  <a:pt x="231" y="57"/>
                </a:lnTo>
                <a:lnTo>
                  <a:pt x="229" y="24"/>
                </a:lnTo>
                <a:lnTo>
                  <a:pt x="191" y="13"/>
                </a:lnTo>
                <a:lnTo>
                  <a:pt x="176" y="0"/>
                </a:lnTo>
                <a:lnTo>
                  <a:pt x="136" y="4"/>
                </a:lnTo>
                <a:lnTo>
                  <a:pt x="85" y="20"/>
                </a:lnTo>
                <a:lnTo>
                  <a:pt x="59" y="9"/>
                </a:lnTo>
                <a:lnTo>
                  <a:pt x="0" y="33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52960" y="3710160"/>
            <a:ext cx="316080" cy="163440"/>
          </a:xfrm>
          <a:custGeom>
            <a:avLst/>
            <a:gdLst/>
            <a:ahLst/>
            <a:rect l="l" t="t" r="r" b="b"/>
            <a:pathLst>
              <a:path w="509" h="261">
                <a:moveTo>
                  <a:pt x="0" y="33"/>
                </a:moveTo>
                <a:lnTo>
                  <a:pt x="3" y="58"/>
                </a:lnTo>
                <a:lnTo>
                  <a:pt x="39" y="96"/>
                </a:lnTo>
                <a:lnTo>
                  <a:pt x="20" y="109"/>
                </a:lnTo>
                <a:lnTo>
                  <a:pt x="3" y="140"/>
                </a:lnTo>
                <a:lnTo>
                  <a:pt x="3" y="170"/>
                </a:lnTo>
                <a:lnTo>
                  <a:pt x="36" y="194"/>
                </a:lnTo>
                <a:lnTo>
                  <a:pt x="47" y="251"/>
                </a:lnTo>
                <a:lnTo>
                  <a:pt x="122" y="246"/>
                </a:lnTo>
                <a:lnTo>
                  <a:pt x="169" y="234"/>
                </a:lnTo>
                <a:lnTo>
                  <a:pt x="252" y="261"/>
                </a:lnTo>
                <a:lnTo>
                  <a:pt x="283" y="254"/>
                </a:lnTo>
                <a:lnTo>
                  <a:pt x="301" y="239"/>
                </a:lnTo>
                <a:lnTo>
                  <a:pt x="304" y="215"/>
                </a:lnTo>
                <a:lnTo>
                  <a:pt x="320" y="214"/>
                </a:lnTo>
                <a:lnTo>
                  <a:pt x="386" y="192"/>
                </a:lnTo>
                <a:lnTo>
                  <a:pt x="414" y="204"/>
                </a:lnTo>
                <a:lnTo>
                  <a:pt x="457" y="202"/>
                </a:lnTo>
                <a:lnTo>
                  <a:pt x="435" y="164"/>
                </a:lnTo>
                <a:lnTo>
                  <a:pt x="415" y="150"/>
                </a:lnTo>
                <a:lnTo>
                  <a:pt x="450" y="125"/>
                </a:lnTo>
                <a:lnTo>
                  <a:pt x="450" y="91"/>
                </a:lnTo>
                <a:lnTo>
                  <a:pt x="469" y="73"/>
                </a:lnTo>
                <a:lnTo>
                  <a:pt x="495" y="67"/>
                </a:lnTo>
                <a:lnTo>
                  <a:pt x="509" y="36"/>
                </a:lnTo>
                <a:lnTo>
                  <a:pt x="482" y="37"/>
                </a:lnTo>
                <a:lnTo>
                  <a:pt x="453" y="20"/>
                </a:lnTo>
                <a:lnTo>
                  <a:pt x="399" y="4"/>
                </a:lnTo>
                <a:lnTo>
                  <a:pt x="371" y="4"/>
                </a:lnTo>
                <a:lnTo>
                  <a:pt x="249" y="45"/>
                </a:lnTo>
                <a:lnTo>
                  <a:pt x="55" y="30"/>
                </a:lnTo>
                <a:lnTo>
                  <a:pt x="39" y="21"/>
                </a:lnTo>
                <a:lnTo>
                  <a:pt x="47" y="4"/>
                </a:lnTo>
                <a:lnTo>
                  <a:pt x="28" y="0"/>
                </a:lnTo>
                <a:lnTo>
                  <a:pt x="3" y="8"/>
                </a:lnTo>
                <a:lnTo>
                  <a:pt x="0" y="33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9160" y="3317760"/>
            <a:ext cx="525600" cy="189000"/>
          </a:xfrm>
          <a:custGeom>
            <a:avLst/>
            <a:gdLst/>
            <a:ahLst/>
            <a:rect l="l" t="t" r="r" b="b"/>
            <a:pathLst>
              <a:path w="847" h="304">
                <a:moveTo>
                  <a:pt x="0" y="86"/>
                </a:moveTo>
                <a:lnTo>
                  <a:pt x="1" y="71"/>
                </a:lnTo>
                <a:lnTo>
                  <a:pt x="26" y="86"/>
                </a:lnTo>
                <a:lnTo>
                  <a:pt x="34" y="71"/>
                </a:lnTo>
                <a:lnTo>
                  <a:pt x="108" y="50"/>
                </a:lnTo>
                <a:lnTo>
                  <a:pt x="117" y="38"/>
                </a:lnTo>
                <a:lnTo>
                  <a:pt x="175" y="23"/>
                </a:lnTo>
                <a:lnTo>
                  <a:pt x="180" y="0"/>
                </a:lnTo>
                <a:lnTo>
                  <a:pt x="195" y="3"/>
                </a:lnTo>
                <a:lnTo>
                  <a:pt x="215" y="24"/>
                </a:lnTo>
                <a:lnTo>
                  <a:pt x="224" y="24"/>
                </a:lnTo>
                <a:lnTo>
                  <a:pt x="235" y="28"/>
                </a:lnTo>
                <a:lnTo>
                  <a:pt x="256" y="12"/>
                </a:lnTo>
                <a:lnTo>
                  <a:pt x="278" y="28"/>
                </a:lnTo>
                <a:lnTo>
                  <a:pt x="323" y="31"/>
                </a:lnTo>
                <a:lnTo>
                  <a:pt x="334" y="45"/>
                </a:lnTo>
                <a:lnTo>
                  <a:pt x="353" y="46"/>
                </a:lnTo>
                <a:lnTo>
                  <a:pt x="346" y="62"/>
                </a:lnTo>
                <a:lnTo>
                  <a:pt x="386" y="86"/>
                </a:lnTo>
                <a:lnTo>
                  <a:pt x="404" y="78"/>
                </a:lnTo>
                <a:lnTo>
                  <a:pt x="401" y="65"/>
                </a:lnTo>
                <a:lnTo>
                  <a:pt x="465" y="77"/>
                </a:lnTo>
                <a:lnTo>
                  <a:pt x="467" y="93"/>
                </a:lnTo>
                <a:lnTo>
                  <a:pt x="500" y="105"/>
                </a:lnTo>
                <a:lnTo>
                  <a:pt x="528" y="134"/>
                </a:lnTo>
                <a:lnTo>
                  <a:pt x="574" y="149"/>
                </a:lnTo>
                <a:lnTo>
                  <a:pt x="604" y="141"/>
                </a:lnTo>
                <a:lnTo>
                  <a:pt x="642" y="168"/>
                </a:lnTo>
                <a:lnTo>
                  <a:pt x="654" y="172"/>
                </a:lnTo>
                <a:lnTo>
                  <a:pt x="679" y="156"/>
                </a:lnTo>
                <a:lnTo>
                  <a:pt x="709" y="156"/>
                </a:lnTo>
                <a:lnTo>
                  <a:pt x="724" y="164"/>
                </a:lnTo>
                <a:lnTo>
                  <a:pt x="769" y="152"/>
                </a:lnTo>
                <a:lnTo>
                  <a:pt x="788" y="153"/>
                </a:lnTo>
                <a:lnTo>
                  <a:pt x="847" y="181"/>
                </a:lnTo>
                <a:lnTo>
                  <a:pt x="819" y="245"/>
                </a:lnTo>
                <a:lnTo>
                  <a:pt x="800" y="249"/>
                </a:lnTo>
                <a:lnTo>
                  <a:pt x="753" y="232"/>
                </a:lnTo>
                <a:lnTo>
                  <a:pt x="709" y="233"/>
                </a:lnTo>
                <a:lnTo>
                  <a:pt x="686" y="244"/>
                </a:lnTo>
                <a:lnTo>
                  <a:pt x="679" y="256"/>
                </a:lnTo>
                <a:lnTo>
                  <a:pt x="647" y="267"/>
                </a:lnTo>
                <a:lnTo>
                  <a:pt x="620" y="260"/>
                </a:lnTo>
                <a:lnTo>
                  <a:pt x="551" y="280"/>
                </a:lnTo>
                <a:lnTo>
                  <a:pt x="532" y="303"/>
                </a:lnTo>
                <a:lnTo>
                  <a:pt x="475" y="304"/>
                </a:lnTo>
                <a:lnTo>
                  <a:pt x="418" y="275"/>
                </a:lnTo>
                <a:lnTo>
                  <a:pt x="398" y="235"/>
                </a:lnTo>
                <a:lnTo>
                  <a:pt x="398" y="221"/>
                </a:lnTo>
                <a:lnTo>
                  <a:pt x="386" y="209"/>
                </a:lnTo>
                <a:lnTo>
                  <a:pt x="334" y="213"/>
                </a:lnTo>
                <a:lnTo>
                  <a:pt x="302" y="194"/>
                </a:lnTo>
                <a:lnTo>
                  <a:pt x="251" y="193"/>
                </a:lnTo>
                <a:lnTo>
                  <a:pt x="238" y="213"/>
                </a:lnTo>
                <a:lnTo>
                  <a:pt x="211" y="225"/>
                </a:lnTo>
                <a:lnTo>
                  <a:pt x="178" y="225"/>
                </a:lnTo>
                <a:lnTo>
                  <a:pt x="148" y="215"/>
                </a:lnTo>
                <a:lnTo>
                  <a:pt x="48" y="149"/>
                </a:lnTo>
                <a:lnTo>
                  <a:pt x="33" y="134"/>
                </a:lnTo>
                <a:lnTo>
                  <a:pt x="32" y="101"/>
                </a:lnTo>
                <a:lnTo>
                  <a:pt x="0" y="86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32240" y="2941560"/>
            <a:ext cx="141480" cy="163440"/>
          </a:xfrm>
          <a:custGeom>
            <a:avLst/>
            <a:gdLst/>
            <a:ahLst/>
            <a:rect l="l" t="t" r="r" b="b"/>
            <a:pathLst>
              <a:path w="225" h="259">
                <a:moveTo>
                  <a:pt x="0" y="120"/>
                </a:moveTo>
                <a:lnTo>
                  <a:pt x="8" y="167"/>
                </a:lnTo>
                <a:lnTo>
                  <a:pt x="4" y="195"/>
                </a:lnTo>
                <a:lnTo>
                  <a:pt x="18" y="192"/>
                </a:lnTo>
                <a:lnTo>
                  <a:pt x="31" y="198"/>
                </a:lnTo>
                <a:lnTo>
                  <a:pt x="49" y="214"/>
                </a:lnTo>
                <a:lnTo>
                  <a:pt x="51" y="255"/>
                </a:lnTo>
                <a:lnTo>
                  <a:pt x="97" y="259"/>
                </a:lnTo>
                <a:lnTo>
                  <a:pt x="110" y="255"/>
                </a:lnTo>
                <a:lnTo>
                  <a:pt x="130" y="255"/>
                </a:lnTo>
                <a:lnTo>
                  <a:pt x="110" y="239"/>
                </a:lnTo>
                <a:lnTo>
                  <a:pt x="110" y="231"/>
                </a:lnTo>
                <a:lnTo>
                  <a:pt x="123" y="224"/>
                </a:lnTo>
                <a:lnTo>
                  <a:pt x="119" y="199"/>
                </a:lnTo>
                <a:lnTo>
                  <a:pt x="133" y="190"/>
                </a:lnTo>
                <a:lnTo>
                  <a:pt x="122" y="180"/>
                </a:lnTo>
                <a:lnTo>
                  <a:pt x="150" y="179"/>
                </a:lnTo>
                <a:lnTo>
                  <a:pt x="144" y="167"/>
                </a:lnTo>
                <a:lnTo>
                  <a:pt x="168" y="164"/>
                </a:lnTo>
                <a:lnTo>
                  <a:pt x="174" y="158"/>
                </a:lnTo>
                <a:lnTo>
                  <a:pt x="178" y="135"/>
                </a:lnTo>
                <a:lnTo>
                  <a:pt x="186" y="133"/>
                </a:lnTo>
                <a:lnTo>
                  <a:pt x="192" y="144"/>
                </a:lnTo>
                <a:lnTo>
                  <a:pt x="225" y="127"/>
                </a:lnTo>
                <a:lnTo>
                  <a:pt x="221" y="111"/>
                </a:lnTo>
                <a:lnTo>
                  <a:pt x="190" y="113"/>
                </a:lnTo>
                <a:lnTo>
                  <a:pt x="174" y="108"/>
                </a:lnTo>
                <a:lnTo>
                  <a:pt x="168" y="113"/>
                </a:lnTo>
                <a:lnTo>
                  <a:pt x="165" y="104"/>
                </a:lnTo>
                <a:lnTo>
                  <a:pt x="174" y="97"/>
                </a:lnTo>
                <a:lnTo>
                  <a:pt x="158" y="97"/>
                </a:lnTo>
                <a:lnTo>
                  <a:pt x="158" y="93"/>
                </a:lnTo>
                <a:lnTo>
                  <a:pt x="172" y="89"/>
                </a:lnTo>
                <a:lnTo>
                  <a:pt x="177" y="58"/>
                </a:lnTo>
                <a:lnTo>
                  <a:pt x="192" y="41"/>
                </a:lnTo>
                <a:lnTo>
                  <a:pt x="185" y="16"/>
                </a:lnTo>
                <a:lnTo>
                  <a:pt x="190" y="0"/>
                </a:lnTo>
                <a:lnTo>
                  <a:pt x="146" y="13"/>
                </a:lnTo>
                <a:lnTo>
                  <a:pt x="103" y="46"/>
                </a:lnTo>
                <a:lnTo>
                  <a:pt x="42" y="54"/>
                </a:lnTo>
                <a:lnTo>
                  <a:pt x="22" y="72"/>
                </a:lnTo>
                <a:lnTo>
                  <a:pt x="0" y="120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19720" y="3060720"/>
            <a:ext cx="57240" cy="33480"/>
          </a:xfrm>
          <a:custGeom>
            <a:avLst/>
            <a:gdLst/>
            <a:ahLst/>
            <a:rect l="l" t="t" r="r" b="b"/>
            <a:pathLst>
              <a:path w="94" h="53">
                <a:moveTo>
                  <a:pt x="0" y="10"/>
                </a:moveTo>
                <a:lnTo>
                  <a:pt x="14" y="38"/>
                </a:lnTo>
                <a:lnTo>
                  <a:pt x="36" y="42"/>
                </a:lnTo>
                <a:lnTo>
                  <a:pt x="30" y="51"/>
                </a:lnTo>
                <a:lnTo>
                  <a:pt x="46" y="47"/>
                </a:lnTo>
                <a:lnTo>
                  <a:pt x="67" y="53"/>
                </a:lnTo>
                <a:lnTo>
                  <a:pt x="86" y="50"/>
                </a:lnTo>
                <a:lnTo>
                  <a:pt x="94" y="30"/>
                </a:lnTo>
                <a:lnTo>
                  <a:pt x="83" y="27"/>
                </a:lnTo>
                <a:lnTo>
                  <a:pt x="70" y="0"/>
                </a:lnTo>
                <a:lnTo>
                  <a:pt x="62" y="10"/>
                </a:lnTo>
                <a:lnTo>
                  <a:pt x="40" y="4"/>
                </a:lnTo>
                <a:lnTo>
                  <a:pt x="18" y="12"/>
                </a:lnTo>
                <a:lnTo>
                  <a:pt x="0" y="10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80200" y="3030480"/>
            <a:ext cx="88560" cy="66600"/>
          </a:xfrm>
          <a:custGeom>
            <a:avLst/>
            <a:gdLst/>
            <a:ahLst/>
            <a:rect l="l" t="t" r="r" b="b"/>
            <a:pathLst>
              <a:path w="142" h="105">
                <a:moveTo>
                  <a:pt x="0" y="39"/>
                </a:moveTo>
                <a:lnTo>
                  <a:pt x="8" y="42"/>
                </a:lnTo>
                <a:lnTo>
                  <a:pt x="7" y="47"/>
                </a:lnTo>
                <a:lnTo>
                  <a:pt x="20" y="51"/>
                </a:lnTo>
                <a:lnTo>
                  <a:pt x="15" y="72"/>
                </a:lnTo>
                <a:lnTo>
                  <a:pt x="28" y="78"/>
                </a:lnTo>
                <a:lnTo>
                  <a:pt x="28" y="86"/>
                </a:lnTo>
                <a:lnTo>
                  <a:pt x="66" y="90"/>
                </a:lnTo>
                <a:lnTo>
                  <a:pt x="58" y="99"/>
                </a:lnTo>
                <a:lnTo>
                  <a:pt x="97" y="105"/>
                </a:lnTo>
                <a:lnTo>
                  <a:pt x="99" y="84"/>
                </a:lnTo>
                <a:lnTo>
                  <a:pt x="122" y="82"/>
                </a:lnTo>
                <a:lnTo>
                  <a:pt x="118" y="67"/>
                </a:lnTo>
                <a:lnTo>
                  <a:pt x="106" y="66"/>
                </a:lnTo>
                <a:lnTo>
                  <a:pt x="110" y="54"/>
                </a:lnTo>
                <a:lnTo>
                  <a:pt x="118" y="48"/>
                </a:lnTo>
                <a:lnTo>
                  <a:pt x="142" y="44"/>
                </a:lnTo>
                <a:lnTo>
                  <a:pt x="133" y="20"/>
                </a:lnTo>
                <a:lnTo>
                  <a:pt x="115" y="0"/>
                </a:lnTo>
                <a:lnTo>
                  <a:pt x="90" y="5"/>
                </a:lnTo>
                <a:lnTo>
                  <a:pt x="79" y="14"/>
                </a:lnTo>
                <a:lnTo>
                  <a:pt x="91" y="22"/>
                </a:lnTo>
                <a:lnTo>
                  <a:pt x="90" y="43"/>
                </a:lnTo>
                <a:lnTo>
                  <a:pt x="83" y="40"/>
                </a:lnTo>
                <a:lnTo>
                  <a:pt x="89" y="34"/>
                </a:lnTo>
                <a:lnTo>
                  <a:pt x="82" y="23"/>
                </a:lnTo>
                <a:lnTo>
                  <a:pt x="71" y="42"/>
                </a:lnTo>
                <a:lnTo>
                  <a:pt x="63" y="39"/>
                </a:lnTo>
                <a:lnTo>
                  <a:pt x="64" y="30"/>
                </a:lnTo>
                <a:lnTo>
                  <a:pt x="68" y="16"/>
                </a:lnTo>
                <a:lnTo>
                  <a:pt x="40" y="16"/>
                </a:lnTo>
                <a:lnTo>
                  <a:pt x="50" y="23"/>
                </a:lnTo>
                <a:lnTo>
                  <a:pt x="44" y="28"/>
                </a:lnTo>
                <a:lnTo>
                  <a:pt x="36" y="28"/>
                </a:lnTo>
                <a:lnTo>
                  <a:pt x="34" y="36"/>
                </a:lnTo>
                <a:lnTo>
                  <a:pt x="0" y="39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84880" y="3098880"/>
            <a:ext cx="38160" cy="17280"/>
          </a:xfrm>
          <a:custGeom>
            <a:avLst/>
            <a:gdLst/>
            <a:ahLst/>
            <a:rect l="l" t="t" r="r" b="b"/>
            <a:pathLst>
              <a:path w="63" h="32">
                <a:moveTo>
                  <a:pt x="0" y="15"/>
                </a:moveTo>
                <a:lnTo>
                  <a:pt x="8" y="11"/>
                </a:lnTo>
                <a:lnTo>
                  <a:pt x="0" y="6"/>
                </a:lnTo>
                <a:lnTo>
                  <a:pt x="21" y="0"/>
                </a:lnTo>
                <a:lnTo>
                  <a:pt x="36" y="11"/>
                </a:lnTo>
                <a:lnTo>
                  <a:pt x="51" y="8"/>
                </a:lnTo>
                <a:lnTo>
                  <a:pt x="63" y="28"/>
                </a:lnTo>
                <a:lnTo>
                  <a:pt x="33" y="32"/>
                </a:lnTo>
                <a:lnTo>
                  <a:pt x="0" y="15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65800" y="2684520"/>
            <a:ext cx="25200" cy="19080"/>
          </a:xfrm>
          <a:custGeom>
            <a:avLst/>
            <a:gdLst/>
            <a:ahLst/>
            <a:rect l="l" t="t" r="r" b="b"/>
            <a:pathLst>
              <a:path w="41" h="31">
                <a:moveTo>
                  <a:pt x="0" y="13"/>
                </a:moveTo>
                <a:lnTo>
                  <a:pt x="7" y="0"/>
                </a:lnTo>
                <a:lnTo>
                  <a:pt x="36" y="16"/>
                </a:lnTo>
                <a:lnTo>
                  <a:pt x="41" y="31"/>
                </a:lnTo>
                <a:lnTo>
                  <a:pt x="29" y="31"/>
                </a:lnTo>
                <a:lnTo>
                  <a:pt x="29" y="23"/>
                </a:lnTo>
                <a:lnTo>
                  <a:pt x="0" y="13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81640" y="2720880"/>
            <a:ext cx="9360" cy="14400"/>
          </a:xfrm>
          <a:custGeom>
            <a:avLst/>
            <a:gdLst/>
            <a:ahLst/>
            <a:rect l="l" t="t" r="r" b="b"/>
            <a:pathLst>
              <a:path w="13" h="23">
                <a:moveTo>
                  <a:pt x="0" y="0"/>
                </a:moveTo>
                <a:lnTo>
                  <a:pt x="1" y="16"/>
                </a:lnTo>
                <a:lnTo>
                  <a:pt x="8" y="23"/>
                </a:lnTo>
                <a:lnTo>
                  <a:pt x="13" y="16"/>
                </a:lnTo>
                <a:lnTo>
                  <a:pt x="0" y="0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64400" y="2243160"/>
            <a:ext cx="541080" cy="577800"/>
          </a:xfrm>
          <a:custGeom>
            <a:avLst/>
            <a:gdLst/>
            <a:ahLst/>
            <a:rect l="l" t="t" r="r" b="b"/>
            <a:pathLst>
              <a:path w="873" h="923">
                <a:moveTo>
                  <a:pt x="0" y="89"/>
                </a:moveTo>
                <a:lnTo>
                  <a:pt x="4" y="85"/>
                </a:lnTo>
                <a:lnTo>
                  <a:pt x="45" y="83"/>
                </a:lnTo>
                <a:lnTo>
                  <a:pt x="37" y="69"/>
                </a:lnTo>
                <a:lnTo>
                  <a:pt x="57" y="65"/>
                </a:lnTo>
                <a:lnTo>
                  <a:pt x="94" y="75"/>
                </a:lnTo>
                <a:lnTo>
                  <a:pt x="152" y="118"/>
                </a:lnTo>
                <a:lnTo>
                  <a:pt x="229" y="122"/>
                </a:lnTo>
                <a:lnTo>
                  <a:pt x="277" y="107"/>
                </a:lnTo>
                <a:lnTo>
                  <a:pt x="324" y="125"/>
                </a:lnTo>
                <a:lnTo>
                  <a:pt x="418" y="97"/>
                </a:lnTo>
                <a:lnTo>
                  <a:pt x="423" y="43"/>
                </a:lnTo>
                <a:lnTo>
                  <a:pt x="441" y="24"/>
                </a:lnTo>
                <a:lnTo>
                  <a:pt x="478" y="12"/>
                </a:lnTo>
                <a:lnTo>
                  <a:pt x="605" y="0"/>
                </a:lnTo>
                <a:lnTo>
                  <a:pt x="627" y="14"/>
                </a:lnTo>
                <a:lnTo>
                  <a:pt x="695" y="32"/>
                </a:lnTo>
                <a:lnTo>
                  <a:pt x="708" y="58"/>
                </a:lnTo>
                <a:lnTo>
                  <a:pt x="674" y="79"/>
                </a:lnTo>
                <a:lnTo>
                  <a:pt x="687" y="90"/>
                </a:lnTo>
                <a:lnTo>
                  <a:pt x="641" y="107"/>
                </a:lnTo>
                <a:lnTo>
                  <a:pt x="659" y="111"/>
                </a:lnTo>
                <a:lnTo>
                  <a:pt x="641" y="150"/>
                </a:lnTo>
                <a:lnTo>
                  <a:pt x="659" y="166"/>
                </a:lnTo>
                <a:lnTo>
                  <a:pt x="715" y="177"/>
                </a:lnTo>
                <a:lnTo>
                  <a:pt x="762" y="223"/>
                </a:lnTo>
                <a:lnTo>
                  <a:pt x="700" y="283"/>
                </a:lnTo>
                <a:lnTo>
                  <a:pt x="775" y="385"/>
                </a:lnTo>
                <a:lnTo>
                  <a:pt x="743" y="429"/>
                </a:lnTo>
                <a:lnTo>
                  <a:pt x="743" y="472"/>
                </a:lnTo>
                <a:lnTo>
                  <a:pt x="769" y="474"/>
                </a:lnTo>
                <a:lnTo>
                  <a:pt x="811" y="524"/>
                </a:lnTo>
                <a:lnTo>
                  <a:pt x="782" y="573"/>
                </a:lnTo>
                <a:lnTo>
                  <a:pt x="873" y="634"/>
                </a:lnTo>
                <a:lnTo>
                  <a:pt x="873" y="663"/>
                </a:lnTo>
                <a:lnTo>
                  <a:pt x="754" y="761"/>
                </a:lnTo>
                <a:lnTo>
                  <a:pt x="568" y="856"/>
                </a:lnTo>
                <a:lnTo>
                  <a:pt x="558" y="862"/>
                </a:lnTo>
                <a:lnTo>
                  <a:pt x="517" y="856"/>
                </a:lnTo>
                <a:lnTo>
                  <a:pt x="450" y="869"/>
                </a:lnTo>
                <a:lnTo>
                  <a:pt x="425" y="865"/>
                </a:lnTo>
                <a:lnTo>
                  <a:pt x="429" y="873"/>
                </a:lnTo>
                <a:lnTo>
                  <a:pt x="403" y="880"/>
                </a:lnTo>
                <a:lnTo>
                  <a:pt x="395" y="871"/>
                </a:lnTo>
                <a:lnTo>
                  <a:pt x="383" y="883"/>
                </a:lnTo>
                <a:lnTo>
                  <a:pt x="350" y="891"/>
                </a:lnTo>
                <a:lnTo>
                  <a:pt x="328" y="891"/>
                </a:lnTo>
                <a:lnTo>
                  <a:pt x="300" y="904"/>
                </a:lnTo>
                <a:lnTo>
                  <a:pt x="268" y="903"/>
                </a:lnTo>
                <a:lnTo>
                  <a:pt x="231" y="912"/>
                </a:lnTo>
                <a:lnTo>
                  <a:pt x="224" y="911"/>
                </a:lnTo>
                <a:lnTo>
                  <a:pt x="223" y="901"/>
                </a:lnTo>
                <a:lnTo>
                  <a:pt x="207" y="917"/>
                </a:lnTo>
                <a:lnTo>
                  <a:pt x="192" y="923"/>
                </a:lnTo>
                <a:lnTo>
                  <a:pt x="185" y="923"/>
                </a:lnTo>
                <a:lnTo>
                  <a:pt x="201" y="911"/>
                </a:lnTo>
                <a:lnTo>
                  <a:pt x="192" y="907"/>
                </a:lnTo>
                <a:lnTo>
                  <a:pt x="180" y="889"/>
                </a:lnTo>
                <a:lnTo>
                  <a:pt x="178" y="875"/>
                </a:lnTo>
                <a:lnTo>
                  <a:pt x="156" y="883"/>
                </a:lnTo>
                <a:lnTo>
                  <a:pt x="145" y="879"/>
                </a:lnTo>
                <a:lnTo>
                  <a:pt x="145" y="869"/>
                </a:lnTo>
                <a:lnTo>
                  <a:pt x="105" y="861"/>
                </a:lnTo>
                <a:lnTo>
                  <a:pt x="79" y="849"/>
                </a:lnTo>
                <a:lnTo>
                  <a:pt x="59" y="849"/>
                </a:lnTo>
                <a:lnTo>
                  <a:pt x="66" y="838"/>
                </a:lnTo>
                <a:lnTo>
                  <a:pt x="57" y="836"/>
                </a:lnTo>
                <a:lnTo>
                  <a:pt x="50" y="820"/>
                </a:lnTo>
                <a:lnTo>
                  <a:pt x="66" y="800"/>
                </a:lnTo>
                <a:lnTo>
                  <a:pt x="65" y="770"/>
                </a:lnTo>
                <a:lnTo>
                  <a:pt x="77" y="769"/>
                </a:lnTo>
                <a:lnTo>
                  <a:pt x="82" y="773"/>
                </a:lnTo>
                <a:lnTo>
                  <a:pt x="45" y="723"/>
                </a:lnTo>
                <a:lnTo>
                  <a:pt x="51" y="702"/>
                </a:lnTo>
                <a:lnTo>
                  <a:pt x="31" y="668"/>
                </a:lnTo>
                <a:lnTo>
                  <a:pt x="38" y="655"/>
                </a:lnTo>
                <a:lnTo>
                  <a:pt x="59" y="646"/>
                </a:lnTo>
                <a:lnTo>
                  <a:pt x="61" y="636"/>
                </a:lnTo>
                <a:lnTo>
                  <a:pt x="94" y="634"/>
                </a:lnTo>
                <a:lnTo>
                  <a:pt x="81" y="626"/>
                </a:lnTo>
                <a:lnTo>
                  <a:pt x="89" y="615"/>
                </a:lnTo>
                <a:lnTo>
                  <a:pt x="134" y="616"/>
                </a:lnTo>
                <a:lnTo>
                  <a:pt x="174" y="593"/>
                </a:lnTo>
                <a:lnTo>
                  <a:pt x="231" y="548"/>
                </a:lnTo>
                <a:lnTo>
                  <a:pt x="315" y="498"/>
                </a:lnTo>
                <a:lnTo>
                  <a:pt x="328" y="473"/>
                </a:lnTo>
                <a:lnTo>
                  <a:pt x="370" y="468"/>
                </a:lnTo>
                <a:lnTo>
                  <a:pt x="384" y="472"/>
                </a:lnTo>
                <a:lnTo>
                  <a:pt x="386" y="460"/>
                </a:lnTo>
                <a:lnTo>
                  <a:pt x="397" y="461"/>
                </a:lnTo>
                <a:lnTo>
                  <a:pt x="383" y="446"/>
                </a:lnTo>
                <a:lnTo>
                  <a:pt x="386" y="426"/>
                </a:lnTo>
                <a:lnTo>
                  <a:pt x="379" y="417"/>
                </a:lnTo>
                <a:lnTo>
                  <a:pt x="330" y="393"/>
                </a:lnTo>
                <a:lnTo>
                  <a:pt x="322" y="382"/>
                </a:lnTo>
                <a:lnTo>
                  <a:pt x="311" y="386"/>
                </a:lnTo>
                <a:lnTo>
                  <a:pt x="280" y="372"/>
                </a:lnTo>
                <a:lnTo>
                  <a:pt x="256" y="350"/>
                </a:lnTo>
                <a:lnTo>
                  <a:pt x="253" y="336"/>
                </a:lnTo>
                <a:lnTo>
                  <a:pt x="269" y="315"/>
                </a:lnTo>
                <a:lnTo>
                  <a:pt x="273" y="300"/>
                </a:lnTo>
                <a:lnTo>
                  <a:pt x="240" y="272"/>
                </a:lnTo>
                <a:lnTo>
                  <a:pt x="237" y="260"/>
                </a:lnTo>
                <a:lnTo>
                  <a:pt x="247" y="248"/>
                </a:lnTo>
                <a:lnTo>
                  <a:pt x="233" y="224"/>
                </a:lnTo>
                <a:lnTo>
                  <a:pt x="240" y="189"/>
                </a:lnTo>
                <a:lnTo>
                  <a:pt x="193" y="154"/>
                </a:lnTo>
                <a:lnTo>
                  <a:pt x="165" y="144"/>
                </a:lnTo>
                <a:lnTo>
                  <a:pt x="113" y="138"/>
                </a:lnTo>
                <a:lnTo>
                  <a:pt x="0" y="89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97560" y="3317760"/>
            <a:ext cx="634680" cy="493920"/>
          </a:xfrm>
          <a:custGeom>
            <a:avLst/>
            <a:gdLst/>
            <a:ahLst/>
            <a:rect l="l" t="t" r="r" b="b"/>
            <a:pathLst>
              <a:path w="1025" h="790">
                <a:moveTo>
                  <a:pt x="0" y="251"/>
                </a:moveTo>
                <a:lnTo>
                  <a:pt x="6" y="235"/>
                </a:lnTo>
                <a:lnTo>
                  <a:pt x="98" y="215"/>
                </a:lnTo>
                <a:lnTo>
                  <a:pt x="107" y="205"/>
                </a:lnTo>
                <a:lnTo>
                  <a:pt x="139" y="205"/>
                </a:lnTo>
                <a:lnTo>
                  <a:pt x="177" y="229"/>
                </a:lnTo>
                <a:lnTo>
                  <a:pt x="237" y="220"/>
                </a:lnTo>
                <a:lnTo>
                  <a:pt x="249" y="225"/>
                </a:lnTo>
                <a:lnTo>
                  <a:pt x="265" y="224"/>
                </a:lnTo>
                <a:lnTo>
                  <a:pt x="272" y="220"/>
                </a:lnTo>
                <a:lnTo>
                  <a:pt x="261" y="215"/>
                </a:lnTo>
                <a:lnTo>
                  <a:pt x="251" y="162"/>
                </a:lnTo>
                <a:lnTo>
                  <a:pt x="236" y="149"/>
                </a:lnTo>
                <a:lnTo>
                  <a:pt x="233" y="126"/>
                </a:lnTo>
                <a:lnTo>
                  <a:pt x="283" y="130"/>
                </a:lnTo>
                <a:lnTo>
                  <a:pt x="281" y="140"/>
                </a:lnTo>
                <a:lnTo>
                  <a:pt x="297" y="157"/>
                </a:lnTo>
                <a:lnTo>
                  <a:pt x="366" y="162"/>
                </a:lnTo>
                <a:lnTo>
                  <a:pt x="424" y="150"/>
                </a:lnTo>
                <a:lnTo>
                  <a:pt x="398" y="145"/>
                </a:lnTo>
                <a:lnTo>
                  <a:pt x="398" y="140"/>
                </a:lnTo>
                <a:lnTo>
                  <a:pt x="407" y="125"/>
                </a:lnTo>
                <a:lnTo>
                  <a:pt x="477" y="105"/>
                </a:lnTo>
                <a:lnTo>
                  <a:pt x="513" y="81"/>
                </a:lnTo>
                <a:lnTo>
                  <a:pt x="514" y="38"/>
                </a:lnTo>
                <a:lnTo>
                  <a:pt x="526" y="18"/>
                </a:lnTo>
                <a:lnTo>
                  <a:pt x="602" y="0"/>
                </a:lnTo>
                <a:lnTo>
                  <a:pt x="605" y="26"/>
                </a:lnTo>
                <a:lnTo>
                  <a:pt x="637" y="30"/>
                </a:lnTo>
                <a:lnTo>
                  <a:pt x="653" y="50"/>
                </a:lnTo>
                <a:lnTo>
                  <a:pt x="708" y="67"/>
                </a:lnTo>
                <a:lnTo>
                  <a:pt x="723" y="98"/>
                </a:lnTo>
                <a:lnTo>
                  <a:pt x="751" y="102"/>
                </a:lnTo>
                <a:lnTo>
                  <a:pt x="766" y="86"/>
                </a:lnTo>
                <a:lnTo>
                  <a:pt x="775" y="86"/>
                </a:lnTo>
                <a:lnTo>
                  <a:pt x="775" y="111"/>
                </a:lnTo>
                <a:lnTo>
                  <a:pt x="783" y="114"/>
                </a:lnTo>
                <a:lnTo>
                  <a:pt x="779" y="119"/>
                </a:lnTo>
                <a:lnTo>
                  <a:pt x="809" y="134"/>
                </a:lnTo>
                <a:lnTo>
                  <a:pt x="837" y="136"/>
                </a:lnTo>
                <a:lnTo>
                  <a:pt x="879" y="140"/>
                </a:lnTo>
                <a:lnTo>
                  <a:pt x="917" y="169"/>
                </a:lnTo>
                <a:lnTo>
                  <a:pt x="1025" y="190"/>
                </a:lnTo>
                <a:lnTo>
                  <a:pt x="1021" y="204"/>
                </a:lnTo>
                <a:lnTo>
                  <a:pt x="996" y="228"/>
                </a:lnTo>
                <a:lnTo>
                  <a:pt x="980" y="268"/>
                </a:lnTo>
                <a:lnTo>
                  <a:pt x="983" y="314"/>
                </a:lnTo>
                <a:lnTo>
                  <a:pt x="962" y="324"/>
                </a:lnTo>
                <a:lnTo>
                  <a:pt x="938" y="322"/>
                </a:lnTo>
                <a:lnTo>
                  <a:pt x="932" y="330"/>
                </a:lnTo>
                <a:lnTo>
                  <a:pt x="937" y="335"/>
                </a:lnTo>
                <a:lnTo>
                  <a:pt x="904" y="363"/>
                </a:lnTo>
                <a:lnTo>
                  <a:pt x="861" y="419"/>
                </a:lnTo>
                <a:lnTo>
                  <a:pt x="859" y="445"/>
                </a:lnTo>
                <a:lnTo>
                  <a:pt x="865" y="446"/>
                </a:lnTo>
                <a:lnTo>
                  <a:pt x="890" y="423"/>
                </a:lnTo>
                <a:lnTo>
                  <a:pt x="921" y="425"/>
                </a:lnTo>
                <a:lnTo>
                  <a:pt x="925" y="456"/>
                </a:lnTo>
                <a:lnTo>
                  <a:pt x="934" y="460"/>
                </a:lnTo>
                <a:lnTo>
                  <a:pt x="938" y="470"/>
                </a:lnTo>
                <a:lnTo>
                  <a:pt x="925" y="477"/>
                </a:lnTo>
                <a:lnTo>
                  <a:pt x="945" y="525"/>
                </a:lnTo>
                <a:lnTo>
                  <a:pt x="921" y="541"/>
                </a:lnTo>
                <a:lnTo>
                  <a:pt x="918" y="556"/>
                </a:lnTo>
                <a:lnTo>
                  <a:pt x="934" y="565"/>
                </a:lnTo>
                <a:lnTo>
                  <a:pt x="932" y="599"/>
                </a:lnTo>
                <a:lnTo>
                  <a:pt x="946" y="622"/>
                </a:lnTo>
                <a:lnTo>
                  <a:pt x="983" y="626"/>
                </a:lnTo>
                <a:lnTo>
                  <a:pt x="987" y="634"/>
                </a:lnTo>
                <a:lnTo>
                  <a:pt x="985" y="656"/>
                </a:lnTo>
                <a:lnTo>
                  <a:pt x="956" y="670"/>
                </a:lnTo>
                <a:lnTo>
                  <a:pt x="914" y="701"/>
                </a:lnTo>
                <a:lnTo>
                  <a:pt x="910" y="711"/>
                </a:lnTo>
                <a:lnTo>
                  <a:pt x="877" y="723"/>
                </a:lnTo>
                <a:lnTo>
                  <a:pt x="854" y="722"/>
                </a:lnTo>
                <a:lnTo>
                  <a:pt x="805" y="701"/>
                </a:lnTo>
                <a:lnTo>
                  <a:pt x="778" y="697"/>
                </a:lnTo>
                <a:lnTo>
                  <a:pt x="775" y="701"/>
                </a:lnTo>
                <a:lnTo>
                  <a:pt x="759" y="702"/>
                </a:lnTo>
                <a:lnTo>
                  <a:pt x="707" y="684"/>
                </a:lnTo>
                <a:lnTo>
                  <a:pt x="640" y="715"/>
                </a:lnTo>
                <a:lnTo>
                  <a:pt x="627" y="746"/>
                </a:lnTo>
                <a:lnTo>
                  <a:pt x="636" y="786"/>
                </a:lnTo>
                <a:lnTo>
                  <a:pt x="545" y="790"/>
                </a:lnTo>
                <a:lnTo>
                  <a:pt x="518" y="778"/>
                </a:lnTo>
                <a:lnTo>
                  <a:pt x="491" y="769"/>
                </a:lnTo>
                <a:lnTo>
                  <a:pt x="457" y="754"/>
                </a:lnTo>
                <a:lnTo>
                  <a:pt x="419" y="766"/>
                </a:lnTo>
                <a:lnTo>
                  <a:pt x="328" y="749"/>
                </a:lnTo>
                <a:lnTo>
                  <a:pt x="275" y="725"/>
                </a:lnTo>
                <a:lnTo>
                  <a:pt x="237" y="699"/>
                </a:lnTo>
                <a:lnTo>
                  <a:pt x="253" y="699"/>
                </a:lnTo>
                <a:lnTo>
                  <a:pt x="269" y="693"/>
                </a:lnTo>
                <a:lnTo>
                  <a:pt x="275" y="679"/>
                </a:lnTo>
                <a:lnTo>
                  <a:pt x="291" y="606"/>
                </a:lnTo>
                <a:lnTo>
                  <a:pt x="304" y="583"/>
                </a:lnTo>
                <a:lnTo>
                  <a:pt x="292" y="572"/>
                </a:lnTo>
                <a:lnTo>
                  <a:pt x="304" y="504"/>
                </a:lnTo>
                <a:lnTo>
                  <a:pt x="331" y="529"/>
                </a:lnTo>
                <a:lnTo>
                  <a:pt x="325" y="513"/>
                </a:lnTo>
                <a:lnTo>
                  <a:pt x="296" y="482"/>
                </a:lnTo>
                <a:lnTo>
                  <a:pt x="303" y="470"/>
                </a:lnTo>
                <a:lnTo>
                  <a:pt x="296" y="434"/>
                </a:lnTo>
                <a:lnTo>
                  <a:pt x="244" y="414"/>
                </a:lnTo>
                <a:lnTo>
                  <a:pt x="217" y="386"/>
                </a:lnTo>
                <a:lnTo>
                  <a:pt x="221" y="374"/>
                </a:lnTo>
                <a:lnTo>
                  <a:pt x="214" y="352"/>
                </a:lnTo>
                <a:lnTo>
                  <a:pt x="244" y="348"/>
                </a:lnTo>
                <a:lnTo>
                  <a:pt x="186" y="344"/>
                </a:lnTo>
                <a:lnTo>
                  <a:pt x="184" y="324"/>
                </a:lnTo>
                <a:lnTo>
                  <a:pt x="129" y="320"/>
                </a:lnTo>
                <a:lnTo>
                  <a:pt x="111" y="306"/>
                </a:lnTo>
                <a:lnTo>
                  <a:pt x="65" y="292"/>
                </a:lnTo>
                <a:lnTo>
                  <a:pt x="34" y="299"/>
                </a:lnTo>
                <a:lnTo>
                  <a:pt x="10" y="277"/>
                </a:lnTo>
                <a:lnTo>
                  <a:pt x="31" y="271"/>
                </a:lnTo>
                <a:lnTo>
                  <a:pt x="27" y="265"/>
                </a:lnTo>
                <a:lnTo>
                  <a:pt x="18" y="267"/>
                </a:lnTo>
                <a:lnTo>
                  <a:pt x="14" y="260"/>
                </a:lnTo>
                <a:lnTo>
                  <a:pt x="31" y="247"/>
                </a:lnTo>
                <a:lnTo>
                  <a:pt x="0" y="251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64280" y="3773520"/>
            <a:ext cx="46080" cy="93600"/>
          </a:xfrm>
          <a:custGeom>
            <a:avLst/>
            <a:gdLst/>
            <a:ahLst/>
            <a:rect l="l" t="t" r="r" b="b"/>
            <a:pathLst>
              <a:path w="76" h="149">
                <a:moveTo>
                  <a:pt x="0" y="71"/>
                </a:moveTo>
                <a:lnTo>
                  <a:pt x="8" y="36"/>
                </a:lnTo>
                <a:lnTo>
                  <a:pt x="23" y="35"/>
                </a:lnTo>
                <a:lnTo>
                  <a:pt x="52" y="21"/>
                </a:lnTo>
                <a:lnTo>
                  <a:pt x="59" y="0"/>
                </a:lnTo>
                <a:lnTo>
                  <a:pt x="66" y="3"/>
                </a:lnTo>
                <a:lnTo>
                  <a:pt x="76" y="71"/>
                </a:lnTo>
                <a:lnTo>
                  <a:pt x="48" y="149"/>
                </a:lnTo>
                <a:lnTo>
                  <a:pt x="23" y="131"/>
                </a:lnTo>
                <a:lnTo>
                  <a:pt x="19" y="115"/>
                </a:lnTo>
                <a:lnTo>
                  <a:pt x="10" y="111"/>
                </a:lnTo>
                <a:lnTo>
                  <a:pt x="0" y="71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29280" y="3094200"/>
            <a:ext cx="446040" cy="436320"/>
          </a:xfrm>
          <a:custGeom>
            <a:avLst/>
            <a:gdLst/>
            <a:ahLst/>
            <a:rect l="l" t="t" r="r" b="b"/>
            <a:pathLst>
              <a:path w="724" h="695">
                <a:moveTo>
                  <a:pt x="8" y="387"/>
                </a:moveTo>
                <a:lnTo>
                  <a:pt x="26" y="415"/>
                </a:lnTo>
                <a:lnTo>
                  <a:pt x="26" y="423"/>
                </a:lnTo>
                <a:lnTo>
                  <a:pt x="12" y="439"/>
                </a:lnTo>
                <a:lnTo>
                  <a:pt x="26" y="446"/>
                </a:lnTo>
                <a:lnTo>
                  <a:pt x="20" y="461"/>
                </a:lnTo>
                <a:lnTo>
                  <a:pt x="32" y="477"/>
                </a:lnTo>
                <a:lnTo>
                  <a:pt x="33" y="489"/>
                </a:lnTo>
                <a:lnTo>
                  <a:pt x="26" y="496"/>
                </a:lnTo>
                <a:lnTo>
                  <a:pt x="67" y="526"/>
                </a:lnTo>
                <a:lnTo>
                  <a:pt x="175" y="548"/>
                </a:lnTo>
                <a:lnTo>
                  <a:pt x="170" y="560"/>
                </a:lnTo>
                <a:lnTo>
                  <a:pt x="143" y="585"/>
                </a:lnTo>
                <a:lnTo>
                  <a:pt x="127" y="625"/>
                </a:lnTo>
                <a:lnTo>
                  <a:pt x="132" y="671"/>
                </a:lnTo>
                <a:lnTo>
                  <a:pt x="146" y="678"/>
                </a:lnTo>
                <a:lnTo>
                  <a:pt x="234" y="667"/>
                </a:lnTo>
                <a:lnTo>
                  <a:pt x="287" y="683"/>
                </a:lnTo>
                <a:lnTo>
                  <a:pt x="318" y="678"/>
                </a:lnTo>
                <a:lnTo>
                  <a:pt x="353" y="695"/>
                </a:lnTo>
                <a:lnTo>
                  <a:pt x="376" y="676"/>
                </a:lnTo>
                <a:lnTo>
                  <a:pt x="431" y="687"/>
                </a:lnTo>
                <a:lnTo>
                  <a:pt x="460" y="672"/>
                </a:lnTo>
                <a:lnTo>
                  <a:pt x="511" y="667"/>
                </a:lnTo>
                <a:lnTo>
                  <a:pt x="515" y="663"/>
                </a:lnTo>
                <a:lnTo>
                  <a:pt x="554" y="666"/>
                </a:lnTo>
                <a:lnTo>
                  <a:pt x="560" y="675"/>
                </a:lnTo>
                <a:lnTo>
                  <a:pt x="573" y="671"/>
                </a:lnTo>
                <a:lnTo>
                  <a:pt x="559" y="627"/>
                </a:lnTo>
                <a:lnTo>
                  <a:pt x="566" y="613"/>
                </a:lnTo>
                <a:lnTo>
                  <a:pt x="601" y="603"/>
                </a:lnTo>
                <a:lnTo>
                  <a:pt x="609" y="584"/>
                </a:lnTo>
                <a:lnTo>
                  <a:pt x="635" y="576"/>
                </a:lnTo>
                <a:lnTo>
                  <a:pt x="639" y="568"/>
                </a:lnTo>
                <a:lnTo>
                  <a:pt x="535" y="502"/>
                </a:lnTo>
                <a:lnTo>
                  <a:pt x="524" y="488"/>
                </a:lnTo>
                <a:lnTo>
                  <a:pt x="519" y="454"/>
                </a:lnTo>
                <a:lnTo>
                  <a:pt x="488" y="439"/>
                </a:lnTo>
                <a:lnTo>
                  <a:pt x="488" y="425"/>
                </a:lnTo>
                <a:lnTo>
                  <a:pt x="487" y="423"/>
                </a:lnTo>
                <a:lnTo>
                  <a:pt x="512" y="438"/>
                </a:lnTo>
                <a:lnTo>
                  <a:pt x="520" y="423"/>
                </a:lnTo>
                <a:lnTo>
                  <a:pt x="594" y="402"/>
                </a:lnTo>
                <a:lnTo>
                  <a:pt x="603" y="390"/>
                </a:lnTo>
                <a:lnTo>
                  <a:pt x="661" y="375"/>
                </a:lnTo>
                <a:lnTo>
                  <a:pt x="666" y="352"/>
                </a:lnTo>
                <a:lnTo>
                  <a:pt x="681" y="355"/>
                </a:lnTo>
                <a:lnTo>
                  <a:pt x="701" y="376"/>
                </a:lnTo>
                <a:lnTo>
                  <a:pt x="710" y="376"/>
                </a:lnTo>
                <a:lnTo>
                  <a:pt x="724" y="328"/>
                </a:lnTo>
                <a:lnTo>
                  <a:pt x="698" y="305"/>
                </a:lnTo>
                <a:lnTo>
                  <a:pt x="684" y="210"/>
                </a:lnTo>
                <a:lnTo>
                  <a:pt x="664" y="200"/>
                </a:lnTo>
                <a:lnTo>
                  <a:pt x="680" y="156"/>
                </a:lnTo>
                <a:lnTo>
                  <a:pt x="680" y="139"/>
                </a:lnTo>
                <a:lnTo>
                  <a:pt x="664" y="114"/>
                </a:lnTo>
                <a:lnTo>
                  <a:pt x="629" y="107"/>
                </a:lnTo>
                <a:lnTo>
                  <a:pt x="614" y="79"/>
                </a:lnTo>
                <a:lnTo>
                  <a:pt x="587" y="75"/>
                </a:lnTo>
                <a:lnTo>
                  <a:pt x="564" y="56"/>
                </a:lnTo>
                <a:lnTo>
                  <a:pt x="519" y="67"/>
                </a:lnTo>
                <a:lnTo>
                  <a:pt x="544" y="51"/>
                </a:lnTo>
                <a:lnTo>
                  <a:pt x="534" y="51"/>
                </a:lnTo>
                <a:lnTo>
                  <a:pt x="524" y="51"/>
                </a:lnTo>
                <a:lnTo>
                  <a:pt x="488" y="79"/>
                </a:lnTo>
                <a:lnTo>
                  <a:pt x="488" y="74"/>
                </a:lnTo>
                <a:lnTo>
                  <a:pt x="460" y="78"/>
                </a:lnTo>
                <a:lnTo>
                  <a:pt x="439" y="90"/>
                </a:lnTo>
                <a:lnTo>
                  <a:pt x="443" y="95"/>
                </a:lnTo>
                <a:lnTo>
                  <a:pt x="411" y="93"/>
                </a:lnTo>
                <a:lnTo>
                  <a:pt x="391" y="101"/>
                </a:lnTo>
                <a:lnTo>
                  <a:pt x="386" y="94"/>
                </a:lnTo>
                <a:lnTo>
                  <a:pt x="385" y="83"/>
                </a:lnTo>
                <a:lnTo>
                  <a:pt x="389" y="70"/>
                </a:lnTo>
                <a:lnTo>
                  <a:pt x="407" y="58"/>
                </a:lnTo>
                <a:lnTo>
                  <a:pt x="407" y="48"/>
                </a:lnTo>
                <a:lnTo>
                  <a:pt x="366" y="51"/>
                </a:lnTo>
                <a:lnTo>
                  <a:pt x="342" y="40"/>
                </a:lnTo>
                <a:lnTo>
                  <a:pt x="337" y="47"/>
                </a:lnTo>
                <a:lnTo>
                  <a:pt x="329" y="47"/>
                </a:lnTo>
                <a:lnTo>
                  <a:pt x="329" y="39"/>
                </a:lnTo>
                <a:lnTo>
                  <a:pt x="310" y="35"/>
                </a:lnTo>
                <a:lnTo>
                  <a:pt x="321" y="28"/>
                </a:lnTo>
                <a:lnTo>
                  <a:pt x="322" y="19"/>
                </a:lnTo>
                <a:lnTo>
                  <a:pt x="312" y="8"/>
                </a:lnTo>
                <a:lnTo>
                  <a:pt x="281" y="4"/>
                </a:lnTo>
                <a:lnTo>
                  <a:pt x="281" y="0"/>
                </a:lnTo>
                <a:lnTo>
                  <a:pt x="267" y="4"/>
                </a:lnTo>
                <a:lnTo>
                  <a:pt x="222" y="0"/>
                </a:lnTo>
                <a:lnTo>
                  <a:pt x="221" y="8"/>
                </a:lnTo>
                <a:lnTo>
                  <a:pt x="247" y="35"/>
                </a:lnTo>
                <a:lnTo>
                  <a:pt x="219" y="51"/>
                </a:lnTo>
                <a:lnTo>
                  <a:pt x="234" y="54"/>
                </a:lnTo>
                <a:lnTo>
                  <a:pt x="231" y="60"/>
                </a:lnTo>
                <a:lnTo>
                  <a:pt x="242" y="70"/>
                </a:lnTo>
                <a:lnTo>
                  <a:pt x="234" y="82"/>
                </a:lnTo>
                <a:lnTo>
                  <a:pt x="254" y="90"/>
                </a:lnTo>
                <a:lnTo>
                  <a:pt x="219" y="94"/>
                </a:lnTo>
                <a:lnTo>
                  <a:pt x="213" y="101"/>
                </a:lnTo>
                <a:lnTo>
                  <a:pt x="210" y="122"/>
                </a:lnTo>
                <a:lnTo>
                  <a:pt x="219" y="143"/>
                </a:lnTo>
                <a:lnTo>
                  <a:pt x="202" y="123"/>
                </a:lnTo>
                <a:lnTo>
                  <a:pt x="190" y="121"/>
                </a:lnTo>
                <a:lnTo>
                  <a:pt x="190" y="131"/>
                </a:lnTo>
                <a:lnTo>
                  <a:pt x="180" y="133"/>
                </a:lnTo>
                <a:lnTo>
                  <a:pt x="170" y="110"/>
                </a:lnTo>
                <a:lnTo>
                  <a:pt x="147" y="107"/>
                </a:lnTo>
                <a:lnTo>
                  <a:pt x="107" y="111"/>
                </a:lnTo>
                <a:lnTo>
                  <a:pt x="91" y="133"/>
                </a:lnTo>
                <a:lnTo>
                  <a:pt x="113" y="141"/>
                </a:lnTo>
                <a:lnTo>
                  <a:pt x="126" y="154"/>
                </a:lnTo>
                <a:lnTo>
                  <a:pt x="115" y="145"/>
                </a:lnTo>
                <a:lnTo>
                  <a:pt x="93" y="147"/>
                </a:lnTo>
                <a:lnTo>
                  <a:pt x="79" y="193"/>
                </a:lnTo>
                <a:lnTo>
                  <a:pt x="55" y="204"/>
                </a:lnTo>
                <a:lnTo>
                  <a:pt x="59" y="213"/>
                </a:lnTo>
                <a:lnTo>
                  <a:pt x="87" y="222"/>
                </a:lnTo>
                <a:lnTo>
                  <a:pt x="85" y="233"/>
                </a:lnTo>
                <a:lnTo>
                  <a:pt x="59" y="251"/>
                </a:lnTo>
                <a:lnTo>
                  <a:pt x="51" y="272"/>
                </a:lnTo>
                <a:lnTo>
                  <a:pt x="5" y="269"/>
                </a:lnTo>
                <a:lnTo>
                  <a:pt x="8" y="335"/>
                </a:lnTo>
                <a:lnTo>
                  <a:pt x="0" y="343"/>
                </a:lnTo>
                <a:lnTo>
                  <a:pt x="0" y="350"/>
                </a:lnTo>
                <a:lnTo>
                  <a:pt x="8" y="387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45320" y="3843360"/>
            <a:ext cx="318960" cy="304920"/>
          </a:xfrm>
          <a:custGeom>
            <a:avLst/>
            <a:gdLst/>
            <a:ahLst/>
            <a:rect l="l" t="t" r="r" b="b"/>
            <a:pathLst>
              <a:path w="515" h="487">
                <a:moveTo>
                  <a:pt x="0" y="191"/>
                </a:moveTo>
                <a:lnTo>
                  <a:pt x="8" y="215"/>
                </a:lnTo>
                <a:lnTo>
                  <a:pt x="44" y="256"/>
                </a:lnTo>
                <a:lnTo>
                  <a:pt x="48" y="245"/>
                </a:lnTo>
                <a:lnTo>
                  <a:pt x="68" y="252"/>
                </a:lnTo>
                <a:lnTo>
                  <a:pt x="75" y="264"/>
                </a:lnTo>
                <a:lnTo>
                  <a:pt x="44" y="265"/>
                </a:lnTo>
                <a:lnTo>
                  <a:pt x="80" y="313"/>
                </a:lnTo>
                <a:lnTo>
                  <a:pt x="96" y="306"/>
                </a:lnTo>
                <a:lnTo>
                  <a:pt x="116" y="313"/>
                </a:lnTo>
                <a:lnTo>
                  <a:pt x="192" y="316"/>
                </a:lnTo>
                <a:lnTo>
                  <a:pt x="202" y="308"/>
                </a:lnTo>
                <a:lnTo>
                  <a:pt x="222" y="326"/>
                </a:lnTo>
                <a:lnTo>
                  <a:pt x="238" y="328"/>
                </a:lnTo>
                <a:lnTo>
                  <a:pt x="237" y="339"/>
                </a:lnTo>
                <a:lnTo>
                  <a:pt x="222" y="343"/>
                </a:lnTo>
                <a:lnTo>
                  <a:pt x="156" y="326"/>
                </a:lnTo>
                <a:lnTo>
                  <a:pt x="150" y="317"/>
                </a:lnTo>
                <a:lnTo>
                  <a:pt x="129" y="318"/>
                </a:lnTo>
                <a:lnTo>
                  <a:pt x="108" y="330"/>
                </a:lnTo>
                <a:lnTo>
                  <a:pt x="96" y="328"/>
                </a:lnTo>
                <a:lnTo>
                  <a:pt x="75" y="363"/>
                </a:lnTo>
                <a:lnTo>
                  <a:pt x="87" y="381"/>
                </a:lnTo>
                <a:lnTo>
                  <a:pt x="108" y="391"/>
                </a:lnTo>
                <a:lnTo>
                  <a:pt x="119" y="408"/>
                </a:lnTo>
                <a:lnTo>
                  <a:pt x="111" y="428"/>
                </a:lnTo>
                <a:lnTo>
                  <a:pt x="123" y="455"/>
                </a:lnTo>
                <a:lnTo>
                  <a:pt x="135" y="459"/>
                </a:lnTo>
                <a:lnTo>
                  <a:pt x="148" y="432"/>
                </a:lnTo>
                <a:lnTo>
                  <a:pt x="164" y="451"/>
                </a:lnTo>
                <a:lnTo>
                  <a:pt x="175" y="487"/>
                </a:lnTo>
                <a:lnTo>
                  <a:pt x="182" y="487"/>
                </a:lnTo>
                <a:lnTo>
                  <a:pt x="186" y="462"/>
                </a:lnTo>
                <a:lnTo>
                  <a:pt x="202" y="456"/>
                </a:lnTo>
                <a:lnTo>
                  <a:pt x="210" y="470"/>
                </a:lnTo>
                <a:lnTo>
                  <a:pt x="234" y="486"/>
                </a:lnTo>
                <a:lnTo>
                  <a:pt x="222" y="416"/>
                </a:lnTo>
                <a:lnTo>
                  <a:pt x="204" y="387"/>
                </a:lnTo>
                <a:lnTo>
                  <a:pt x="234" y="409"/>
                </a:lnTo>
                <a:lnTo>
                  <a:pt x="265" y="397"/>
                </a:lnTo>
                <a:lnTo>
                  <a:pt x="261" y="388"/>
                </a:lnTo>
                <a:lnTo>
                  <a:pt x="245" y="379"/>
                </a:lnTo>
                <a:lnTo>
                  <a:pt x="234" y="348"/>
                </a:lnTo>
                <a:lnTo>
                  <a:pt x="277" y="345"/>
                </a:lnTo>
                <a:lnTo>
                  <a:pt x="310" y="373"/>
                </a:lnTo>
                <a:lnTo>
                  <a:pt x="307" y="325"/>
                </a:lnTo>
                <a:lnTo>
                  <a:pt x="257" y="300"/>
                </a:lnTo>
                <a:lnTo>
                  <a:pt x="251" y="285"/>
                </a:lnTo>
                <a:lnTo>
                  <a:pt x="212" y="274"/>
                </a:lnTo>
                <a:lnTo>
                  <a:pt x="190" y="260"/>
                </a:lnTo>
                <a:lnTo>
                  <a:pt x="224" y="252"/>
                </a:lnTo>
                <a:lnTo>
                  <a:pt x="216" y="234"/>
                </a:lnTo>
                <a:lnTo>
                  <a:pt x="218" y="223"/>
                </a:lnTo>
                <a:lnTo>
                  <a:pt x="234" y="225"/>
                </a:lnTo>
                <a:lnTo>
                  <a:pt x="238" y="234"/>
                </a:lnTo>
                <a:lnTo>
                  <a:pt x="238" y="241"/>
                </a:lnTo>
                <a:lnTo>
                  <a:pt x="243" y="242"/>
                </a:lnTo>
                <a:lnTo>
                  <a:pt x="251" y="238"/>
                </a:lnTo>
                <a:lnTo>
                  <a:pt x="196" y="166"/>
                </a:lnTo>
                <a:lnTo>
                  <a:pt x="198" y="112"/>
                </a:lnTo>
                <a:lnTo>
                  <a:pt x="218" y="107"/>
                </a:lnTo>
                <a:lnTo>
                  <a:pt x="216" y="120"/>
                </a:lnTo>
                <a:lnTo>
                  <a:pt x="250" y="140"/>
                </a:lnTo>
                <a:lnTo>
                  <a:pt x="271" y="168"/>
                </a:lnTo>
                <a:lnTo>
                  <a:pt x="279" y="163"/>
                </a:lnTo>
                <a:lnTo>
                  <a:pt x="267" y="155"/>
                </a:lnTo>
                <a:lnTo>
                  <a:pt x="263" y="140"/>
                </a:lnTo>
                <a:lnTo>
                  <a:pt x="283" y="143"/>
                </a:lnTo>
                <a:lnTo>
                  <a:pt x="305" y="167"/>
                </a:lnTo>
                <a:lnTo>
                  <a:pt x="305" y="150"/>
                </a:lnTo>
                <a:lnTo>
                  <a:pt x="286" y="140"/>
                </a:lnTo>
                <a:lnTo>
                  <a:pt x="291" y="128"/>
                </a:lnTo>
                <a:lnTo>
                  <a:pt x="317" y="134"/>
                </a:lnTo>
                <a:lnTo>
                  <a:pt x="333" y="146"/>
                </a:lnTo>
                <a:lnTo>
                  <a:pt x="313" y="124"/>
                </a:lnTo>
                <a:lnTo>
                  <a:pt x="279" y="107"/>
                </a:lnTo>
                <a:lnTo>
                  <a:pt x="328" y="90"/>
                </a:lnTo>
                <a:lnTo>
                  <a:pt x="341" y="77"/>
                </a:lnTo>
                <a:lnTo>
                  <a:pt x="368" y="81"/>
                </a:lnTo>
                <a:lnTo>
                  <a:pt x="392" y="72"/>
                </a:lnTo>
                <a:lnTo>
                  <a:pt x="461" y="88"/>
                </a:lnTo>
                <a:lnTo>
                  <a:pt x="473" y="98"/>
                </a:lnTo>
                <a:lnTo>
                  <a:pt x="489" y="79"/>
                </a:lnTo>
                <a:lnTo>
                  <a:pt x="496" y="41"/>
                </a:lnTo>
                <a:lnTo>
                  <a:pt x="515" y="31"/>
                </a:lnTo>
                <a:lnTo>
                  <a:pt x="515" y="17"/>
                </a:lnTo>
                <a:lnTo>
                  <a:pt x="496" y="0"/>
                </a:lnTo>
                <a:lnTo>
                  <a:pt x="480" y="1"/>
                </a:lnTo>
                <a:lnTo>
                  <a:pt x="477" y="25"/>
                </a:lnTo>
                <a:lnTo>
                  <a:pt x="459" y="40"/>
                </a:lnTo>
                <a:lnTo>
                  <a:pt x="428" y="47"/>
                </a:lnTo>
                <a:lnTo>
                  <a:pt x="345" y="20"/>
                </a:lnTo>
                <a:lnTo>
                  <a:pt x="298" y="32"/>
                </a:lnTo>
                <a:lnTo>
                  <a:pt x="223" y="37"/>
                </a:lnTo>
                <a:lnTo>
                  <a:pt x="191" y="56"/>
                </a:lnTo>
                <a:lnTo>
                  <a:pt x="162" y="56"/>
                </a:lnTo>
                <a:lnTo>
                  <a:pt x="119" y="77"/>
                </a:lnTo>
                <a:lnTo>
                  <a:pt x="67" y="84"/>
                </a:lnTo>
                <a:lnTo>
                  <a:pt x="68" y="114"/>
                </a:lnTo>
                <a:lnTo>
                  <a:pt x="0" y="191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819760" y="3959280"/>
            <a:ext cx="17640" cy="22320"/>
          </a:xfrm>
          <a:custGeom>
            <a:avLst/>
            <a:gdLst/>
            <a:ahLst/>
            <a:rect l="l" t="t" r="r" b="b"/>
            <a:pathLst>
              <a:path w="30" h="36">
                <a:moveTo>
                  <a:pt x="0" y="4"/>
                </a:moveTo>
                <a:lnTo>
                  <a:pt x="8" y="0"/>
                </a:lnTo>
                <a:lnTo>
                  <a:pt x="20" y="7"/>
                </a:lnTo>
                <a:lnTo>
                  <a:pt x="30" y="35"/>
                </a:lnTo>
                <a:lnTo>
                  <a:pt x="22" y="36"/>
                </a:lnTo>
                <a:lnTo>
                  <a:pt x="11" y="27"/>
                </a:lnTo>
                <a:lnTo>
                  <a:pt x="0" y="4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83200" y="4002120"/>
            <a:ext cx="84240" cy="60120"/>
          </a:xfrm>
          <a:custGeom>
            <a:avLst/>
            <a:gdLst/>
            <a:ahLst/>
            <a:rect l="l" t="t" r="r" b="b"/>
            <a:pathLst>
              <a:path w="135" h="97">
                <a:moveTo>
                  <a:pt x="0" y="16"/>
                </a:moveTo>
                <a:lnTo>
                  <a:pt x="15" y="16"/>
                </a:lnTo>
                <a:lnTo>
                  <a:pt x="44" y="40"/>
                </a:lnTo>
                <a:lnTo>
                  <a:pt x="48" y="50"/>
                </a:lnTo>
                <a:lnTo>
                  <a:pt x="80" y="57"/>
                </a:lnTo>
                <a:lnTo>
                  <a:pt x="94" y="69"/>
                </a:lnTo>
                <a:lnTo>
                  <a:pt x="111" y="95"/>
                </a:lnTo>
                <a:lnTo>
                  <a:pt x="131" y="97"/>
                </a:lnTo>
                <a:lnTo>
                  <a:pt x="135" y="78"/>
                </a:lnTo>
                <a:lnTo>
                  <a:pt x="111" y="73"/>
                </a:lnTo>
                <a:lnTo>
                  <a:pt x="94" y="36"/>
                </a:lnTo>
                <a:lnTo>
                  <a:pt x="55" y="25"/>
                </a:lnTo>
                <a:lnTo>
                  <a:pt x="30" y="0"/>
                </a:lnTo>
                <a:lnTo>
                  <a:pt x="22" y="0"/>
                </a:lnTo>
                <a:lnTo>
                  <a:pt x="0" y="16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13440" y="4192560"/>
            <a:ext cx="139680" cy="41400"/>
          </a:xfrm>
          <a:custGeom>
            <a:avLst/>
            <a:gdLst/>
            <a:ahLst/>
            <a:rect l="l" t="t" r="r" b="b"/>
            <a:pathLst>
              <a:path w="225" h="64">
                <a:moveTo>
                  <a:pt x="0" y="36"/>
                </a:moveTo>
                <a:lnTo>
                  <a:pt x="7" y="8"/>
                </a:lnTo>
                <a:lnTo>
                  <a:pt x="13" y="9"/>
                </a:lnTo>
                <a:lnTo>
                  <a:pt x="16" y="0"/>
                </a:lnTo>
                <a:lnTo>
                  <a:pt x="37" y="8"/>
                </a:lnTo>
                <a:lnTo>
                  <a:pt x="47" y="1"/>
                </a:lnTo>
                <a:lnTo>
                  <a:pt x="53" y="8"/>
                </a:lnTo>
                <a:lnTo>
                  <a:pt x="49" y="15"/>
                </a:lnTo>
                <a:lnTo>
                  <a:pt x="67" y="23"/>
                </a:lnTo>
                <a:lnTo>
                  <a:pt x="111" y="16"/>
                </a:lnTo>
                <a:lnTo>
                  <a:pt x="132" y="27"/>
                </a:lnTo>
                <a:lnTo>
                  <a:pt x="173" y="27"/>
                </a:lnTo>
                <a:lnTo>
                  <a:pt x="182" y="36"/>
                </a:lnTo>
                <a:lnTo>
                  <a:pt x="193" y="40"/>
                </a:lnTo>
                <a:lnTo>
                  <a:pt x="223" y="32"/>
                </a:lnTo>
                <a:lnTo>
                  <a:pt x="225" y="37"/>
                </a:lnTo>
                <a:lnTo>
                  <a:pt x="213" y="59"/>
                </a:lnTo>
                <a:lnTo>
                  <a:pt x="197" y="51"/>
                </a:lnTo>
                <a:lnTo>
                  <a:pt x="103" y="64"/>
                </a:lnTo>
                <a:lnTo>
                  <a:pt x="96" y="49"/>
                </a:lnTo>
                <a:lnTo>
                  <a:pt x="75" y="40"/>
                </a:lnTo>
                <a:lnTo>
                  <a:pt x="36" y="35"/>
                </a:lnTo>
                <a:lnTo>
                  <a:pt x="0" y="36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30800" y="3978360"/>
            <a:ext cx="39960" cy="23760"/>
          </a:xfrm>
          <a:custGeom>
            <a:avLst/>
            <a:gdLst/>
            <a:ahLst/>
            <a:rect l="l" t="t" r="r" b="b"/>
            <a:pathLst>
              <a:path w="63" h="40">
                <a:moveTo>
                  <a:pt x="0" y="25"/>
                </a:moveTo>
                <a:lnTo>
                  <a:pt x="4" y="14"/>
                </a:lnTo>
                <a:lnTo>
                  <a:pt x="41" y="0"/>
                </a:lnTo>
                <a:lnTo>
                  <a:pt x="63" y="36"/>
                </a:lnTo>
                <a:lnTo>
                  <a:pt x="49" y="29"/>
                </a:lnTo>
                <a:lnTo>
                  <a:pt x="49" y="33"/>
                </a:lnTo>
                <a:lnTo>
                  <a:pt x="34" y="40"/>
                </a:lnTo>
                <a:lnTo>
                  <a:pt x="24" y="36"/>
                </a:lnTo>
                <a:lnTo>
                  <a:pt x="30" y="21"/>
                </a:lnTo>
                <a:lnTo>
                  <a:pt x="0" y="25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7240" y="3462480"/>
            <a:ext cx="338040" cy="155520"/>
          </a:xfrm>
          <a:custGeom>
            <a:avLst/>
            <a:gdLst/>
            <a:ahLst/>
            <a:rect l="l" t="t" r="r" b="b"/>
            <a:pathLst>
              <a:path w="544" h="252">
                <a:moveTo>
                  <a:pt x="0" y="151"/>
                </a:moveTo>
                <a:lnTo>
                  <a:pt x="21" y="157"/>
                </a:lnTo>
                <a:lnTo>
                  <a:pt x="44" y="186"/>
                </a:lnTo>
                <a:lnTo>
                  <a:pt x="60" y="193"/>
                </a:lnTo>
                <a:lnTo>
                  <a:pt x="113" y="236"/>
                </a:lnTo>
                <a:lnTo>
                  <a:pt x="150" y="252"/>
                </a:lnTo>
                <a:lnTo>
                  <a:pt x="269" y="228"/>
                </a:lnTo>
                <a:lnTo>
                  <a:pt x="290" y="217"/>
                </a:lnTo>
                <a:lnTo>
                  <a:pt x="328" y="210"/>
                </a:lnTo>
                <a:lnTo>
                  <a:pt x="337" y="218"/>
                </a:lnTo>
                <a:lnTo>
                  <a:pt x="405" y="199"/>
                </a:lnTo>
                <a:lnTo>
                  <a:pt x="448" y="134"/>
                </a:lnTo>
                <a:lnTo>
                  <a:pt x="465" y="120"/>
                </a:lnTo>
                <a:lnTo>
                  <a:pt x="479" y="87"/>
                </a:lnTo>
                <a:lnTo>
                  <a:pt x="494" y="75"/>
                </a:lnTo>
                <a:lnTo>
                  <a:pt x="527" y="68"/>
                </a:lnTo>
                <a:lnTo>
                  <a:pt x="544" y="53"/>
                </a:lnTo>
                <a:lnTo>
                  <a:pt x="486" y="13"/>
                </a:lnTo>
                <a:lnTo>
                  <a:pt x="467" y="17"/>
                </a:lnTo>
                <a:lnTo>
                  <a:pt x="420" y="0"/>
                </a:lnTo>
                <a:lnTo>
                  <a:pt x="376" y="1"/>
                </a:lnTo>
                <a:lnTo>
                  <a:pt x="353" y="12"/>
                </a:lnTo>
                <a:lnTo>
                  <a:pt x="346" y="24"/>
                </a:lnTo>
                <a:lnTo>
                  <a:pt x="314" y="35"/>
                </a:lnTo>
                <a:lnTo>
                  <a:pt x="287" y="28"/>
                </a:lnTo>
                <a:lnTo>
                  <a:pt x="218" y="48"/>
                </a:lnTo>
                <a:lnTo>
                  <a:pt x="199" y="71"/>
                </a:lnTo>
                <a:lnTo>
                  <a:pt x="142" y="72"/>
                </a:lnTo>
                <a:lnTo>
                  <a:pt x="85" y="43"/>
                </a:lnTo>
                <a:lnTo>
                  <a:pt x="85" y="67"/>
                </a:lnTo>
                <a:lnTo>
                  <a:pt x="79" y="74"/>
                </a:lnTo>
                <a:lnTo>
                  <a:pt x="40" y="74"/>
                </a:lnTo>
                <a:lnTo>
                  <a:pt x="33" y="83"/>
                </a:lnTo>
                <a:lnTo>
                  <a:pt x="44" y="94"/>
                </a:lnTo>
                <a:lnTo>
                  <a:pt x="31" y="114"/>
                </a:lnTo>
                <a:lnTo>
                  <a:pt x="32" y="137"/>
                </a:lnTo>
                <a:lnTo>
                  <a:pt x="0" y="151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97120" y="2441520"/>
            <a:ext cx="551160" cy="181080"/>
          </a:xfrm>
          <a:custGeom>
            <a:avLst/>
            <a:gdLst/>
            <a:ahLst/>
            <a:rect l="l" t="t" r="r" b="b"/>
            <a:pathLst>
              <a:path w="888" h="286">
                <a:moveTo>
                  <a:pt x="0" y="97"/>
                </a:moveTo>
                <a:lnTo>
                  <a:pt x="14" y="81"/>
                </a:lnTo>
                <a:lnTo>
                  <a:pt x="51" y="92"/>
                </a:lnTo>
                <a:lnTo>
                  <a:pt x="64" y="88"/>
                </a:lnTo>
                <a:lnTo>
                  <a:pt x="44" y="84"/>
                </a:lnTo>
                <a:lnTo>
                  <a:pt x="51" y="84"/>
                </a:lnTo>
                <a:lnTo>
                  <a:pt x="52" y="77"/>
                </a:lnTo>
                <a:lnTo>
                  <a:pt x="37" y="75"/>
                </a:lnTo>
                <a:lnTo>
                  <a:pt x="29" y="64"/>
                </a:lnTo>
                <a:lnTo>
                  <a:pt x="77" y="81"/>
                </a:lnTo>
                <a:lnTo>
                  <a:pt x="104" y="79"/>
                </a:lnTo>
                <a:lnTo>
                  <a:pt x="92" y="75"/>
                </a:lnTo>
                <a:lnTo>
                  <a:pt x="103" y="67"/>
                </a:lnTo>
                <a:lnTo>
                  <a:pt x="75" y="68"/>
                </a:lnTo>
                <a:lnTo>
                  <a:pt x="59" y="61"/>
                </a:lnTo>
                <a:lnTo>
                  <a:pt x="77" y="57"/>
                </a:lnTo>
                <a:lnTo>
                  <a:pt x="57" y="45"/>
                </a:lnTo>
                <a:lnTo>
                  <a:pt x="76" y="49"/>
                </a:lnTo>
                <a:lnTo>
                  <a:pt x="69" y="38"/>
                </a:lnTo>
                <a:lnTo>
                  <a:pt x="84" y="41"/>
                </a:lnTo>
                <a:lnTo>
                  <a:pt x="75" y="34"/>
                </a:lnTo>
                <a:lnTo>
                  <a:pt x="84" y="32"/>
                </a:lnTo>
                <a:lnTo>
                  <a:pt x="115" y="38"/>
                </a:lnTo>
                <a:lnTo>
                  <a:pt x="116" y="49"/>
                </a:lnTo>
                <a:lnTo>
                  <a:pt x="119" y="49"/>
                </a:lnTo>
                <a:lnTo>
                  <a:pt x="139" y="46"/>
                </a:lnTo>
                <a:lnTo>
                  <a:pt x="154" y="63"/>
                </a:lnTo>
                <a:lnTo>
                  <a:pt x="159" y="54"/>
                </a:lnTo>
                <a:lnTo>
                  <a:pt x="167" y="63"/>
                </a:lnTo>
                <a:lnTo>
                  <a:pt x="178" y="53"/>
                </a:lnTo>
                <a:lnTo>
                  <a:pt x="167" y="40"/>
                </a:lnTo>
                <a:lnTo>
                  <a:pt x="130" y="29"/>
                </a:lnTo>
                <a:lnTo>
                  <a:pt x="139" y="21"/>
                </a:lnTo>
                <a:lnTo>
                  <a:pt x="151" y="26"/>
                </a:lnTo>
                <a:lnTo>
                  <a:pt x="166" y="25"/>
                </a:lnTo>
                <a:lnTo>
                  <a:pt x="150" y="16"/>
                </a:lnTo>
                <a:lnTo>
                  <a:pt x="111" y="18"/>
                </a:lnTo>
                <a:lnTo>
                  <a:pt x="116" y="6"/>
                </a:lnTo>
                <a:lnTo>
                  <a:pt x="170" y="9"/>
                </a:lnTo>
                <a:lnTo>
                  <a:pt x="183" y="21"/>
                </a:lnTo>
                <a:lnTo>
                  <a:pt x="204" y="25"/>
                </a:lnTo>
                <a:lnTo>
                  <a:pt x="230" y="40"/>
                </a:lnTo>
                <a:lnTo>
                  <a:pt x="254" y="46"/>
                </a:lnTo>
                <a:lnTo>
                  <a:pt x="241" y="52"/>
                </a:lnTo>
                <a:lnTo>
                  <a:pt x="258" y="57"/>
                </a:lnTo>
                <a:lnTo>
                  <a:pt x="259" y="67"/>
                </a:lnTo>
                <a:lnTo>
                  <a:pt x="246" y="76"/>
                </a:lnTo>
                <a:lnTo>
                  <a:pt x="226" y="71"/>
                </a:lnTo>
                <a:lnTo>
                  <a:pt x="231" y="80"/>
                </a:lnTo>
                <a:lnTo>
                  <a:pt x="251" y="83"/>
                </a:lnTo>
                <a:lnTo>
                  <a:pt x="247" y="89"/>
                </a:lnTo>
                <a:lnTo>
                  <a:pt x="258" y="85"/>
                </a:lnTo>
                <a:lnTo>
                  <a:pt x="261" y="95"/>
                </a:lnTo>
                <a:lnTo>
                  <a:pt x="253" y="99"/>
                </a:lnTo>
                <a:lnTo>
                  <a:pt x="267" y="100"/>
                </a:lnTo>
                <a:lnTo>
                  <a:pt x="267" y="117"/>
                </a:lnTo>
                <a:lnTo>
                  <a:pt x="279" y="101"/>
                </a:lnTo>
                <a:lnTo>
                  <a:pt x="298" y="101"/>
                </a:lnTo>
                <a:lnTo>
                  <a:pt x="295" y="85"/>
                </a:lnTo>
                <a:lnTo>
                  <a:pt x="302" y="79"/>
                </a:lnTo>
                <a:lnTo>
                  <a:pt x="316" y="79"/>
                </a:lnTo>
                <a:lnTo>
                  <a:pt x="328" y="92"/>
                </a:lnTo>
                <a:lnTo>
                  <a:pt x="336" y="85"/>
                </a:lnTo>
                <a:lnTo>
                  <a:pt x="342" y="64"/>
                </a:lnTo>
                <a:lnTo>
                  <a:pt x="336" y="40"/>
                </a:lnTo>
                <a:lnTo>
                  <a:pt x="354" y="38"/>
                </a:lnTo>
                <a:lnTo>
                  <a:pt x="377" y="50"/>
                </a:lnTo>
                <a:lnTo>
                  <a:pt x="396" y="72"/>
                </a:lnTo>
                <a:lnTo>
                  <a:pt x="407" y="72"/>
                </a:lnTo>
                <a:lnTo>
                  <a:pt x="417" y="60"/>
                </a:lnTo>
                <a:lnTo>
                  <a:pt x="413" y="45"/>
                </a:lnTo>
                <a:lnTo>
                  <a:pt x="437" y="44"/>
                </a:lnTo>
                <a:lnTo>
                  <a:pt x="448" y="36"/>
                </a:lnTo>
                <a:lnTo>
                  <a:pt x="469" y="30"/>
                </a:lnTo>
                <a:lnTo>
                  <a:pt x="469" y="36"/>
                </a:lnTo>
                <a:lnTo>
                  <a:pt x="484" y="41"/>
                </a:lnTo>
                <a:lnTo>
                  <a:pt x="490" y="50"/>
                </a:lnTo>
                <a:lnTo>
                  <a:pt x="510" y="64"/>
                </a:lnTo>
                <a:lnTo>
                  <a:pt x="519" y="80"/>
                </a:lnTo>
                <a:lnTo>
                  <a:pt x="523" y="60"/>
                </a:lnTo>
                <a:lnTo>
                  <a:pt x="506" y="33"/>
                </a:lnTo>
                <a:lnTo>
                  <a:pt x="530" y="33"/>
                </a:lnTo>
                <a:lnTo>
                  <a:pt x="558" y="48"/>
                </a:lnTo>
                <a:lnTo>
                  <a:pt x="578" y="44"/>
                </a:lnTo>
                <a:lnTo>
                  <a:pt x="585" y="32"/>
                </a:lnTo>
                <a:lnTo>
                  <a:pt x="606" y="32"/>
                </a:lnTo>
                <a:lnTo>
                  <a:pt x="606" y="36"/>
                </a:lnTo>
                <a:lnTo>
                  <a:pt x="626" y="37"/>
                </a:lnTo>
                <a:lnTo>
                  <a:pt x="653" y="33"/>
                </a:lnTo>
                <a:lnTo>
                  <a:pt x="646" y="5"/>
                </a:lnTo>
                <a:lnTo>
                  <a:pt x="661" y="5"/>
                </a:lnTo>
                <a:lnTo>
                  <a:pt x="672" y="0"/>
                </a:lnTo>
                <a:lnTo>
                  <a:pt x="708" y="13"/>
                </a:lnTo>
                <a:lnTo>
                  <a:pt x="706" y="25"/>
                </a:lnTo>
                <a:lnTo>
                  <a:pt x="729" y="32"/>
                </a:lnTo>
                <a:lnTo>
                  <a:pt x="738" y="33"/>
                </a:lnTo>
                <a:lnTo>
                  <a:pt x="740" y="25"/>
                </a:lnTo>
                <a:lnTo>
                  <a:pt x="763" y="24"/>
                </a:lnTo>
                <a:lnTo>
                  <a:pt x="783" y="13"/>
                </a:lnTo>
                <a:lnTo>
                  <a:pt x="807" y="16"/>
                </a:lnTo>
                <a:lnTo>
                  <a:pt x="785" y="20"/>
                </a:lnTo>
                <a:lnTo>
                  <a:pt x="760" y="40"/>
                </a:lnTo>
                <a:lnTo>
                  <a:pt x="772" y="49"/>
                </a:lnTo>
                <a:lnTo>
                  <a:pt x="793" y="41"/>
                </a:lnTo>
                <a:lnTo>
                  <a:pt x="800" y="54"/>
                </a:lnTo>
                <a:lnTo>
                  <a:pt x="789" y="73"/>
                </a:lnTo>
                <a:lnTo>
                  <a:pt x="827" y="71"/>
                </a:lnTo>
                <a:lnTo>
                  <a:pt x="827" y="83"/>
                </a:lnTo>
                <a:lnTo>
                  <a:pt x="849" y="87"/>
                </a:lnTo>
                <a:lnTo>
                  <a:pt x="851" y="76"/>
                </a:lnTo>
                <a:lnTo>
                  <a:pt x="858" y="81"/>
                </a:lnTo>
                <a:lnTo>
                  <a:pt x="875" y="99"/>
                </a:lnTo>
                <a:lnTo>
                  <a:pt x="863" y="111"/>
                </a:lnTo>
                <a:lnTo>
                  <a:pt x="874" y="121"/>
                </a:lnTo>
                <a:lnTo>
                  <a:pt x="888" y="117"/>
                </a:lnTo>
                <a:lnTo>
                  <a:pt x="888" y="128"/>
                </a:lnTo>
                <a:lnTo>
                  <a:pt x="855" y="156"/>
                </a:lnTo>
                <a:lnTo>
                  <a:pt x="824" y="159"/>
                </a:lnTo>
                <a:lnTo>
                  <a:pt x="824" y="167"/>
                </a:lnTo>
                <a:lnTo>
                  <a:pt x="812" y="166"/>
                </a:lnTo>
                <a:lnTo>
                  <a:pt x="815" y="167"/>
                </a:lnTo>
                <a:lnTo>
                  <a:pt x="807" y="172"/>
                </a:lnTo>
                <a:lnTo>
                  <a:pt x="835" y="167"/>
                </a:lnTo>
                <a:lnTo>
                  <a:pt x="805" y="194"/>
                </a:lnTo>
                <a:lnTo>
                  <a:pt x="785" y="196"/>
                </a:lnTo>
                <a:lnTo>
                  <a:pt x="780" y="206"/>
                </a:lnTo>
                <a:lnTo>
                  <a:pt x="761" y="200"/>
                </a:lnTo>
                <a:lnTo>
                  <a:pt x="752" y="191"/>
                </a:lnTo>
                <a:lnTo>
                  <a:pt x="741" y="190"/>
                </a:lnTo>
                <a:lnTo>
                  <a:pt x="740" y="199"/>
                </a:lnTo>
                <a:lnTo>
                  <a:pt x="663" y="234"/>
                </a:lnTo>
                <a:lnTo>
                  <a:pt x="607" y="241"/>
                </a:lnTo>
                <a:lnTo>
                  <a:pt x="606" y="235"/>
                </a:lnTo>
                <a:lnTo>
                  <a:pt x="590" y="250"/>
                </a:lnTo>
                <a:lnTo>
                  <a:pt x="566" y="253"/>
                </a:lnTo>
                <a:lnTo>
                  <a:pt x="524" y="275"/>
                </a:lnTo>
                <a:lnTo>
                  <a:pt x="477" y="286"/>
                </a:lnTo>
                <a:lnTo>
                  <a:pt x="455" y="281"/>
                </a:lnTo>
                <a:lnTo>
                  <a:pt x="447" y="285"/>
                </a:lnTo>
                <a:lnTo>
                  <a:pt x="384" y="270"/>
                </a:lnTo>
                <a:lnTo>
                  <a:pt x="366" y="273"/>
                </a:lnTo>
                <a:lnTo>
                  <a:pt x="298" y="246"/>
                </a:lnTo>
                <a:lnTo>
                  <a:pt x="267" y="242"/>
                </a:lnTo>
                <a:lnTo>
                  <a:pt x="150" y="246"/>
                </a:lnTo>
                <a:lnTo>
                  <a:pt x="146" y="223"/>
                </a:lnTo>
                <a:lnTo>
                  <a:pt x="167" y="230"/>
                </a:lnTo>
                <a:lnTo>
                  <a:pt x="221" y="212"/>
                </a:lnTo>
                <a:lnTo>
                  <a:pt x="221" y="198"/>
                </a:lnTo>
                <a:lnTo>
                  <a:pt x="192" y="202"/>
                </a:lnTo>
                <a:lnTo>
                  <a:pt x="207" y="194"/>
                </a:lnTo>
                <a:lnTo>
                  <a:pt x="207" y="184"/>
                </a:lnTo>
                <a:lnTo>
                  <a:pt x="221" y="176"/>
                </a:lnTo>
                <a:lnTo>
                  <a:pt x="207" y="178"/>
                </a:lnTo>
                <a:lnTo>
                  <a:pt x="198" y="186"/>
                </a:lnTo>
                <a:lnTo>
                  <a:pt x="186" y="176"/>
                </a:lnTo>
                <a:lnTo>
                  <a:pt x="179" y="178"/>
                </a:lnTo>
                <a:lnTo>
                  <a:pt x="171" y="155"/>
                </a:lnTo>
                <a:lnTo>
                  <a:pt x="139" y="158"/>
                </a:lnTo>
                <a:lnTo>
                  <a:pt x="103" y="154"/>
                </a:lnTo>
                <a:lnTo>
                  <a:pt x="56" y="162"/>
                </a:lnTo>
                <a:lnTo>
                  <a:pt x="48" y="158"/>
                </a:lnTo>
                <a:lnTo>
                  <a:pt x="51" y="150"/>
                </a:lnTo>
                <a:lnTo>
                  <a:pt x="126" y="142"/>
                </a:lnTo>
                <a:lnTo>
                  <a:pt x="140" y="133"/>
                </a:lnTo>
                <a:lnTo>
                  <a:pt x="150" y="139"/>
                </a:lnTo>
                <a:lnTo>
                  <a:pt x="163" y="132"/>
                </a:lnTo>
                <a:lnTo>
                  <a:pt x="211" y="136"/>
                </a:lnTo>
                <a:lnTo>
                  <a:pt x="226" y="120"/>
                </a:lnTo>
                <a:lnTo>
                  <a:pt x="214" y="121"/>
                </a:lnTo>
                <a:lnTo>
                  <a:pt x="207" y="129"/>
                </a:lnTo>
                <a:lnTo>
                  <a:pt x="163" y="124"/>
                </a:lnTo>
                <a:lnTo>
                  <a:pt x="172" y="112"/>
                </a:lnTo>
                <a:lnTo>
                  <a:pt x="218" y="97"/>
                </a:lnTo>
                <a:lnTo>
                  <a:pt x="200" y="92"/>
                </a:lnTo>
                <a:lnTo>
                  <a:pt x="184" y="96"/>
                </a:lnTo>
                <a:lnTo>
                  <a:pt x="171" y="85"/>
                </a:lnTo>
                <a:lnTo>
                  <a:pt x="132" y="83"/>
                </a:lnTo>
                <a:lnTo>
                  <a:pt x="104" y="95"/>
                </a:lnTo>
                <a:lnTo>
                  <a:pt x="71" y="99"/>
                </a:lnTo>
                <a:lnTo>
                  <a:pt x="36" y="92"/>
                </a:lnTo>
                <a:lnTo>
                  <a:pt x="0" y="9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65640" y="3544920"/>
            <a:ext cx="590760" cy="517320"/>
          </a:xfrm>
          <a:custGeom>
            <a:avLst/>
            <a:gdLst/>
            <a:ahLst/>
            <a:rect l="l" t="t" r="r" b="b"/>
            <a:pathLst>
              <a:path w="950" h="826">
                <a:moveTo>
                  <a:pt x="0" y="194"/>
                </a:moveTo>
                <a:lnTo>
                  <a:pt x="3" y="179"/>
                </a:lnTo>
                <a:lnTo>
                  <a:pt x="27" y="163"/>
                </a:lnTo>
                <a:lnTo>
                  <a:pt x="7" y="115"/>
                </a:lnTo>
                <a:lnTo>
                  <a:pt x="20" y="108"/>
                </a:lnTo>
                <a:lnTo>
                  <a:pt x="89" y="102"/>
                </a:lnTo>
                <a:lnTo>
                  <a:pt x="110" y="86"/>
                </a:lnTo>
                <a:lnTo>
                  <a:pt x="118" y="67"/>
                </a:lnTo>
                <a:lnTo>
                  <a:pt x="135" y="60"/>
                </a:lnTo>
                <a:lnTo>
                  <a:pt x="145" y="83"/>
                </a:lnTo>
                <a:lnTo>
                  <a:pt x="178" y="106"/>
                </a:lnTo>
                <a:lnTo>
                  <a:pt x="206" y="55"/>
                </a:lnTo>
                <a:lnTo>
                  <a:pt x="224" y="65"/>
                </a:lnTo>
                <a:lnTo>
                  <a:pt x="272" y="69"/>
                </a:lnTo>
                <a:lnTo>
                  <a:pt x="271" y="43"/>
                </a:lnTo>
                <a:lnTo>
                  <a:pt x="293" y="39"/>
                </a:lnTo>
                <a:lnTo>
                  <a:pt x="297" y="19"/>
                </a:lnTo>
                <a:lnTo>
                  <a:pt x="321" y="23"/>
                </a:lnTo>
                <a:lnTo>
                  <a:pt x="374" y="9"/>
                </a:lnTo>
                <a:lnTo>
                  <a:pt x="434" y="0"/>
                </a:lnTo>
                <a:lnTo>
                  <a:pt x="446" y="25"/>
                </a:lnTo>
                <a:lnTo>
                  <a:pt x="462" y="35"/>
                </a:lnTo>
                <a:lnTo>
                  <a:pt x="482" y="41"/>
                </a:lnTo>
                <a:lnTo>
                  <a:pt x="558" y="52"/>
                </a:lnTo>
                <a:lnTo>
                  <a:pt x="541" y="77"/>
                </a:lnTo>
                <a:lnTo>
                  <a:pt x="552" y="79"/>
                </a:lnTo>
                <a:lnTo>
                  <a:pt x="545" y="95"/>
                </a:lnTo>
                <a:lnTo>
                  <a:pt x="554" y="112"/>
                </a:lnTo>
                <a:lnTo>
                  <a:pt x="581" y="131"/>
                </a:lnTo>
                <a:lnTo>
                  <a:pt x="574" y="139"/>
                </a:lnTo>
                <a:lnTo>
                  <a:pt x="558" y="138"/>
                </a:lnTo>
                <a:lnTo>
                  <a:pt x="562" y="122"/>
                </a:lnTo>
                <a:lnTo>
                  <a:pt x="525" y="123"/>
                </a:lnTo>
                <a:lnTo>
                  <a:pt x="447" y="152"/>
                </a:lnTo>
                <a:lnTo>
                  <a:pt x="447" y="178"/>
                </a:lnTo>
                <a:lnTo>
                  <a:pt x="463" y="189"/>
                </a:lnTo>
                <a:lnTo>
                  <a:pt x="454" y="202"/>
                </a:lnTo>
                <a:lnTo>
                  <a:pt x="453" y="222"/>
                </a:lnTo>
                <a:lnTo>
                  <a:pt x="453" y="244"/>
                </a:lnTo>
                <a:lnTo>
                  <a:pt x="463" y="265"/>
                </a:lnTo>
                <a:lnTo>
                  <a:pt x="550" y="313"/>
                </a:lnTo>
                <a:lnTo>
                  <a:pt x="599" y="404"/>
                </a:lnTo>
                <a:lnTo>
                  <a:pt x="643" y="439"/>
                </a:lnTo>
                <a:lnTo>
                  <a:pt x="645" y="448"/>
                </a:lnTo>
                <a:lnTo>
                  <a:pt x="685" y="475"/>
                </a:lnTo>
                <a:lnTo>
                  <a:pt x="687" y="464"/>
                </a:lnTo>
                <a:lnTo>
                  <a:pt x="752" y="460"/>
                </a:lnTo>
                <a:lnTo>
                  <a:pt x="762" y="471"/>
                </a:lnTo>
                <a:lnTo>
                  <a:pt x="760" y="482"/>
                </a:lnTo>
                <a:lnTo>
                  <a:pt x="740" y="497"/>
                </a:lnTo>
                <a:lnTo>
                  <a:pt x="746" y="507"/>
                </a:lnTo>
                <a:lnTo>
                  <a:pt x="906" y="573"/>
                </a:lnTo>
                <a:lnTo>
                  <a:pt x="950" y="629"/>
                </a:lnTo>
                <a:lnTo>
                  <a:pt x="940" y="653"/>
                </a:lnTo>
                <a:lnTo>
                  <a:pt x="922" y="645"/>
                </a:lnTo>
                <a:lnTo>
                  <a:pt x="906" y="618"/>
                </a:lnTo>
                <a:lnTo>
                  <a:pt x="846" y="590"/>
                </a:lnTo>
                <a:lnTo>
                  <a:pt x="831" y="594"/>
                </a:lnTo>
                <a:lnTo>
                  <a:pt x="814" y="609"/>
                </a:lnTo>
                <a:lnTo>
                  <a:pt x="801" y="625"/>
                </a:lnTo>
                <a:lnTo>
                  <a:pt x="793" y="663"/>
                </a:lnTo>
                <a:lnTo>
                  <a:pt x="835" y="689"/>
                </a:lnTo>
                <a:lnTo>
                  <a:pt x="839" y="728"/>
                </a:lnTo>
                <a:lnTo>
                  <a:pt x="802" y="743"/>
                </a:lnTo>
                <a:lnTo>
                  <a:pt x="794" y="786"/>
                </a:lnTo>
                <a:lnTo>
                  <a:pt x="774" y="795"/>
                </a:lnTo>
                <a:lnTo>
                  <a:pt x="754" y="826"/>
                </a:lnTo>
                <a:lnTo>
                  <a:pt x="731" y="826"/>
                </a:lnTo>
                <a:lnTo>
                  <a:pt x="726" y="802"/>
                </a:lnTo>
                <a:lnTo>
                  <a:pt x="742" y="775"/>
                </a:lnTo>
                <a:lnTo>
                  <a:pt x="738" y="760"/>
                </a:lnTo>
                <a:lnTo>
                  <a:pt x="768" y="746"/>
                </a:lnTo>
                <a:lnTo>
                  <a:pt x="719" y="630"/>
                </a:lnTo>
                <a:lnTo>
                  <a:pt x="711" y="630"/>
                </a:lnTo>
                <a:lnTo>
                  <a:pt x="703" y="641"/>
                </a:lnTo>
                <a:lnTo>
                  <a:pt x="672" y="620"/>
                </a:lnTo>
                <a:lnTo>
                  <a:pt x="656" y="581"/>
                </a:lnTo>
                <a:lnTo>
                  <a:pt x="620" y="582"/>
                </a:lnTo>
                <a:lnTo>
                  <a:pt x="620" y="569"/>
                </a:lnTo>
                <a:lnTo>
                  <a:pt x="596" y="561"/>
                </a:lnTo>
                <a:lnTo>
                  <a:pt x="569" y="527"/>
                </a:lnTo>
                <a:lnTo>
                  <a:pt x="514" y="526"/>
                </a:lnTo>
                <a:lnTo>
                  <a:pt x="475" y="501"/>
                </a:lnTo>
                <a:lnTo>
                  <a:pt x="430" y="454"/>
                </a:lnTo>
                <a:lnTo>
                  <a:pt x="417" y="454"/>
                </a:lnTo>
                <a:lnTo>
                  <a:pt x="395" y="428"/>
                </a:lnTo>
                <a:lnTo>
                  <a:pt x="382" y="420"/>
                </a:lnTo>
                <a:lnTo>
                  <a:pt x="359" y="423"/>
                </a:lnTo>
                <a:lnTo>
                  <a:pt x="355" y="404"/>
                </a:lnTo>
                <a:lnTo>
                  <a:pt x="311" y="365"/>
                </a:lnTo>
                <a:lnTo>
                  <a:pt x="279" y="281"/>
                </a:lnTo>
                <a:lnTo>
                  <a:pt x="196" y="244"/>
                </a:lnTo>
                <a:lnTo>
                  <a:pt x="169" y="241"/>
                </a:lnTo>
                <a:lnTo>
                  <a:pt x="141" y="250"/>
                </a:lnTo>
                <a:lnTo>
                  <a:pt x="117" y="285"/>
                </a:lnTo>
                <a:lnTo>
                  <a:pt x="67" y="294"/>
                </a:lnTo>
                <a:lnTo>
                  <a:pt x="69" y="272"/>
                </a:lnTo>
                <a:lnTo>
                  <a:pt x="65" y="264"/>
                </a:lnTo>
                <a:lnTo>
                  <a:pt x="28" y="260"/>
                </a:lnTo>
                <a:lnTo>
                  <a:pt x="14" y="237"/>
                </a:lnTo>
                <a:lnTo>
                  <a:pt x="16" y="203"/>
                </a:lnTo>
                <a:lnTo>
                  <a:pt x="0" y="194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41960" y="3873600"/>
            <a:ext cx="77760" cy="136440"/>
          </a:xfrm>
          <a:custGeom>
            <a:avLst/>
            <a:gdLst/>
            <a:ahLst/>
            <a:rect l="l" t="t" r="r" b="b"/>
            <a:pathLst>
              <a:path w="121" h="219">
                <a:moveTo>
                  <a:pt x="0" y="58"/>
                </a:moveTo>
                <a:lnTo>
                  <a:pt x="0" y="31"/>
                </a:lnTo>
                <a:lnTo>
                  <a:pt x="13" y="40"/>
                </a:lnTo>
                <a:lnTo>
                  <a:pt x="27" y="38"/>
                </a:lnTo>
                <a:lnTo>
                  <a:pt x="74" y="0"/>
                </a:lnTo>
                <a:lnTo>
                  <a:pt x="91" y="4"/>
                </a:lnTo>
                <a:lnTo>
                  <a:pt x="104" y="22"/>
                </a:lnTo>
                <a:lnTo>
                  <a:pt x="121" y="77"/>
                </a:lnTo>
                <a:lnTo>
                  <a:pt x="115" y="173"/>
                </a:lnTo>
                <a:lnTo>
                  <a:pt x="100" y="193"/>
                </a:lnTo>
                <a:lnTo>
                  <a:pt x="83" y="189"/>
                </a:lnTo>
                <a:lnTo>
                  <a:pt x="68" y="207"/>
                </a:lnTo>
                <a:lnTo>
                  <a:pt x="43" y="219"/>
                </a:lnTo>
                <a:lnTo>
                  <a:pt x="22" y="192"/>
                </a:lnTo>
                <a:lnTo>
                  <a:pt x="16" y="164"/>
                </a:lnTo>
                <a:lnTo>
                  <a:pt x="26" y="125"/>
                </a:lnTo>
                <a:lnTo>
                  <a:pt x="19" y="77"/>
                </a:lnTo>
                <a:lnTo>
                  <a:pt x="0" y="58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57960" y="4043520"/>
            <a:ext cx="152280" cy="90360"/>
          </a:xfrm>
          <a:custGeom>
            <a:avLst/>
            <a:gdLst/>
            <a:ahLst/>
            <a:rect l="l" t="t" r="r" b="b"/>
            <a:pathLst>
              <a:path w="249" h="145">
                <a:moveTo>
                  <a:pt x="0" y="34"/>
                </a:moveTo>
                <a:lnTo>
                  <a:pt x="6" y="52"/>
                </a:lnTo>
                <a:lnTo>
                  <a:pt x="12" y="60"/>
                </a:lnTo>
                <a:lnTo>
                  <a:pt x="55" y="72"/>
                </a:lnTo>
                <a:lnTo>
                  <a:pt x="111" y="106"/>
                </a:lnTo>
                <a:lnTo>
                  <a:pt x="148" y="114"/>
                </a:lnTo>
                <a:lnTo>
                  <a:pt x="176" y="141"/>
                </a:lnTo>
                <a:lnTo>
                  <a:pt x="212" y="145"/>
                </a:lnTo>
                <a:lnTo>
                  <a:pt x="225" y="113"/>
                </a:lnTo>
                <a:lnTo>
                  <a:pt x="212" y="78"/>
                </a:lnTo>
                <a:lnTo>
                  <a:pt x="249" y="0"/>
                </a:lnTo>
                <a:lnTo>
                  <a:pt x="97" y="28"/>
                </a:lnTo>
                <a:lnTo>
                  <a:pt x="91" y="18"/>
                </a:lnTo>
                <a:lnTo>
                  <a:pt x="61" y="5"/>
                </a:lnTo>
                <a:lnTo>
                  <a:pt x="28" y="18"/>
                </a:lnTo>
                <a:lnTo>
                  <a:pt x="15" y="9"/>
                </a:lnTo>
                <a:lnTo>
                  <a:pt x="6" y="16"/>
                </a:lnTo>
                <a:lnTo>
                  <a:pt x="0" y="34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08560" y="3529080"/>
            <a:ext cx="11160" cy="22320"/>
          </a:xfrm>
          <a:custGeom>
            <a:avLst/>
            <a:gdLst/>
            <a:ahLst/>
            <a:rect l="l" t="t" r="r" b="b"/>
            <a:pathLst>
              <a:path w="21" h="35">
                <a:moveTo>
                  <a:pt x="0" y="21"/>
                </a:moveTo>
                <a:lnTo>
                  <a:pt x="9" y="0"/>
                </a:lnTo>
                <a:lnTo>
                  <a:pt x="20" y="5"/>
                </a:lnTo>
                <a:lnTo>
                  <a:pt x="21" y="13"/>
                </a:lnTo>
                <a:lnTo>
                  <a:pt x="13" y="35"/>
                </a:lnTo>
                <a:lnTo>
                  <a:pt x="0" y="21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13440" y="3370320"/>
            <a:ext cx="34920" cy="36360"/>
          </a:xfrm>
          <a:custGeom>
            <a:avLst/>
            <a:gdLst/>
            <a:ahLst/>
            <a:rect l="l" t="t" r="r" b="b"/>
            <a:pathLst>
              <a:path w="55" h="57">
                <a:moveTo>
                  <a:pt x="0" y="23"/>
                </a:moveTo>
                <a:lnTo>
                  <a:pt x="6" y="53"/>
                </a:lnTo>
                <a:lnTo>
                  <a:pt x="48" y="57"/>
                </a:lnTo>
                <a:lnTo>
                  <a:pt x="55" y="49"/>
                </a:lnTo>
                <a:lnTo>
                  <a:pt x="54" y="36"/>
                </a:lnTo>
                <a:lnTo>
                  <a:pt x="40" y="20"/>
                </a:lnTo>
                <a:lnTo>
                  <a:pt x="46" y="6"/>
                </a:lnTo>
                <a:lnTo>
                  <a:pt x="32" y="0"/>
                </a:lnTo>
                <a:lnTo>
                  <a:pt x="8" y="8"/>
                </a:lnTo>
                <a:lnTo>
                  <a:pt x="0" y="23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53000" y="4178160"/>
            <a:ext cx="9720" cy="3240"/>
          </a:xfrm>
          <a:custGeom>
            <a:avLst/>
            <a:gdLst/>
            <a:ahLst/>
            <a:rect l="l" t="t" r="r" b="b"/>
            <a:pathLst>
              <a:path w="17" h="8">
                <a:moveTo>
                  <a:pt x="0" y="0"/>
                </a:moveTo>
                <a:lnTo>
                  <a:pt x="5" y="8"/>
                </a:lnTo>
                <a:lnTo>
                  <a:pt x="17" y="6"/>
                </a:lnTo>
                <a:lnTo>
                  <a:pt x="0" y="0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8680" y="3186000"/>
            <a:ext cx="177840" cy="149400"/>
          </a:xfrm>
          <a:custGeom>
            <a:avLst/>
            <a:gdLst/>
            <a:ahLst/>
            <a:rect l="l" t="t" r="r" b="b"/>
            <a:pathLst>
              <a:path w="287" h="241">
                <a:moveTo>
                  <a:pt x="0" y="187"/>
                </a:moveTo>
                <a:lnTo>
                  <a:pt x="15" y="186"/>
                </a:lnTo>
                <a:lnTo>
                  <a:pt x="30" y="193"/>
                </a:lnTo>
                <a:lnTo>
                  <a:pt x="67" y="186"/>
                </a:lnTo>
                <a:lnTo>
                  <a:pt x="28" y="182"/>
                </a:lnTo>
                <a:lnTo>
                  <a:pt x="32" y="175"/>
                </a:lnTo>
                <a:lnTo>
                  <a:pt x="114" y="155"/>
                </a:lnTo>
                <a:lnTo>
                  <a:pt x="65" y="152"/>
                </a:lnTo>
                <a:lnTo>
                  <a:pt x="54" y="147"/>
                </a:lnTo>
                <a:lnTo>
                  <a:pt x="54" y="134"/>
                </a:lnTo>
                <a:lnTo>
                  <a:pt x="90" y="106"/>
                </a:lnTo>
                <a:lnTo>
                  <a:pt x="109" y="51"/>
                </a:lnTo>
                <a:lnTo>
                  <a:pt x="122" y="48"/>
                </a:lnTo>
                <a:lnTo>
                  <a:pt x="137" y="61"/>
                </a:lnTo>
                <a:lnTo>
                  <a:pt x="122" y="72"/>
                </a:lnTo>
                <a:lnTo>
                  <a:pt x="122" y="95"/>
                </a:lnTo>
                <a:lnTo>
                  <a:pt x="156" y="102"/>
                </a:lnTo>
                <a:lnTo>
                  <a:pt x="145" y="84"/>
                </a:lnTo>
                <a:lnTo>
                  <a:pt x="162" y="76"/>
                </a:lnTo>
                <a:lnTo>
                  <a:pt x="169" y="52"/>
                </a:lnTo>
                <a:lnTo>
                  <a:pt x="156" y="49"/>
                </a:lnTo>
                <a:lnTo>
                  <a:pt x="150" y="35"/>
                </a:lnTo>
                <a:lnTo>
                  <a:pt x="162" y="16"/>
                </a:lnTo>
                <a:lnTo>
                  <a:pt x="189" y="5"/>
                </a:lnTo>
                <a:lnTo>
                  <a:pt x="256" y="0"/>
                </a:lnTo>
                <a:lnTo>
                  <a:pt x="287" y="16"/>
                </a:lnTo>
                <a:lnTo>
                  <a:pt x="271" y="60"/>
                </a:lnTo>
                <a:lnTo>
                  <a:pt x="249" y="72"/>
                </a:lnTo>
                <a:lnTo>
                  <a:pt x="252" y="81"/>
                </a:lnTo>
                <a:lnTo>
                  <a:pt x="280" y="90"/>
                </a:lnTo>
                <a:lnTo>
                  <a:pt x="277" y="100"/>
                </a:lnTo>
                <a:lnTo>
                  <a:pt x="252" y="118"/>
                </a:lnTo>
                <a:lnTo>
                  <a:pt x="244" y="139"/>
                </a:lnTo>
                <a:lnTo>
                  <a:pt x="198" y="136"/>
                </a:lnTo>
                <a:lnTo>
                  <a:pt x="202" y="202"/>
                </a:lnTo>
                <a:lnTo>
                  <a:pt x="193" y="210"/>
                </a:lnTo>
                <a:lnTo>
                  <a:pt x="193" y="218"/>
                </a:lnTo>
                <a:lnTo>
                  <a:pt x="200" y="241"/>
                </a:lnTo>
                <a:lnTo>
                  <a:pt x="172" y="235"/>
                </a:lnTo>
                <a:lnTo>
                  <a:pt x="170" y="202"/>
                </a:lnTo>
                <a:lnTo>
                  <a:pt x="132" y="191"/>
                </a:lnTo>
                <a:lnTo>
                  <a:pt x="117" y="178"/>
                </a:lnTo>
                <a:lnTo>
                  <a:pt x="77" y="182"/>
                </a:lnTo>
                <a:lnTo>
                  <a:pt x="26" y="198"/>
                </a:lnTo>
                <a:lnTo>
                  <a:pt x="0" y="187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81760" y="2185920"/>
            <a:ext cx="1306440" cy="738360"/>
          </a:xfrm>
          <a:custGeom>
            <a:avLst/>
            <a:gdLst/>
            <a:ahLst/>
            <a:rect l="l" t="t" r="r" b="b"/>
            <a:pathLst>
              <a:path w="2104" h="1182">
                <a:moveTo>
                  <a:pt x="0" y="935"/>
                </a:moveTo>
                <a:lnTo>
                  <a:pt x="6" y="929"/>
                </a:lnTo>
                <a:lnTo>
                  <a:pt x="27" y="937"/>
                </a:lnTo>
                <a:lnTo>
                  <a:pt x="27" y="925"/>
                </a:lnTo>
                <a:lnTo>
                  <a:pt x="6" y="925"/>
                </a:lnTo>
                <a:lnTo>
                  <a:pt x="10" y="917"/>
                </a:lnTo>
                <a:lnTo>
                  <a:pt x="19" y="907"/>
                </a:lnTo>
                <a:lnTo>
                  <a:pt x="135" y="903"/>
                </a:lnTo>
                <a:lnTo>
                  <a:pt x="150" y="909"/>
                </a:lnTo>
                <a:lnTo>
                  <a:pt x="154" y="923"/>
                </a:lnTo>
                <a:lnTo>
                  <a:pt x="175" y="917"/>
                </a:lnTo>
                <a:lnTo>
                  <a:pt x="167" y="910"/>
                </a:lnTo>
                <a:lnTo>
                  <a:pt x="168" y="903"/>
                </a:lnTo>
                <a:lnTo>
                  <a:pt x="215" y="889"/>
                </a:lnTo>
                <a:lnTo>
                  <a:pt x="188" y="891"/>
                </a:lnTo>
                <a:lnTo>
                  <a:pt x="205" y="863"/>
                </a:lnTo>
                <a:lnTo>
                  <a:pt x="187" y="870"/>
                </a:lnTo>
                <a:lnTo>
                  <a:pt x="180" y="887"/>
                </a:lnTo>
                <a:lnTo>
                  <a:pt x="166" y="897"/>
                </a:lnTo>
                <a:lnTo>
                  <a:pt x="123" y="894"/>
                </a:lnTo>
                <a:lnTo>
                  <a:pt x="123" y="875"/>
                </a:lnTo>
                <a:lnTo>
                  <a:pt x="107" y="897"/>
                </a:lnTo>
                <a:lnTo>
                  <a:pt x="12" y="901"/>
                </a:lnTo>
                <a:lnTo>
                  <a:pt x="6" y="877"/>
                </a:lnTo>
                <a:lnTo>
                  <a:pt x="25" y="867"/>
                </a:lnTo>
                <a:lnTo>
                  <a:pt x="25" y="856"/>
                </a:lnTo>
                <a:lnTo>
                  <a:pt x="4" y="847"/>
                </a:lnTo>
                <a:lnTo>
                  <a:pt x="37" y="835"/>
                </a:lnTo>
                <a:lnTo>
                  <a:pt x="114" y="831"/>
                </a:lnTo>
                <a:lnTo>
                  <a:pt x="76" y="830"/>
                </a:lnTo>
                <a:lnTo>
                  <a:pt x="99" y="823"/>
                </a:lnTo>
                <a:lnTo>
                  <a:pt x="21" y="830"/>
                </a:lnTo>
                <a:lnTo>
                  <a:pt x="13" y="810"/>
                </a:lnTo>
                <a:lnTo>
                  <a:pt x="45" y="818"/>
                </a:lnTo>
                <a:lnTo>
                  <a:pt x="41" y="808"/>
                </a:lnTo>
                <a:lnTo>
                  <a:pt x="75" y="807"/>
                </a:lnTo>
                <a:lnTo>
                  <a:pt x="92" y="818"/>
                </a:lnTo>
                <a:lnTo>
                  <a:pt x="83" y="808"/>
                </a:lnTo>
                <a:lnTo>
                  <a:pt x="108" y="791"/>
                </a:lnTo>
                <a:lnTo>
                  <a:pt x="130" y="806"/>
                </a:lnTo>
                <a:lnTo>
                  <a:pt x="123" y="787"/>
                </a:lnTo>
                <a:lnTo>
                  <a:pt x="132" y="777"/>
                </a:lnTo>
                <a:lnTo>
                  <a:pt x="112" y="781"/>
                </a:lnTo>
                <a:lnTo>
                  <a:pt x="123" y="776"/>
                </a:lnTo>
                <a:lnTo>
                  <a:pt x="110" y="772"/>
                </a:lnTo>
                <a:lnTo>
                  <a:pt x="147" y="765"/>
                </a:lnTo>
                <a:lnTo>
                  <a:pt x="205" y="771"/>
                </a:lnTo>
                <a:lnTo>
                  <a:pt x="202" y="767"/>
                </a:lnTo>
                <a:lnTo>
                  <a:pt x="211" y="760"/>
                </a:lnTo>
                <a:lnTo>
                  <a:pt x="197" y="752"/>
                </a:lnTo>
                <a:lnTo>
                  <a:pt x="167" y="753"/>
                </a:lnTo>
                <a:lnTo>
                  <a:pt x="174" y="749"/>
                </a:lnTo>
                <a:lnTo>
                  <a:pt x="163" y="739"/>
                </a:lnTo>
                <a:lnTo>
                  <a:pt x="202" y="737"/>
                </a:lnTo>
                <a:lnTo>
                  <a:pt x="211" y="720"/>
                </a:lnTo>
                <a:lnTo>
                  <a:pt x="247" y="715"/>
                </a:lnTo>
                <a:lnTo>
                  <a:pt x="257" y="705"/>
                </a:lnTo>
                <a:lnTo>
                  <a:pt x="258" y="712"/>
                </a:lnTo>
                <a:lnTo>
                  <a:pt x="274" y="712"/>
                </a:lnTo>
                <a:lnTo>
                  <a:pt x="294" y="692"/>
                </a:lnTo>
                <a:lnTo>
                  <a:pt x="333" y="684"/>
                </a:lnTo>
                <a:lnTo>
                  <a:pt x="342" y="698"/>
                </a:lnTo>
                <a:lnTo>
                  <a:pt x="360" y="694"/>
                </a:lnTo>
                <a:lnTo>
                  <a:pt x="350" y="682"/>
                </a:lnTo>
                <a:lnTo>
                  <a:pt x="383" y="672"/>
                </a:lnTo>
                <a:lnTo>
                  <a:pt x="403" y="693"/>
                </a:lnTo>
                <a:lnTo>
                  <a:pt x="415" y="696"/>
                </a:lnTo>
                <a:lnTo>
                  <a:pt x="421" y="686"/>
                </a:lnTo>
                <a:lnTo>
                  <a:pt x="464" y="681"/>
                </a:lnTo>
                <a:lnTo>
                  <a:pt x="457" y="673"/>
                </a:lnTo>
                <a:lnTo>
                  <a:pt x="467" y="668"/>
                </a:lnTo>
                <a:lnTo>
                  <a:pt x="514" y="657"/>
                </a:lnTo>
                <a:lnTo>
                  <a:pt x="520" y="652"/>
                </a:lnTo>
                <a:lnTo>
                  <a:pt x="514" y="649"/>
                </a:lnTo>
                <a:lnTo>
                  <a:pt x="419" y="681"/>
                </a:lnTo>
                <a:lnTo>
                  <a:pt x="399" y="670"/>
                </a:lnTo>
                <a:lnTo>
                  <a:pt x="405" y="658"/>
                </a:lnTo>
                <a:lnTo>
                  <a:pt x="389" y="662"/>
                </a:lnTo>
                <a:lnTo>
                  <a:pt x="383" y="652"/>
                </a:lnTo>
                <a:lnTo>
                  <a:pt x="415" y="642"/>
                </a:lnTo>
                <a:lnTo>
                  <a:pt x="415" y="629"/>
                </a:lnTo>
                <a:lnTo>
                  <a:pt x="480" y="586"/>
                </a:lnTo>
                <a:lnTo>
                  <a:pt x="504" y="594"/>
                </a:lnTo>
                <a:lnTo>
                  <a:pt x="520" y="591"/>
                </a:lnTo>
                <a:lnTo>
                  <a:pt x="522" y="571"/>
                </a:lnTo>
                <a:lnTo>
                  <a:pt x="547" y="566"/>
                </a:lnTo>
                <a:lnTo>
                  <a:pt x="514" y="570"/>
                </a:lnTo>
                <a:lnTo>
                  <a:pt x="520" y="557"/>
                </a:lnTo>
                <a:lnTo>
                  <a:pt x="542" y="550"/>
                </a:lnTo>
                <a:lnTo>
                  <a:pt x="555" y="535"/>
                </a:lnTo>
                <a:lnTo>
                  <a:pt x="599" y="532"/>
                </a:lnTo>
                <a:lnTo>
                  <a:pt x="595" y="516"/>
                </a:lnTo>
                <a:lnTo>
                  <a:pt x="587" y="522"/>
                </a:lnTo>
                <a:lnTo>
                  <a:pt x="574" y="522"/>
                </a:lnTo>
                <a:lnTo>
                  <a:pt x="593" y="510"/>
                </a:lnTo>
                <a:lnTo>
                  <a:pt x="593" y="499"/>
                </a:lnTo>
                <a:lnTo>
                  <a:pt x="621" y="515"/>
                </a:lnTo>
                <a:lnTo>
                  <a:pt x="603" y="491"/>
                </a:lnTo>
                <a:lnTo>
                  <a:pt x="626" y="487"/>
                </a:lnTo>
                <a:lnTo>
                  <a:pt x="630" y="465"/>
                </a:lnTo>
                <a:lnTo>
                  <a:pt x="661" y="471"/>
                </a:lnTo>
                <a:lnTo>
                  <a:pt x="650" y="455"/>
                </a:lnTo>
                <a:lnTo>
                  <a:pt x="609" y="464"/>
                </a:lnTo>
                <a:lnTo>
                  <a:pt x="642" y="448"/>
                </a:lnTo>
                <a:lnTo>
                  <a:pt x="650" y="436"/>
                </a:lnTo>
                <a:lnTo>
                  <a:pt x="681" y="433"/>
                </a:lnTo>
                <a:lnTo>
                  <a:pt x="684" y="428"/>
                </a:lnTo>
                <a:lnTo>
                  <a:pt x="678" y="425"/>
                </a:lnTo>
                <a:lnTo>
                  <a:pt x="670" y="431"/>
                </a:lnTo>
                <a:lnTo>
                  <a:pt x="661" y="415"/>
                </a:lnTo>
                <a:lnTo>
                  <a:pt x="688" y="408"/>
                </a:lnTo>
                <a:lnTo>
                  <a:pt x="668" y="407"/>
                </a:lnTo>
                <a:lnTo>
                  <a:pt x="674" y="396"/>
                </a:lnTo>
                <a:lnTo>
                  <a:pt x="712" y="384"/>
                </a:lnTo>
                <a:lnTo>
                  <a:pt x="702" y="378"/>
                </a:lnTo>
                <a:lnTo>
                  <a:pt x="716" y="369"/>
                </a:lnTo>
                <a:lnTo>
                  <a:pt x="745" y="368"/>
                </a:lnTo>
                <a:lnTo>
                  <a:pt x="764" y="352"/>
                </a:lnTo>
                <a:lnTo>
                  <a:pt x="759" y="340"/>
                </a:lnTo>
                <a:lnTo>
                  <a:pt x="780" y="325"/>
                </a:lnTo>
                <a:lnTo>
                  <a:pt x="809" y="317"/>
                </a:lnTo>
                <a:lnTo>
                  <a:pt x="817" y="326"/>
                </a:lnTo>
                <a:lnTo>
                  <a:pt x="843" y="328"/>
                </a:lnTo>
                <a:lnTo>
                  <a:pt x="872" y="316"/>
                </a:lnTo>
                <a:lnTo>
                  <a:pt x="827" y="314"/>
                </a:lnTo>
                <a:lnTo>
                  <a:pt x="856" y="305"/>
                </a:lnTo>
                <a:lnTo>
                  <a:pt x="846" y="287"/>
                </a:lnTo>
                <a:lnTo>
                  <a:pt x="878" y="275"/>
                </a:lnTo>
                <a:lnTo>
                  <a:pt x="860" y="273"/>
                </a:lnTo>
                <a:lnTo>
                  <a:pt x="892" y="262"/>
                </a:lnTo>
                <a:lnTo>
                  <a:pt x="902" y="286"/>
                </a:lnTo>
                <a:lnTo>
                  <a:pt x="912" y="286"/>
                </a:lnTo>
                <a:lnTo>
                  <a:pt x="912" y="278"/>
                </a:lnTo>
                <a:lnTo>
                  <a:pt x="925" y="281"/>
                </a:lnTo>
                <a:lnTo>
                  <a:pt x="914" y="246"/>
                </a:lnTo>
                <a:lnTo>
                  <a:pt x="934" y="241"/>
                </a:lnTo>
                <a:lnTo>
                  <a:pt x="994" y="251"/>
                </a:lnTo>
                <a:lnTo>
                  <a:pt x="1003" y="238"/>
                </a:lnTo>
                <a:lnTo>
                  <a:pt x="1021" y="238"/>
                </a:lnTo>
                <a:lnTo>
                  <a:pt x="1010" y="231"/>
                </a:lnTo>
                <a:lnTo>
                  <a:pt x="993" y="237"/>
                </a:lnTo>
                <a:lnTo>
                  <a:pt x="969" y="230"/>
                </a:lnTo>
                <a:lnTo>
                  <a:pt x="947" y="235"/>
                </a:lnTo>
                <a:lnTo>
                  <a:pt x="931" y="231"/>
                </a:lnTo>
                <a:lnTo>
                  <a:pt x="951" y="220"/>
                </a:lnTo>
                <a:lnTo>
                  <a:pt x="1003" y="218"/>
                </a:lnTo>
                <a:lnTo>
                  <a:pt x="1013" y="215"/>
                </a:lnTo>
                <a:lnTo>
                  <a:pt x="1001" y="210"/>
                </a:lnTo>
                <a:lnTo>
                  <a:pt x="1028" y="211"/>
                </a:lnTo>
                <a:lnTo>
                  <a:pt x="1021" y="200"/>
                </a:lnTo>
                <a:lnTo>
                  <a:pt x="1040" y="202"/>
                </a:lnTo>
                <a:lnTo>
                  <a:pt x="1017" y="198"/>
                </a:lnTo>
                <a:lnTo>
                  <a:pt x="1016" y="187"/>
                </a:lnTo>
                <a:lnTo>
                  <a:pt x="1062" y="172"/>
                </a:lnTo>
                <a:lnTo>
                  <a:pt x="1054" y="163"/>
                </a:lnTo>
                <a:lnTo>
                  <a:pt x="1068" y="145"/>
                </a:lnTo>
                <a:lnTo>
                  <a:pt x="1076" y="148"/>
                </a:lnTo>
                <a:lnTo>
                  <a:pt x="1073" y="159"/>
                </a:lnTo>
                <a:lnTo>
                  <a:pt x="1086" y="156"/>
                </a:lnTo>
                <a:lnTo>
                  <a:pt x="1107" y="164"/>
                </a:lnTo>
                <a:lnTo>
                  <a:pt x="1119" y="159"/>
                </a:lnTo>
                <a:lnTo>
                  <a:pt x="1090" y="141"/>
                </a:lnTo>
                <a:lnTo>
                  <a:pt x="1109" y="140"/>
                </a:lnTo>
                <a:lnTo>
                  <a:pt x="1171" y="170"/>
                </a:lnTo>
                <a:lnTo>
                  <a:pt x="1163" y="155"/>
                </a:lnTo>
                <a:lnTo>
                  <a:pt x="1136" y="145"/>
                </a:lnTo>
                <a:lnTo>
                  <a:pt x="1132" y="131"/>
                </a:lnTo>
                <a:lnTo>
                  <a:pt x="1148" y="121"/>
                </a:lnTo>
                <a:lnTo>
                  <a:pt x="1184" y="117"/>
                </a:lnTo>
                <a:lnTo>
                  <a:pt x="1188" y="148"/>
                </a:lnTo>
                <a:lnTo>
                  <a:pt x="1199" y="123"/>
                </a:lnTo>
                <a:lnTo>
                  <a:pt x="1238" y="105"/>
                </a:lnTo>
                <a:lnTo>
                  <a:pt x="1238" y="140"/>
                </a:lnTo>
                <a:lnTo>
                  <a:pt x="1222" y="159"/>
                </a:lnTo>
                <a:lnTo>
                  <a:pt x="1264" y="135"/>
                </a:lnTo>
                <a:lnTo>
                  <a:pt x="1259" y="121"/>
                </a:lnTo>
                <a:lnTo>
                  <a:pt x="1283" y="107"/>
                </a:lnTo>
                <a:lnTo>
                  <a:pt x="1297" y="105"/>
                </a:lnTo>
                <a:lnTo>
                  <a:pt x="1297" y="116"/>
                </a:lnTo>
                <a:lnTo>
                  <a:pt x="1319" y="107"/>
                </a:lnTo>
                <a:lnTo>
                  <a:pt x="1317" y="97"/>
                </a:lnTo>
                <a:lnTo>
                  <a:pt x="1374" y="125"/>
                </a:lnTo>
                <a:lnTo>
                  <a:pt x="1373" y="92"/>
                </a:lnTo>
                <a:lnTo>
                  <a:pt x="1339" y="87"/>
                </a:lnTo>
                <a:lnTo>
                  <a:pt x="1339" y="72"/>
                </a:lnTo>
                <a:lnTo>
                  <a:pt x="1359" y="85"/>
                </a:lnTo>
                <a:lnTo>
                  <a:pt x="1367" y="72"/>
                </a:lnTo>
                <a:lnTo>
                  <a:pt x="1381" y="72"/>
                </a:lnTo>
                <a:lnTo>
                  <a:pt x="1406" y="88"/>
                </a:lnTo>
                <a:lnTo>
                  <a:pt x="1412" y="87"/>
                </a:lnTo>
                <a:lnTo>
                  <a:pt x="1408" y="80"/>
                </a:lnTo>
                <a:lnTo>
                  <a:pt x="1453" y="83"/>
                </a:lnTo>
                <a:lnTo>
                  <a:pt x="1445" y="88"/>
                </a:lnTo>
                <a:lnTo>
                  <a:pt x="1464" y="91"/>
                </a:lnTo>
                <a:lnTo>
                  <a:pt x="1456" y="99"/>
                </a:lnTo>
                <a:lnTo>
                  <a:pt x="1476" y="101"/>
                </a:lnTo>
                <a:lnTo>
                  <a:pt x="1480" y="77"/>
                </a:lnTo>
                <a:lnTo>
                  <a:pt x="1523" y="57"/>
                </a:lnTo>
                <a:lnTo>
                  <a:pt x="1560" y="57"/>
                </a:lnTo>
                <a:lnTo>
                  <a:pt x="1555" y="50"/>
                </a:lnTo>
                <a:lnTo>
                  <a:pt x="1584" y="40"/>
                </a:lnTo>
                <a:lnTo>
                  <a:pt x="1563" y="24"/>
                </a:lnTo>
                <a:lnTo>
                  <a:pt x="1583" y="26"/>
                </a:lnTo>
                <a:lnTo>
                  <a:pt x="1584" y="13"/>
                </a:lnTo>
                <a:lnTo>
                  <a:pt x="1602" y="17"/>
                </a:lnTo>
                <a:lnTo>
                  <a:pt x="1616" y="10"/>
                </a:lnTo>
                <a:lnTo>
                  <a:pt x="1632" y="26"/>
                </a:lnTo>
                <a:lnTo>
                  <a:pt x="1670" y="20"/>
                </a:lnTo>
                <a:lnTo>
                  <a:pt x="1683" y="22"/>
                </a:lnTo>
                <a:lnTo>
                  <a:pt x="1630" y="57"/>
                </a:lnTo>
                <a:lnTo>
                  <a:pt x="1611" y="95"/>
                </a:lnTo>
                <a:lnTo>
                  <a:pt x="1745" y="14"/>
                </a:lnTo>
                <a:lnTo>
                  <a:pt x="1752" y="33"/>
                </a:lnTo>
                <a:lnTo>
                  <a:pt x="1738" y="37"/>
                </a:lnTo>
                <a:lnTo>
                  <a:pt x="1753" y="46"/>
                </a:lnTo>
                <a:lnTo>
                  <a:pt x="1745" y="65"/>
                </a:lnTo>
                <a:lnTo>
                  <a:pt x="1784" y="57"/>
                </a:lnTo>
                <a:lnTo>
                  <a:pt x="1826" y="0"/>
                </a:lnTo>
                <a:lnTo>
                  <a:pt x="1843" y="8"/>
                </a:lnTo>
                <a:lnTo>
                  <a:pt x="1872" y="2"/>
                </a:lnTo>
                <a:lnTo>
                  <a:pt x="1880" y="10"/>
                </a:lnTo>
                <a:lnTo>
                  <a:pt x="1896" y="10"/>
                </a:lnTo>
                <a:lnTo>
                  <a:pt x="1887" y="26"/>
                </a:lnTo>
                <a:lnTo>
                  <a:pt x="1849" y="30"/>
                </a:lnTo>
                <a:lnTo>
                  <a:pt x="1861" y="36"/>
                </a:lnTo>
                <a:lnTo>
                  <a:pt x="1841" y="41"/>
                </a:lnTo>
                <a:lnTo>
                  <a:pt x="1879" y="37"/>
                </a:lnTo>
                <a:lnTo>
                  <a:pt x="1883" y="41"/>
                </a:lnTo>
                <a:lnTo>
                  <a:pt x="1859" y="57"/>
                </a:lnTo>
                <a:lnTo>
                  <a:pt x="1907" y="56"/>
                </a:lnTo>
                <a:lnTo>
                  <a:pt x="1907" y="30"/>
                </a:lnTo>
                <a:lnTo>
                  <a:pt x="1920" y="22"/>
                </a:lnTo>
                <a:lnTo>
                  <a:pt x="1955" y="21"/>
                </a:lnTo>
                <a:lnTo>
                  <a:pt x="1968" y="37"/>
                </a:lnTo>
                <a:lnTo>
                  <a:pt x="1996" y="34"/>
                </a:lnTo>
                <a:lnTo>
                  <a:pt x="1998" y="41"/>
                </a:lnTo>
                <a:lnTo>
                  <a:pt x="2018" y="34"/>
                </a:lnTo>
                <a:lnTo>
                  <a:pt x="2050" y="44"/>
                </a:lnTo>
                <a:lnTo>
                  <a:pt x="2037" y="48"/>
                </a:lnTo>
                <a:lnTo>
                  <a:pt x="2073" y="50"/>
                </a:lnTo>
                <a:lnTo>
                  <a:pt x="2099" y="61"/>
                </a:lnTo>
                <a:lnTo>
                  <a:pt x="2104" y="68"/>
                </a:lnTo>
                <a:lnTo>
                  <a:pt x="2022" y="91"/>
                </a:lnTo>
                <a:lnTo>
                  <a:pt x="1916" y="83"/>
                </a:lnTo>
                <a:lnTo>
                  <a:pt x="1913" y="87"/>
                </a:lnTo>
                <a:lnTo>
                  <a:pt x="1975" y="101"/>
                </a:lnTo>
                <a:lnTo>
                  <a:pt x="1983" y="105"/>
                </a:lnTo>
                <a:lnTo>
                  <a:pt x="1976" y="108"/>
                </a:lnTo>
                <a:lnTo>
                  <a:pt x="2015" y="111"/>
                </a:lnTo>
                <a:lnTo>
                  <a:pt x="1984" y="129"/>
                </a:lnTo>
                <a:lnTo>
                  <a:pt x="2022" y="125"/>
                </a:lnTo>
                <a:lnTo>
                  <a:pt x="2029" y="129"/>
                </a:lnTo>
                <a:lnTo>
                  <a:pt x="2030" y="121"/>
                </a:lnTo>
                <a:lnTo>
                  <a:pt x="2058" y="129"/>
                </a:lnTo>
                <a:lnTo>
                  <a:pt x="2059" y="116"/>
                </a:lnTo>
                <a:lnTo>
                  <a:pt x="2097" y="120"/>
                </a:lnTo>
                <a:lnTo>
                  <a:pt x="2089" y="137"/>
                </a:lnTo>
                <a:lnTo>
                  <a:pt x="2037" y="132"/>
                </a:lnTo>
                <a:lnTo>
                  <a:pt x="2029" y="151"/>
                </a:lnTo>
                <a:lnTo>
                  <a:pt x="1947" y="183"/>
                </a:lnTo>
                <a:lnTo>
                  <a:pt x="1934" y="172"/>
                </a:lnTo>
                <a:lnTo>
                  <a:pt x="1968" y="151"/>
                </a:lnTo>
                <a:lnTo>
                  <a:pt x="1955" y="125"/>
                </a:lnTo>
                <a:lnTo>
                  <a:pt x="1887" y="107"/>
                </a:lnTo>
                <a:lnTo>
                  <a:pt x="1865" y="93"/>
                </a:lnTo>
                <a:lnTo>
                  <a:pt x="1738" y="105"/>
                </a:lnTo>
                <a:lnTo>
                  <a:pt x="1701" y="117"/>
                </a:lnTo>
                <a:lnTo>
                  <a:pt x="1683" y="136"/>
                </a:lnTo>
                <a:lnTo>
                  <a:pt x="1678" y="190"/>
                </a:lnTo>
                <a:lnTo>
                  <a:pt x="1584" y="218"/>
                </a:lnTo>
                <a:lnTo>
                  <a:pt x="1537" y="200"/>
                </a:lnTo>
                <a:lnTo>
                  <a:pt x="1489" y="215"/>
                </a:lnTo>
                <a:lnTo>
                  <a:pt x="1412" y="211"/>
                </a:lnTo>
                <a:lnTo>
                  <a:pt x="1354" y="168"/>
                </a:lnTo>
                <a:lnTo>
                  <a:pt x="1317" y="158"/>
                </a:lnTo>
                <a:lnTo>
                  <a:pt x="1297" y="162"/>
                </a:lnTo>
                <a:lnTo>
                  <a:pt x="1305" y="176"/>
                </a:lnTo>
                <a:lnTo>
                  <a:pt x="1264" y="178"/>
                </a:lnTo>
                <a:lnTo>
                  <a:pt x="1260" y="182"/>
                </a:lnTo>
                <a:lnTo>
                  <a:pt x="1218" y="183"/>
                </a:lnTo>
                <a:lnTo>
                  <a:pt x="1230" y="198"/>
                </a:lnTo>
                <a:lnTo>
                  <a:pt x="1208" y="223"/>
                </a:lnTo>
                <a:lnTo>
                  <a:pt x="1223" y="235"/>
                </a:lnTo>
                <a:lnTo>
                  <a:pt x="1211" y="239"/>
                </a:lnTo>
                <a:lnTo>
                  <a:pt x="1076" y="231"/>
                </a:lnTo>
                <a:lnTo>
                  <a:pt x="1062" y="239"/>
                </a:lnTo>
                <a:lnTo>
                  <a:pt x="1062" y="259"/>
                </a:lnTo>
                <a:lnTo>
                  <a:pt x="1041" y="282"/>
                </a:lnTo>
                <a:lnTo>
                  <a:pt x="1001" y="270"/>
                </a:lnTo>
                <a:lnTo>
                  <a:pt x="945" y="290"/>
                </a:lnTo>
                <a:lnTo>
                  <a:pt x="934" y="310"/>
                </a:lnTo>
                <a:lnTo>
                  <a:pt x="902" y="334"/>
                </a:lnTo>
                <a:lnTo>
                  <a:pt x="919" y="349"/>
                </a:lnTo>
                <a:lnTo>
                  <a:pt x="918" y="364"/>
                </a:lnTo>
                <a:lnTo>
                  <a:pt x="846" y="408"/>
                </a:lnTo>
                <a:lnTo>
                  <a:pt x="827" y="440"/>
                </a:lnTo>
                <a:lnTo>
                  <a:pt x="773" y="452"/>
                </a:lnTo>
                <a:lnTo>
                  <a:pt x="773" y="496"/>
                </a:lnTo>
                <a:lnTo>
                  <a:pt x="760" y="531"/>
                </a:lnTo>
                <a:lnTo>
                  <a:pt x="708" y="579"/>
                </a:lnTo>
                <a:lnTo>
                  <a:pt x="739" y="606"/>
                </a:lnTo>
                <a:lnTo>
                  <a:pt x="736" y="629"/>
                </a:lnTo>
                <a:lnTo>
                  <a:pt x="721" y="637"/>
                </a:lnTo>
                <a:lnTo>
                  <a:pt x="642" y="638"/>
                </a:lnTo>
                <a:lnTo>
                  <a:pt x="581" y="669"/>
                </a:lnTo>
                <a:lnTo>
                  <a:pt x="566" y="694"/>
                </a:lnTo>
                <a:lnTo>
                  <a:pt x="587" y="723"/>
                </a:lnTo>
                <a:lnTo>
                  <a:pt x="567" y="767"/>
                </a:lnTo>
                <a:lnTo>
                  <a:pt x="579" y="791"/>
                </a:lnTo>
                <a:lnTo>
                  <a:pt x="579" y="840"/>
                </a:lnTo>
                <a:lnTo>
                  <a:pt x="621" y="863"/>
                </a:lnTo>
                <a:lnTo>
                  <a:pt x="626" y="881"/>
                </a:lnTo>
                <a:lnTo>
                  <a:pt x="615" y="894"/>
                </a:lnTo>
                <a:lnTo>
                  <a:pt x="575" y="913"/>
                </a:lnTo>
                <a:lnTo>
                  <a:pt x="593" y="923"/>
                </a:lnTo>
                <a:lnTo>
                  <a:pt x="603" y="951"/>
                </a:lnTo>
                <a:lnTo>
                  <a:pt x="593" y="976"/>
                </a:lnTo>
                <a:lnTo>
                  <a:pt x="595" y="994"/>
                </a:lnTo>
                <a:lnTo>
                  <a:pt x="547" y="1012"/>
                </a:lnTo>
                <a:lnTo>
                  <a:pt x="528" y="1041"/>
                </a:lnTo>
                <a:lnTo>
                  <a:pt x="536" y="1065"/>
                </a:lnTo>
                <a:lnTo>
                  <a:pt x="526" y="1097"/>
                </a:lnTo>
                <a:lnTo>
                  <a:pt x="514" y="1101"/>
                </a:lnTo>
                <a:lnTo>
                  <a:pt x="506" y="1095"/>
                </a:lnTo>
                <a:lnTo>
                  <a:pt x="504" y="1107"/>
                </a:lnTo>
                <a:lnTo>
                  <a:pt x="499" y="1083"/>
                </a:lnTo>
                <a:lnTo>
                  <a:pt x="460" y="1072"/>
                </a:lnTo>
                <a:lnTo>
                  <a:pt x="447" y="1029"/>
                </a:lnTo>
                <a:lnTo>
                  <a:pt x="460" y="1016"/>
                </a:lnTo>
                <a:lnTo>
                  <a:pt x="452" y="1012"/>
                </a:lnTo>
                <a:lnTo>
                  <a:pt x="435" y="1017"/>
                </a:lnTo>
                <a:lnTo>
                  <a:pt x="441" y="1043"/>
                </a:lnTo>
                <a:lnTo>
                  <a:pt x="433" y="1044"/>
                </a:lnTo>
                <a:lnTo>
                  <a:pt x="421" y="1029"/>
                </a:lnTo>
                <a:lnTo>
                  <a:pt x="419" y="1044"/>
                </a:lnTo>
                <a:lnTo>
                  <a:pt x="435" y="1067"/>
                </a:lnTo>
                <a:lnTo>
                  <a:pt x="417" y="1089"/>
                </a:lnTo>
                <a:lnTo>
                  <a:pt x="366" y="1085"/>
                </a:lnTo>
                <a:lnTo>
                  <a:pt x="370" y="1093"/>
                </a:lnTo>
                <a:lnTo>
                  <a:pt x="329" y="1127"/>
                </a:lnTo>
                <a:lnTo>
                  <a:pt x="251" y="1166"/>
                </a:lnTo>
                <a:lnTo>
                  <a:pt x="241" y="1158"/>
                </a:lnTo>
                <a:lnTo>
                  <a:pt x="235" y="1168"/>
                </a:lnTo>
                <a:lnTo>
                  <a:pt x="198" y="1182"/>
                </a:lnTo>
                <a:lnTo>
                  <a:pt x="175" y="1176"/>
                </a:lnTo>
                <a:lnTo>
                  <a:pt x="184" y="1168"/>
                </a:lnTo>
                <a:lnTo>
                  <a:pt x="135" y="1175"/>
                </a:lnTo>
                <a:lnTo>
                  <a:pt x="139" y="1150"/>
                </a:lnTo>
                <a:lnTo>
                  <a:pt x="128" y="1160"/>
                </a:lnTo>
                <a:lnTo>
                  <a:pt x="108" y="1159"/>
                </a:lnTo>
                <a:lnTo>
                  <a:pt x="57" y="1135"/>
                </a:lnTo>
                <a:lnTo>
                  <a:pt x="39" y="1120"/>
                </a:lnTo>
                <a:lnTo>
                  <a:pt x="48" y="1093"/>
                </a:lnTo>
                <a:lnTo>
                  <a:pt x="76" y="1097"/>
                </a:lnTo>
                <a:lnTo>
                  <a:pt x="76" y="1089"/>
                </a:lnTo>
                <a:lnTo>
                  <a:pt x="96" y="1071"/>
                </a:lnTo>
                <a:lnTo>
                  <a:pt x="87" y="1061"/>
                </a:lnTo>
                <a:lnTo>
                  <a:pt x="108" y="1047"/>
                </a:lnTo>
                <a:lnTo>
                  <a:pt x="27" y="1064"/>
                </a:lnTo>
                <a:lnTo>
                  <a:pt x="21" y="1051"/>
                </a:lnTo>
                <a:lnTo>
                  <a:pt x="41" y="1033"/>
                </a:lnTo>
                <a:lnTo>
                  <a:pt x="72" y="1033"/>
                </a:lnTo>
                <a:lnTo>
                  <a:pt x="108" y="1018"/>
                </a:lnTo>
                <a:lnTo>
                  <a:pt x="59" y="1016"/>
                </a:lnTo>
                <a:lnTo>
                  <a:pt x="107" y="990"/>
                </a:lnTo>
                <a:lnTo>
                  <a:pt x="93" y="984"/>
                </a:lnTo>
                <a:lnTo>
                  <a:pt x="123" y="962"/>
                </a:lnTo>
                <a:lnTo>
                  <a:pt x="132" y="973"/>
                </a:lnTo>
                <a:lnTo>
                  <a:pt x="139" y="960"/>
                </a:lnTo>
                <a:lnTo>
                  <a:pt x="163" y="953"/>
                </a:lnTo>
                <a:lnTo>
                  <a:pt x="132" y="954"/>
                </a:lnTo>
                <a:lnTo>
                  <a:pt x="123" y="947"/>
                </a:lnTo>
                <a:lnTo>
                  <a:pt x="108" y="954"/>
                </a:lnTo>
                <a:lnTo>
                  <a:pt x="41" y="1010"/>
                </a:lnTo>
                <a:lnTo>
                  <a:pt x="33" y="1002"/>
                </a:lnTo>
                <a:lnTo>
                  <a:pt x="59" y="996"/>
                </a:lnTo>
                <a:lnTo>
                  <a:pt x="48" y="977"/>
                </a:lnTo>
                <a:lnTo>
                  <a:pt x="27" y="988"/>
                </a:lnTo>
                <a:lnTo>
                  <a:pt x="13" y="972"/>
                </a:lnTo>
                <a:lnTo>
                  <a:pt x="57" y="941"/>
                </a:lnTo>
                <a:lnTo>
                  <a:pt x="17" y="949"/>
                </a:lnTo>
                <a:lnTo>
                  <a:pt x="0" y="935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40400" y="3103560"/>
            <a:ext cx="496800" cy="325440"/>
          </a:xfrm>
          <a:custGeom>
            <a:avLst/>
            <a:gdLst/>
            <a:ahLst/>
            <a:rect l="l" t="t" r="r" b="b"/>
            <a:pathLst>
              <a:path w="801" h="518">
                <a:moveTo>
                  <a:pt x="0" y="185"/>
                </a:moveTo>
                <a:lnTo>
                  <a:pt x="16" y="141"/>
                </a:lnTo>
                <a:lnTo>
                  <a:pt x="16" y="124"/>
                </a:lnTo>
                <a:lnTo>
                  <a:pt x="0" y="99"/>
                </a:lnTo>
                <a:lnTo>
                  <a:pt x="21" y="106"/>
                </a:lnTo>
                <a:lnTo>
                  <a:pt x="26" y="92"/>
                </a:lnTo>
                <a:lnTo>
                  <a:pt x="9" y="88"/>
                </a:lnTo>
                <a:lnTo>
                  <a:pt x="20" y="83"/>
                </a:lnTo>
                <a:lnTo>
                  <a:pt x="37" y="83"/>
                </a:lnTo>
                <a:lnTo>
                  <a:pt x="73" y="64"/>
                </a:lnTo>
                <a:lnTo>
                  <a:pt x="147" y="51"/>
                </a:lnTo>
                <a:lnTo>
                  <a:pt x="195" y="24"/>
                </a:lnTo>
                <a:lnTo>
                  <a:pt x="250" y="8"/>
                </a:lnTo>
                <a:lnTo>
                  <a:pt x="314" y="0"/>
                </a:lnTo>
                <a:lnTo>
                  <a:pt x="362" y="7"/>
                </a:lnTo>
                <a:lnTo>
                  <a:pt x="373" y="15"/>
                </a:lnTo>
                <a:lnTo>
                  <a:pt x="372" y="20"/>
                </a:lnTo>
                <a:lnTo>
                  <a:pt x="343" y="9"/>
                </a:lnTo>
                <a:lnTo>
                  <a:pt x="347" y="16"/>
                </a:lnTo>
                <a:lnTo>
                  <a:pt x="365" y="47"/>
                </a:lnTo>
                <a:lnTo>
                  <a:pt x="376" y="51"/>
                </a:lnTo>
                <a:lnTo>
                  <a:pt x="382" y="43"/>
                </a:lnTo>
                <a:lnTo>
                  <a:pt x="438" y="35"/>
                </a:lnTo>
                <a:lnTo>
                  <a:pt x="554" y="49"/>
                </a:lnTo>
                <a:lnTo>
                  <a:pt x="699" y="40"/>
                </a:lnTo>
                <a:lnTo>
                  <a:pt x="754" y="71"/>
                </a:lnTo>
                <a:lnTo>
                  <a:pt x="782" y="190"/>
                </a:lnTo>
                <a:lnTo>
                  <a:pt x="729" y="229"/>
                </a:lnTo>
                <a:lnTo>
                  <a:pt x="758" y="253"/>
                </a:lnTo>
                <a:lnTo>
                  <a:pt x="752" y="294"/>
                </a:lnTo>
                <a:lnTo>
                  <a:pt x="801" y="383"/>
                </a:lnTo>
                <a:lnTo>
                  <a:pt x="715" y="447"/>
                </a:lnTo>
                <a:lnTo>
                  <a:pt x="689" y="517"/>
                </a:lnTo>
                <a:lnTo>
                  <a:pt x="669" y="518"/>
                </a:lnTo>
                <a:lnTo>
                  <a:pt x="610" y="490"/>
                </a:lnTo>
                <a:lnTo>
                  <a:pt x="591" y="489"/>
                </a:lnTo>
                <a:lnTo>
                  <a:pt x="546" y="501"/>
                </a:lnTo>
                <a:lnTo>
                  <a:pt x="531" y="493"/>
                </a:lnTo>
                <a:lnTo>
                  <a:pt x="501" y="493"/>
                </a:lnTo>
                <a:lnTo>
                  <a:pt x="476" y="509"/>
                </a:lnTo>
                <a:lnTo>
                  <a:pt x="464" y="505"/>
                </a:lnTo>
                <a:lnTo>
                  <a:pt x="426" y="478"/>
                </a:lnTo>
                <a:lnTo>
                  <a:pt x="396" y="486"/>
                </a:lnTo>
                <a:lnTo>
                  <a:pt x="350" y="471"/>
                </a:lnTo>
                <a:lnTo>
                  <a:pt x="322" y="442"/>
                </a:lnTo>
                <a:lnTo>
                  <a:pt x="289" y="430"/>
                </a:lnTo>
                <a:lnTo>
                  <a:pt x="287" y="414"/>
                </a:lnTo>
                <a:lnTo>
                  <a:pt x="223" y="402"/>
                </a:lnTo>
                <a:lnTo>
                  <a:pt x="226" y="415"/>
                </a:lnTo>
                <a:lnTo>
                  <a:pt x="208" y="423"/>
                </a:lnTo>
                <a:lnTo>
                  <a:pt x="168" y="399"/>
                </a:lnTo>
                <a:lnTo>
                  <a:pt x="175" y="383"/>
                </a:lnTo>
                <a:lnTo>
                  <a:pt x="156" y="382"/>
                </a:lnTo>
                <a:lnTo>
                  <a:pt x="145" y="368"/>
                </a:lnTo>
                <a:lnTo>
                  <a:pt x="100" y="365"/>
                </a:lnTo>
                <a:lnTo>
                  <a:pt x="78" y="349"/>
                </a:lnTo>
                <a:lnTo>
                  <a:pt x="57" y="365"/>
                </a:lnTo>
                <a:lnTo>
                  <a:pt x="46" y="361"/>
                </a:lnTo>
                <a:lnTo>
                  <a:pt x="60" y="313"/>
                </a:lnTo>
                <a:lnTo>
                  <a:pt x="34" y="290"/>
                </a:lnTo>
                <a:lnTo>
                  <a:pt x="20" y="195"/>
                </a:lnTo>
                <a:lnTo>
                  <a:pt x="0" y="185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45320" y="3478320"/>
            <a:ext cx="474480" cy="261720"/>
          </a:xfrm>
          <a:custGeom>
            <a:avLst/>
            <a:gdLst/>
            <a:ahLst/>
            <a:rect l="l" t="t" r="r" b="b"/>
            <a:pathLst>
              <a:path w="764" h="416">
                <a:moveTo>
                  <a:pt x="0" y="191"/>
                </a:moveTo>
                <a:lnTo>
                  <a:pt x="39" y="217"/>
                </a:lnTo>
                <a:lnTo>
                  <a:pt x="67" y="267"/>
                </a:lnTo>
                <a:lnTo>
                  <a:pt x="95" y="277"/>
                </a:lnTo>
                <a:lnTo>
                  <a:pt x="102" y="306"/>
                </a:lnTo>
                <a:lnTo>
                  <a:pt x="165" y="332"/>
                </a:lnTo>
                <a:lnTo>
                  <a:pt x="182" y="321"/>
                </a:lnTo>
                <a:lnTo>
                  <a:pt x="194" y="334"/>
                </a:lnTo>
                <a:lnTo>
                  <a:pt x="178" y="346"/>
                </a:lnTo>
                <a:lnTo>
                  <a:pt x="190" y="367"/>
                </a:lnTo>
                <a:lnTo>
                  <a:pt x="203" y="371"/>
                </a:lnTo>
                <a:lnTo>
                  <a:pt x="222" y="375"/>
                </a:lnTo>
                <a:lnTo>
                  <a:pt x="214" y="392"/>
                </a:lnTo>
                <a:lnTo>
                  <a:pt x="230" y="401"/>
                </a:lnTo>
                <a:lnTo>
                  <a:pt x="424" y="416"/>
                </a:lnTo>
                <a:lnTo>
                  <a:pt x="546" y="375"/>
                </a:lnTo>
                <a:lnTo>
                  <a:pt x="574" y="375"/>
                </a:lnTo>
                <a:lnTo>
                  <a:pt x="628" y="391"/>
                </a:lnTo>
                <a:lnTo>
                  <a:pt x="657" y="408"/>
                </a:lnTo>
                <a:lnTo>
                  <a:pt x="684" y="407"/>
                </a:lnTo>
                <a:lnTo>
                  <a:pt x="684" y="361"/>
                </a:lnTo>
                <a:lnTo>
                  <a:pt x="703" y="296"/>
                </a:lnTo>
                <a:lnTo>
                  <a:pt x="713" y="296"/>
                </a:lnTo>
                <a:lnTo>
                  <a:pt x="713" y="312"/>
                </a:lnTo>
                <a:lnTo>
                  <a:pt x="696" y="336"/>
                </a:lnTo>
                <a:lnTo>
                  <a:pt x="699" y="344"/>
                </a:lnTo>
                <a:lnTo>
                  <a:pt x="723" y="322"/>
                </a:lnTo>
                <a:lnTo>
                  <a:pt x="752" y="312"/>
                </a:lnTo>
                <a:lnTo>
                  <a:pt x="764" y="300"/>
                </a:lnTo>
                <a:lnTo>
                  <a:pt x="764" y="261"/>
                </a:lnTo>
                <a:lnTo>
                  <a:pt x="676" y="270"/>
                </a:lnTo>
                <a:lnTo>
                  <a:pt x="644" y="251"/>
                </a:lnTo>
                <a:lnTo>
                  <a:pt x="634" y="130"/>
                </a:lnTo>
                <a:lnTo>
                  <a:pt x="575" y="40"/>
                </a:lnTo>
                <a:lnTo>
                  <a:pt x="526" y="0"/>
                </a:lnTo>
                <a:lnTo>
                  <a:pt x="380" y="40"/>
                </a:lnTo>
                <a:lnTo>
                  <a:pt x="351" y="22"/>
                </a:lnTo>
                <a:lnTo>
                  <a:pt x="207" y="26"/>
                </a:lnTo>
                <a:lnTo>
                  <a:pt x="190" y="41"/>
                </a:lnTo>
                <a:lnTo>
                  <a:pt x="157" y="48"/>
                </a:lnTo>
                <a:lnTo>
                  <a:pt x="142" y="60"/>
                </a:lnTo>
                <a:lnTo>
                  <a:pt x="128" y="93"/>
                </a:lnTo>
                <a:lnTo>
                  <a:pt x="111" y="107"/>
                </a:lnTo>
                <a:lnTo>
                  <a:pt x="68" y="172"/>
                </a:lnTo>
                <a:lnTo>
                  <a:pt x="0" y="191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00680" y="3798720"/>
            <a:ext cx="19080" cy="11160"/>
          </a:xfrm>
          <a:custGeom>
            <a:avLst/>
            <a:gdLst/>
            <a:ahLst/>
            <a:rect l="l" t="t" r="r" b="b"/>
            <a:pathLst>
              <a:path w="27" h="16">
                <a:moveTo>
                  <a:pt x="0" y="0"/>
                </a:moveTo>
                <a:lnTo>
                  <a:pt x="14" y="16"/>
                </a:lnTo>
                <a:lnTo>
                  <a:pt x="27" y="9"/>
                </a:lnTo>
                <a:lnTo>
                  <a:pt x="0" y="0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63920" y="3828960"/>
            <a:ext cx="160560" cy="284400"/>
          </a:xfrm>
          <a:custGeom>
            <a:avLst/>
            <a:gdLst/>
            <a:ahLst/>
            <a:rect l="l" t="t" r="r" b="b"/>
            <a:pathLst>
              <a:path w="258" h="454">
                <a:moveTo>
                  <a:pt x="0" y="300"/>
                </a:moveTo>
                <a:lnTo>
                  <a:pt x="5" y="254"/>
                </a:lnTo>
                <a:lnTo>
                  <a:pt x="40" y="192"/>
                </a:lnTo>
                <a:lnTo>
                  <a:pt x="60" y="100"/>
                </a:lnTo>
                <a:lnTo>
                  <a:pt x="63" y="79"/>
                </a:lnTo>
                <a:lnTo>
                  <a:pt x="49" y="22"/>
                </a:lnTo>
                <a:lnTo>
                  <a:pt x="63" y="10"/>
                </a:lnTo>
                <a:lnTo>
                  <a:pt x="103" y="0"/>
                </a:lnTo>
                <a:lnTo>
                  <a:pt x="107" y="14"/>
                </a:lnTo>
                <a:lnTo>
                  <a:pt x="116" y="21"/>
                </a:lnTo>
                <a:lnTo>
                  <a:pt x="171" y="21"/>
                </a:lnTo>
                <a:lnTo>
                  <a:pt x="191" y="13"/>
                </a:lnTo>
                <a:lnTo>
                  <a:pt x="238" y="17"/>
                </a:lnTo>
                <a:lnTo>
                  <a:pt x="258" y="40"/>
                </a:lnTo>
                <a:lnTo>
                  <a:pt x="247" y="69"/>
                </a:lnTo>
                <a:lnTo>
                  <a:pt x="215" y="95"/>
                </a:lnTo>
                <a:lnTo>
                  <a:pt x="209" y="142"/>
                </a:lnTo>
                <a:lnTo>
                  <a:pt x="201" y="162"/>
                </a:lnTo>
                <a:lnTo>
                  <a:pt x="209" y="195"/>
                </a:lnTo>
                <a:lnTo>
                  <a:pt x="169" y="222"/>
                </a:lnTo>
                <a:lnTo>
                  <a:pt x="171" y="243"/>
                </a:lnTo>
                <a:lnTo>
                  <a:pt x="191" y="273"/>
                </a:lnTo>
                <a:lnTo>
                  <a:pt x="177" y="301"/>
                </a:lnTo>
                <a:lnTo>
                  <a:pt x="177" y="318"/>
                </a:lnTo>
                <a:lnTo>
                  <a:pt x="198" y="363"/>
                </a:lnTo>
                <a:lnTo>
                  <a:pt x="156" y="401"/>
                </a:lnTo>
                <a:lnTo>
                  <a:pt x="163" y="439"/>
                </a:lnTo>
                <a:lnTo>
                  <a:pt x="127" y="454"/>
                </a:lnTo>
                <a:lnTo>
                  <a:pt x="45" y="452"/>
                </a:lnTo>
                <a:lnTo>
                  <a:pt x="41" y="432"/>
                </a:lnTo>
                <a:lnTo>
                  <a:pt x="52" y="404"/>
                </a:lnTo>
                <a:lnTo>
                  <a:pt x="56" y="320"/>
                </a:lnTo>
                <a:lnTo>
                  <a:pt x="27" y="326"/>
                </a:lnTo>
                <a:lnTo>
                  <a:pt x="0" y="300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73640" y="3735360"/>
            <a:ext cx="627120" cy="433440"/>
          </a:xfrm>
          <a:custGeom>
            <a:avLst/>
            <a:gdLst/>
            <a:ahLst/>
            <a:rect l="l" t="t" r="r" b="b"/>
            <a:pathLst>
              <a:path w="1010" h="692">
                <a:moveTo>
                  <a:pt x="0" y="68"/>
                </a:moveTo>
                <a:lnTo>
                  <a:pt x="8" y="53"/>
                </a:lnTo>
                <a:lnTo>
                  <a:pt x="23" y="41"/>
                </a:lnTo>
                <a:lnTo>
                  <a:pt x="68" y="39"/>
                </a:lnTo>
                <a:lnTo>
                  <a:pt x="90" y="6"/>
                </a:lnTo>
                <a:lnTo>
                  <a:pt x="123" y="0"/>
                </a:lnTo>
                <a:lnTo>
                  <a:pt x="186" y="16"/>
                </a:lnTo>
                <a:lnTo>
                  <a:pt x="246" y="14"/>
                </a:lnTo>
                <a:lnTo>
                  <a:pt x="265" y="9"/>
                </a:lnTo>
                <a:lnTo>
                  <a:pt x="375" y="27"/>
                </a:lnTo>
                <a:lnTo>
                  <a:pt x="448" y="23"/>
                </a:lnTo>
                <a:lnTo>
                  <a:pt x="561" y="35"/>
                </a:lnTo>
                <a:lnTo>
                  <a:pt x="598" y="33"/>
                </a:lnTo>
                <a:lnTo>
                  <a:pt x="636" y="59"/>
                </a:lnTo>
                <a:lnTo>
                  <a:pt x="689" y="83"/>
                </a:lnTo>
                <a:lnTo>
                  <a:pt x="780" y="100"/>
                </a:lnTo>
                <a:lnTo>
                  <a:pt x="818" y="88"/>
                </a:lnTo>
                <a:lnTo>
                  <a:pt x="852" y="103"/>
                </a:lnTo>
                <a:lnTo>
                  <a:pt x="866" y="119"/>
                </a:lnTo>
                <a:lnTo>
                  <a:pt x="879" y="112"/>
                </a:lnTo>
                <a:lnTo>
                  <a:pt x="906" y="124"/>
                </a:lnTo>
                <a:lnTo>
                  <a:pt x="997" y="120"/>
                </a:lnTo>
                <a:lnTo>
                  <a:pt x="1010" y="134"/>
                </a:lnTo>
                <a:lnTo>
                  <a:pt x="998" y="138"/>
                </a:lnTo>
                <a:lnTo>
                  <a:pt x="1005" y="160"/>
                </a:lnTo>
                <a:lnTo>
                  <a:pt x="992" y="175"/>
                </a:lnTo>
                <a:lnTo>
                  <a:pt x="917" y="221"/>
                </a:lnTo>
                <a:lnTo>
                  <a:pt x="828" y="247"/>
                </a:lnTo>
                <a:lnTo>
                  <a:pt x="812" y="266"/>
                </a:lnTo>
                <a:lnTo>
                  <a:pt x="812" y="274"/>
                </a:lnTo>
                <a:lnTo>
                  <a:pt x="727" y="372"/>
                </a:lnTo>
                <a:lnTo>
                  <a:pt x="717" y="395"/>
                </a:lnTo>
                <a:lnTo>
                  <a:pt x="731" y="427"/>
                </a:lnTo>
                <a:lnTo>
                  <a:pt x="761" y="448"/>
                </a:lnTo>
                <a:lnTo>
                  <a:pt x="755" y="459"/>
                </a:lnTo>
                <a:lnTo>
                  <a:pt x="712" y="491"/>
                </a:lnTo>
                <a:lnTo>
                  <a:pt x="686" y="534"/>
                </a:lnTo>
                <a:lnTo>
                  <a:pt x="686" y="553"/>
                </a:lnTo>
                <a:lnTo>
                  <a:pt x="640" y="559"/>
                </a:lnTo>
                <a:lnTo>
                  <a:pt x="610" y="582"/>
                </a:lnTo>
                <a:lnTo>
                  <a:pt x="585" y="626"/>
                </a:lnTo>
                <a:lnTo>
                  <a:pt x="395" y="636"/>
                </a:lnTo>
                <a:lnTo>
                  <a:pt x="380" y="650"/>
                </a:lnTo>
                <a:lnTo>
                  <a:pt x="344" y="660"/>
                </a:lnTo>
                <a:lnTo>
                  <a:pt x="306" y="692"/>
                </a:lnTo>
                <a:lnTo>
                  <a:pt x="265" y="676"/>
                </a:lnTo>
                <a:lnTo>
                  <a:pt x="237" y="634"/>
                </a:lnTo>
                <a:lnTo>
                  <a:pt x="229" y="610"/>
                </a:lnTo>
                <a:lnTo>
                  <a:pt x="217" y="600"/>
                </a:lnTo>
                <a:lnTo>
                  <a:pt x="186" y="586"/>
                </a:lnTo>
                <a:lnTo>
                  <a:pt x="151" y="589"/>
                </a:lnTo>
                <a:lnTo>
                  <a:pt x="144" y="551"/>
                </a:lnTo>
                <a:lnTo>
                  <a:pt x="186" y="513"/>
                </a:lnTo>
                <a:lnTo>
                  <a:pt x="165" y="468"/>
                </a:lnTo>
                <a:lnTo>
                  <a:pt x="165" y="451"/>
                </a:lnTo>
                <a:lnTo>
                  <a:pt x="179" y="423"/>
                </a:lnTo>
                <a:lnTo>
                  <a:pt x="159" y="393"/>
                </a:lnTo>
                <a:lnTo>
                  <a:pt x="157" y="372"/>
                </a:lnTo>
                <a:lnTo>
                  <a:pt x="197" y="345"/>
                </a:lnTo>
                <a:lnTo>
                  <a:pt x="189" y="312"/>
                </a:lnTo>
                <a:lnTo>
                  <a:pt x="197" y="292"/>
                </a:lnTo>
                <a:lnTo>
                  <a:pt x="203" y="245"/>
                </a:lnTo>
                <a:lnTo>
                  <a:pt x="235" y="219"/>
                </a:lnTo>
                <a:lnTo>
                  <a:pt x="246" y="190"/>
                </a:lnTo>
                <a:lnTo>
                  <a:pt x="226" y="167"/>
                </a:lnTo>
                <a:lnTo>
                  <a:pt x="179" y="163"/>
                </a:lnTo>
                <a:lnTo>
                  <a:pt x="159" y="171"/>
                </a:lnTo>
                <a:lnTo>
                  <a:pt x="104" y="171"/>
                </a:lnTo>
                <a:lnTo>
                  <a:pt x="95" y="164"/>
                </a:lnTo>
                <a:lnTo>
                  <a:pt x="91" y="150"/>
                </a:lnTo>
                <a:lnTo>
                  <a:pt x="51" y="160"/>
                </a:lnTo>
                <a:lnTo>
                  <a:pt x="37" y="172"/>
                </a:lnTo>
                <a:lnTo>
                  <a:pt x="35" y="155"/>
                </a:lnTo>
                <a:lnTo>
                  <a:pt x="49" y="128"/>
                </a:lnTo>
                <a:lnTo>
                  <a:pt x="36" y="131"/>
                </a:lnTo>
                <a:lnTo>
                  <a:pt x="41" y="120"/>
                </a:lnTo>
                <a:lnTo>
                  <a:pt x="28" y="116"/>
                </a:lnTo>
                <a:lnTo>
                  <a:pt x="37" y="99"/>
                </a:lnTo>
                <a:lnTo>
                  <a:pt x="23" y="95"/>
                </a:lnTo>
                <a:lnTo>
                  <a:pt x="23" y="84"/>
                </a:lnTo>
                <a:lnTo>
                  <a:pt x="0" y="68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56120" y="3948120"/>
            <a:ext cx="50760" cy="36360"/>
          </a:xfrm>
          <a:custGeom>
            <a:avLst/>
            <a:gdLst/>
            <a:ahLst/>
            <a:rect l="l" t="t" r="r" b="b"/>
            <a:pathLst>
              <a:path w="82" h="60">
                <a:moveTo>
                  <a:pt x="0" y="33"/>
                </a:moveTo>
                <a:lnTo>
                  <a:pt x="10" y="44"/>
                </a:lnTo>
                <a:lnTo>
                  <a:pt x="30" y="39"/>
                </a:lnTo>
                <a:lnTo>
                  <a:pt x="33" y="49"/>
                </a:lnTo>
                <a:lnTo>
                  <a:pt x="55" y="60"/>
                </a:lnTo>
                <a:lnTo>
                  <a:pt x="73" y="45"/>
                </a:lnTo>
                <a:lnTo>
                  <a:pt x="82" y="29"/>
                </a:lnTo>
                <a:lnTo>
                  <a:pt x="73" y="17"/>
                </a:lnTo>
                <a:lnTo>
                  <a:pt x="59" y="17"/>
                </a:lnTo>
                <a:lnTo>
                  <a:pt x="62" y="0"/>
                </a:lnTo>
                <a:lnTo>
                  <a:pt x="14" y="19"/>
                </a:lnTo>
                <a:lnTo>
                  <a:pt x="0" y="33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84880" y="2300400"/>
            <a:ext cx="654120" cy="776160"/>
          </a:xfrm>
          <a:custGeom>
            <a:avLst/>
            <a:gdLst/>
            <a:ahLst/>
            <a:rect l="l" t="t" r="r" b="b"/>
            <a:pathLst>
              <a:path w="1052" h="1238">
                <a:moveTo>
                  <a:pt x="0" y="911"/>
                </a:moveTo>
                <a:lnTo>
                  <a:pt x="7" y="956"/>
                </a:lnTo>
                <a:lnTo>
                  <a:pt x="20" y="966"/>
                </a:lnTo>
                <a:lnTo>
                  <a:pt x="20" y="976"/>
                </a:lnTo>
                <a:lnTo>
                  <a:pt x="29" y="962"/>
                </a:lnTo>
                <a:lnTo>
                  <a:pt x="36" y="966"/>
                </a:lnTo>
                <a:lnTo>
                  <a:pt x="31" y="976"/>
                </a:lnTo>
                <a:lnTo>
                  <a:pt x="41" y="977"/>
                </a:lnTo>
                <a:lnTo>
                  <a:pt x="23" y="989"/>
                </a:lnTo>
                <a:lnTo>
                  <a:pt x="45" y="994"/>
                </a:lnTo>
                <a:lnTo>
                  <a:pt x="45" y="1017"/>
                </a:lnTo>
                <a:lnTo>
                  <a:pt x="63" y="1014"/>
                </a:lnTo>
                <a:lnTo>
                  <a:pt x="66" y="1025"/>
                </a:lnTo>
                <a:lnTo>
                  <a:pt x="56" y="1033"/>
                </a:lnTo>
                <a:lnTo>
                  <a:pt x="59" y="1056"/>
                </a:lnTo>
                <a:lnTo>
                  <a:pt x="71" y="1057"/>
                </a:lnTo>
                <a:lnTo>
                  <a:pt x="90" y="1096"/>
                </a:lnTo>
                <a:lnTo>
                  <a:pt x="143" y="1132"/>
                </a:lnTo>
                <a:lnTo>
                  <a:pt x="143" y="1139"/>
                </a:lnTo>
                <a:lnTo>
                  <a:pt x="122" y="1144"/>
                </a:lnTo>
                <a:lnTo>
                  <a:pt x="131" y="1159"/>
                </a:lnTo>
                <a:lnTo>
                  <a:pt x="110" y="1156"/>
                </a:lnTo>
                <a:lnTo>
                  <a:pt x="110" y="1162"/>
                </a:lnTo>
                <a:lnTo>
                  <a:pt x="148" y="1213"/>
                </a:lnTo>
                <a:lnTo>
                  <a:pt x="136" y="1235"/>
                </a:lnTo>
                <a:lnTo>
                  <a:pt x="171" y="1238"/>
                </a:lnTo>
                <a:lnTo>
                  <a:pt x="223" y="1231"/>
                </a:lnTo>
                <a:lnTo>
                  <a:pt x="239" y="1235"/>
                </a:lnTo>
                <a:lnTo>
                  <a:pt x="253" y="1219"/>
                </a:lnTo>
                <a:lnTo>
                  <a:pt x="248" y="1198"/>
                </a:lnTo>
                <a:lnTo>
                  <a:pt x="265" y="1175"/>
                </a:lnTo>
                <a:lnTo>
                  <a:pt x="276" y="1178"/>
                </a:lnTo>
                <a:lnTo>
                  <a:pt x="300" y="1163"/>
                </a:lnTo>
                <a:lnTo>
                  <a:pt x="387" y="1167"/>
                </a:lnTo>
                <a:lnTo>
                  <a:pt x="420" y="1112"/>
                </a:lnTo>
                <a:lnTo>
                  <a:pt x="424" y="1071"/>
                </a:lnTo>
                <a:lnTo>
                  <a:pt x="440" y="1051"/>
                </a:lnTo>
                <a:lnTo>
                  <a:pt x="434" y="1033"/>
                </a:lnTo>
                <a:lnTo>
                  <a:pt x="440" y="1025"/>
                </a:lnTo>
                <a:lnTo>
                  <a:pt x="428" y="1006"/>
                </a:lnTo>
                <a:lnTo>
                  <a:pt x="447" y="1005"/>
                </a:lnTo>
                <a:lnTo>
                  <a:pt x="450" y="972"/>
                </a:lnTo>
                <a:lnTo>
                  <a:pt x="423" y="958"/>
                </a:lnTo>
                <a:lnTo>
                  <a:pt x="454" y="958"/>
                </a:lnTo>
                <a:lnTo>
                  <a:pt x="456" y="954"/>
                </a:lnTo>
                <a:lnTo>
                  <a:pt x="443" y="946"/>
                </a:lnTo>
                <a:lnTo>
                  <a:pt x="403" y="944"/>
                </a:lnTo>
                <a:lnTo>
                  <a:pt x="468" y="940"/>
                </a:lnTo>
                <a:lnTo>
                  <a:pt x="471" y="930"/>
                </a:lnTo>
                <a:lnTo>
                  <a:pt x="490" y="930"/>
                </a:lnTo>
                <a:lnTo>
                  <a:pt x="506" y="919"/>
                </a:lnTo>
                <a:lnTo>
                  <a:pt x="516" y="903"/>
                </a:lnTo>
                <a:lnTo>
                  <a:pt x="526" y="907"/>
                </a:lnTo>
                <a:lnTo>
                  <a:pt x="526" y="915"/>
                </a:lnTo>
                <a:lnTo>
                  <a:pt x="545" y="915"/>
                </a:lnTo>
                <a:lnTo>
                  <a:pt x="575" y="894"/>
                </a:lnTo>
                <a:lnTo>
                  <a:pt x="571" y="885"/>
                </a:lnTo>
                <a:lnTo>
                  <a:pt x="589" y="889"/>
                </a:lnTo>
                <a:lnTo>
                  <a:pt x="589" y="883"/>
                </a:lnTo>
                <a:lnTo>
                  <a:pt x="598" y="879"/>
                </a:lnTo>
                <a:lnTo>
                  <a:pt x="597" y="875"/>
                </a:lnTo>
                <a:lnTo>
                  <a:pt x="494" y="886"/>
                </a:lnTo>
                <a:lnTo>
                  <a:pt x="482" y="875"/>
                </a:lnTo>
                <a:lnTo>
                  <a:pt x="447" y="866"/>
                </a:lnTo>
                <a:lnTo>
                  <a:pt x="416" y="865"/>
                </a:lnTo>
                <a:lnTo>
                  <a:pt x="430" y="858"/>
                </a:lnTo>
                <a:lnTo>
                  <a:pt x="471" y="858"/>
                </a:lnTo>
                <a:lnTo>
                  <a:pt x="487" y="865"/>
                </a:lnTo>
                <a:lnTo>
                  <a:pt x="498" y="859"/>
                </a:lnTo>
                <a:lnTo>
                  <a:pt x="518" y="866"/>
                </a:lnTo>
                <a:lnTo>
                  <a:pt x="522" y="862"/>
                </a:lnTo>
                <a:lnTo>
                  <a:pt x="535" y="874"/>
                </a:lnTo>
                <a:lnTo>
                  <a:pt x="545" y="875"/>
                </a:lnTo>
                <a:lnTo>
                  <a:pt x="591" y="861"/>
                </a:lnTo>
                <a:lnTo>
                  <a:pt x="617" y="842"/>
                </a:lnTo>
                <a:lnTo>
                  <a:pt x="621" y="828"/>
                </a:lnTo>
                <a:lnTo>
                  <a:pt x="579" y="795"/>
                </a:lnTo>
                <a:lnTo>
                  <a:pt x="590" y="794"/>
                </a:lnTo>
                <a:lnTo>
                  <a:pt x="559" y="784"/>
                </a:lnTo>
                <a:lnTo>
                  <a:pt x="551" y="768"/>
                </a:lnTo>
                <a:lnTo>
                  <a:pt x="525" y="769"/>
                </a:lnTo>
                <a:lnTo>
                  <a:pt x="516" y="761"/>
                </a:lnTo>
                <a:lnTo>
                  <a:pt x="510" y="761"/>
                </a:lnTo>
                <a:lnTo>
                  <a:pt x="488" y="790"/>
                </a:lnTo>
                <a:lnTo>
                  <a:pt x="463" y="800"/>
                </a:lnTo>
                <a:lnTo>
                  <a:pt x="411" y="806"/>
                </a:lnTo>
                <a:lnTo>
                  <a:pt x="468" y="788"/>
                </a:lnTo>
                <a:lnTo>
                  <a:pt x="494" y="775"/>
                </a:lnTo>
                <a:lnTo>
                  <a:pt x="498" y="767"/>
                </a:lnTo>
                <a:lnTo>
                  <a:pt x="498" y="757"/>
                </a:lnTo>
                <a:lnTo>
                  <a:pt x="484" y="755"/>
                </a:lnTo>
                <a:lnTo>
                  <a:pt x="491" y="741"/>
                </a:lnTo>
                <a:lnTo>
                  <a:pt x="478" y="680"/>
                </a:lnTo>
                <a:lnTo>
                  <a:pt x="483" y="662"/>
                </a:lnTo>
                <a:lnTo>
                  <a:pt x="503" y="669"/>
                </a:lnTo>
                <a:lnTo>
                  <a:pt x="500" y="645"/>
                </a:lnTo>
                <a:lnTo>
                  <a:pt x="515" y="616"/>
                </a:lnTo>
                <a:lnTo>
                  <a:pt x="500" y="602"/>
                </a:lnTo>
                <a:lnTo>
                  <a:pt x="500" y="590"/>
                </a:lnTo>
                <a:lnTo>
                  <a:pt x="523" y="597"/>
                </a:lnTo>
                <a:lnTo>
                  <a:pt x="542" y="585"/>
                </a:lnTo>
                <a:lnTo>
                  <a:pt x="537" y="555"/>
                </a:lnTo>
                <a:lnTo>
                  <a:pt x="542" y="562"/>
                </a:lnTo>
                <a:lnTo>
                  <a:pt x="553" y="567"/>
                </a:lnTo>
                <a:lnTo>
                  <a:pt x="569" y="559"/>
                </a:lnTo>
                <a:lnTo>
                  <a:pt x="577" y="562"/>
                </a:lnTo>
                <a:lnTo>
                  <a:pt x="585" y="553"/>
                </a:lnTo>
                <a:lnTo>
                  <a:pt x="571" y="549"/>
                </a:lnTo>
                <a:lnTo>
                  <a:pt x="586" y="547"/>
                </a:lnTo>
                <a:lnTo>
                  <a:pt x="603" y="538"/>
                </a:lnTo>
                <a:lnTo>
                  <a:pt x="603" y="531"/>
                </a:lnTo>
                <a:lnTo>
                  <a:pt x="613" y="530"/>
                </a:lnTo>
                <a:lnTo>
                  <a:pt x="616" y="520"/>
                </a:lnTo>
                <a:lnTo>
                  <a:pt x="640" y="520"/>
                </a:lnTo>
                <a:lnTo>
                  <a:pt x="680" y="498"/>
                </a:lnTo>
                <a:lnTo>
                  <a:pt x="693" y="502"/>
                </a:lnTo>
                <a:lnTo>
                  <a:pt x="724" y="486"/>
                </a:lnTo>
                <a:lnTo>
                  <a:pt x="733" y="487"/>
                </a:lnTo>
                <a:lnTo>
                  <a:pt x="759" y="479"/>
                </a:lnTo>
                <a:lnTo>
                  <a:pt x="776" y="470"/>
                </a:lnTo>
                <a:lnTo>
                  <a:pt x="828" y="423"/>
                </a:lnTo>
                <a:lnTo>
                  <a:pt x="834" y="420"/>
                </a:lnTo>
                <a:lnTo>
                  <a:pt x="834" y="431"/>
                </a:lnTo>
                <a:lnTo>
                  <a:pt x="847" y="421"/>
                </a:lnTo>
                <a:lnTo>
                  <a:pt x="840" y="411"/>
                </a:lnTo>
                <a:lnTo>
                  <a:pt x="820" y="400"/>
                </a:lnTo>
                <a:lnTo>
                  <a:pt x="814" y="384"/>
                </a:lnTo>
                <a:lnTo>
                  <a:pt x="820" y="375"/>
                </a:lnTo>
                <a:lnTo>
                  <a:pt x="834" y="372"/>
                </a:lnTo>
                <a:lnTo>
                  <a:pt x="848" y="354"/>
                </a:lnTo>
                <a:lnTo>
                  <a:pt x="835" y="336"/>
                </a:lnTo>
                <a:lnTo>
                  <a:pt x="851" y="330"/>
                </a:lnTo>
                <a:lnTo>
                  <a:pt x="851" y="326"/>
                </a:lnTo>
                <a:lnTo>
                  <a:pt x="876" y="328"/>
                </a:lnTo>
                <a:lnTo>
                  <a:pt x="874" y="320"/>
                </a:lnTo>
                <a:lnTo>
                  <a:pt x="889" y="318"/>
                </a:lnTo>
                <a:lnTo>
                  <a:pt x="874" y="302"/>
                </a:lnTo>
                <a:lnTo>
                  <a:pt x="903" y="313"/>
                </a:lnTo>
                <a:lnTo>
                  <a:pt x="903" y="302"/>
                </a:lnTo>
                <a:lnTo>
                  <a:pt x="910" y="286"/>
                </a:lnTo>
                <a:lnTo>
                  <a:pt x="917" y="286"/>
                </a:lnTo>
                <a:lnTo>
                  <a:pt x="934" y="296"/>
                </a:lnTo>
                <a:lnTo>
                  <a:pt x="942" y="286"/>
                </a:lnTo>
                <a:lnTo>
                  <a:pt x="973" y="300"/>
                </a:lnTo>
                <a:lnTo>
                  <a:pt x="978" y="292"/>
                </a:lnTo>
                <a:lnTo>
                  <a:pt x="1017" y="289"/>
                </a:lnTo>
                <a:lnTo>
                  <a:pt x="1038" y="298"/>
                </a:lnTo>
                <a:lnTo>
                  <a:pt x="1052" y="292"/>
                </a:lnTo>
                <a:lnTo>
                  <a:pt x="1049" y="283"/>
                </a:lnTo>
                <a:lnTo>
                  <a:pt x="1025" y="261"/>
                </a:lnTo>
                <a:lnTo>
                  <a:pt x="1022" y="247"/>
                </a:lnTo>
                <a:lnTo>
                  <a:pt x="1038" y="226"/>
                </a:lnTo>
                <a:lnTo>
                  <a:pt x="1042" y="211"/>
                </a:lnTo>
                <a:lnTo>
                  <a:pt x="1009" y="183"/>
                </a:lnTo>
                <a:lnTo>
                  <a:pt x="1006" y="171"/>
                </a:lnTo>
                <a:lnTo>
                  <a:pt x="1016" y="159"/>
                </a:lnTo>
                <a:lnTo>
                  <a:pt x="1002" y="135"/>
                </a:lnTo>
                <a:lnTo>
                  <a:pt x="1009" y="100"/>
                </a:lnTo>
                <a:lnTo>
                  <a:pt x="962" y="65"/>
                </a:lnTo>
                <a:lnTo>
                  <a:pt x="934" y="55"/>
                </a:lnTo>
                <a:lnTo>
                  <a:pt x="882" y="49"/>
                </a:lnTo>
                <a:lnTo>
                  <a:pt x="769" y="0"/>
                </a:lnTo>
                <a:lnTo>
                  <a:pt x="727" y="1"/>
                </a:lnTo>
                <a:lnTo>
                  <a:pt x="739" y="16"/>
                </a:lnTo>
                <a:lnTo>
                  <a:pt x="717" y="41"/>
                </a:lnTo>
                <a:lnTo>
                  <a:pt x="732" y="53"/>
                </a:lnTo>
                <a:lnTo>
                  <a:pt x="720" y="57"/>
                </a:lnTo>
                <a:lnTo>
                  <a:pt x="585" y="49"/>
                </a:lnTo>
                <a:lnTo>
                  <a:pt x="571" y="57"/>
                </a:lnTo>
                <a:lnTo>
                  <a:pt x="571" y="77"/>
                </a:lnTo>
                <a:lnTo>
                  <a:pt x="550" y="100"/>
                </a:lnTo>
                <a:lnTo>
                  <a:pt x="510" y="88"/>
                </a:lnTo>
                <a:lnTo>
                  <a:pt x="454" y="108"/>
                </a:lnTo>
                <a:lnTo>
                  <a:pt x="443" y="128"/>
                </a:lnTo>
                <a:lnTo>
                  <a:pt x="411" y="152"/>
                </a:lnTo>
                <a:lnTo>
                  <a:pt x="428" y="167"/>
                </a:lnTo>
                <a:lnTo>
                  <a:pt x="427" y="182"/>
                </a:lnTo>
                <a:lnTo>
                  <a:pt x="355" y="226"/>
                </a:lnTo>
                <a:lnTo>
                  <a:pt x="336" y="258"/>
                </a:lnTo>
                <a:lnTo>
                  <a:pt x="282" y="270"/>
                </a:lnTo>
                <a:lnTo>
                  <a:pt x="282" y="314"/>
                </a:lnTo>
                <a:lnTo>
                  <a:pt x="269" y="349"/>
                </a:lnTo>
                <a:lnTo>
                  <a:pt x="217" y="397"/>
                </a:lnTo>
                <a:lnTo>
                  <a:pt x="248" y="424"/>
                </a:lnTo>
                <a:lnTo>
                  <a:pt x="245" y="447"/>
                </a:lnTo>
                <a:lnTo>
                  <a:pt x="230" y="455"/>
                </a:lnTo>
                <a:lnTo>
                  <a:pt x="151" y="456"/>
                </a:lnTo>
                <a:lnTo>
                  <a:pt x="90" y="487"/>
                </a:lnTo>
                <a:lnTo>
                  <a:pt x="75" y="512"/>
                </a:lnTo>
                <a:lnTo>
                  <a:pt x="96" y="541"/>
                </a:lnTo>
                <a:lnTo>
                  <a:pt x="76" y="585"/>
                </a:lnTo>
                <a:lnTo>
                  <a:pt x="88" y="609"/>
                </a:lnTo>
                <a:lnTo>
                  <a:pt x="88" y="658"/>
                </a:lnTo>
                <a:lnTo>
                  <a:pt x="130" y="681"/>
                </a:lnTo>
                <a:lnTo>
                  <a:pt x="135" y="699"/>
                </a:lnTo>
                <a:lnTo>
                  <a:pt x="124" y="712"/>
                </a:lnTo>
                <a:lnTo>
                  <a:pt x="84" y="731"/>
                </a:lnTo>
                <a:lnTo>
                  <a:pt x="102" y="741"/>
                </a:lnTo>
                <a:lnTo>
                  <a:pt x="112" y="769"/>
                </a:lnTo>
                <a:lnTo>
                  <a:pt x="102" y="794"/>
                </a:lnTo>
                <a:lnTo>
                  <a:pt x="104" y="812"/>
                </a:lnTo>
                <a:lnTo>
                  <a:pt x="56" y="830"/>
                </a:lnTo>
                <a:lnTo>
                  <a:pt x="37" y="859"/>
                </a:lnTo>
                <a:lnTo>
                  <a:pt x="45" y="883"/>
                </a:lnTo>
                <a:lnTo>
                  <a:pt x="35" y="915"/>
                </a:lnTo>
                <a:lnTo>
                  <a:pt x="23" y="919"/>
                </a:lnTo>
                <a:lnTo>
                  <a:pt x="15" y="913"/>
                </a:lnTo>
                <a:lnTo>
                  <a:pt x="13" y="925"/>
                </a:lnTo>
                <a:lnTo>
                  <a:pt x="8" y="901"/>
                </a:lnTo>
                <a:lnTo>
                  <a:pt x="0" y="911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30720" y="3511440"/>
            <a:ext cx="222480" cy="101880"/>
          </a:xfrm>
          <a:custGeom>
            <a:avLst/>
            <a:gdLst/>
            <a:ahLst/>
            <a:rect l="l" t="t" r="r" b="b"/>
            <a:pathLst>
              <a:path w="356" h="160">
                <a:moveTo>
                  <a:pt x="0" y="135"/>
                </a:moveTo>
                <a:lnTo>
                  <a:pt x="2" y="109"/>
                </a:lnTo>
                <a:lnTo>
                  <a:pt x="45" y="53"/>
                </a:lnTo>
                <a:lnTo>
                  <a:pt x="78" y="25"/>
                </a:lnTo>
                <a:lnTo>
                  <a:pt x="73" y="20"/>
                </a:lnTo>
                <a:lnTo>
                  <a:pt x="79" y="12"/>
                </a:lnTo>
                <a:lnTo>
                  <a:pt x="103" y="14"/>
                </a:lnTo>
                <a:lnTo>
                  <a:pt x="124" y="4"/>
                </a:lnTo>
                <a:lnTo>
                  <a:pt x="136" y="10"/>
                </a:lnTo>
                <a:lnTo>
                  <a:pt x="224" y="0"/>
                </a:lnTo>
                <a:lnTo>
                  <a:pt x="279" y="16"/>
                </a:lnTo>
                <a:lnTo>
                  <a:pt x="292" y="24"/>
                </a:lnTo>
                <a:lnTo>
                  <a:pt x="283" y="45"/>
                </a:lnTo>
                <a:lnTo>
                  <a:pt x="296" y="59"/>
                </a:lnTo>
                <a:lnTo>
                  <a:pt x="322" y="69"/>
                </a:lnTo>
                <a:lnTo>
                  <a:pt x="344" y="65"/>
                </a:lnTo>
                <a:lnTo>
                  <a:pt x="356" y="71"/>
                </a:lnTo>
                <a:lnTo>
                  <a:pt x="352" y="91"/>
                </a:lnTo>
                <a:lnTo>
                  <a:pt x="330" y="95"/>
                </a:lnTo>
                <a:lnTo>
                  <a:pt x="331" y="121"/>
                </a:lnTo>
                <a:lnTo>
                  <a:pt x="283" y="117"/>
                </a:lnTo>
                <a:lnTo>
                  <a:pt x="265" y="107"/>
                </a:lnTo>
                <a:lnTo>
                  <a:pt x="237" y="158"/>
                </a:lnTo>
                <a:lnTo>
                  <a:pt x="204" y="135"/>
                </a:lnTo>
                <a:lnTo>
                  <a:pt x="194" y="112"/>
                </a:lnTo>
                <a:lnTo>
                  <a:pt x="177" y="119"/>
                </a:lnTo>
                <a:lnTo>
                  <a:pt x="169" y="138"/>
                </a:lnTo>
                <a:lnTo>
                  <a:pt x="148" y="154"/>
                </a:lnTo>
                <a:lnTo>
                  <a:pt x="79" y="160"/>
                </a:lnTo>
                <a:lnTo>
                  <a:pt x="75" y="150"/>
                </a:lnTo>
                <a:lnTo>
                  <a:pt x="66" y="146"/>
                </a:lnTo>
                <a:lnTo>
                  <a:pt x="62" y="115"/>
                </a:lnTo>
                <a:lnTo>
                  <a:pt x="31" y="113"/>
                </a:lnTo>
                <a:lnTo>
                  <a:pt x="6" y="136"/>
                </a:lnTo>
                <a:lnTo>
                  <a:pt x="0" y="135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13160" y="3083040"/>
            <a:ext cx="216000" cy="214200"/>
          </a:xfrm>
          <a:custGeom>
            <a:avLst/>
            <a:gdLst/>
            <a:ahLst/>
            <a:rect l="l" t="t" r="r" b="b"/>
            <a:pathLst>
              <a:path w="344" h="342">
                <a:moveTo>
                  <a:pt x="0" y="287"/>
                </a:moveTo>
                <a:lnTo>
                  <a:pt x="2" y="279"/>
                </a:lnTo>
                <a:lnTo>
                  <a:pt x="40" y="272"/>
                </a:lnTo>
                <a:lnTo>
                  <a:pt x="61" y="245"/>
                </a:lnTo>
                <a:lnTo>
                  <a:pt x="133" y="236"/>
                </a:lnTo>
                <a:lnTo>
                  <a:pt x="120" y="233"/>
                </a:lnTo>
                <a:lnTo>
                  <a:pt x="120" y="221"/>
                </a:lnTo>
                <a:lnTo>
                  <a:pt x="97" y="239"/>
                </a:lnTo>
                <a:lnTo>
                  <a:pt x="48" y="243"/>
                </a:lnTo>
                <a:lnTo>
                  <a:pt x="72" y="228"/>
                </a:lnTo>
                <a:lnTo>
                  <a:pt x="80" y="205"/>
                </a:lnTo>
                <a:lnTo>
                  <a:pt x="115" y="187"/>
                </a:lnTo>
                <a:lnTo>
                  <a:pt x="111" y="183"/>
                </a:lnTo>
                <a:lnTo>
                  <a:pt x="41" y="176"/>
                </a:lnTo>
                <a:lnTo>
                  <a:pt x="41" y="169"/>
                </a:lnTo>
                <a:lnTo>
                  <a:pt x="25" y="161"/>
                </a:lnTo>
                <a:lnTo>
                  <a:pt x="25" y="154"/>
                </a:lnTo>
                <a:lnTo>
                  <a:pt x="65" y="132"/>
                </a:lnTo>
                <a:lnTo>
                  <a:pt x="61" y="126"/>
                </a:lnTo>
                <a:lnTo>
                  <a:pt x="32" y="124"/>
                </a:lnTo>
                <a:lnTo>
                  <a:pt x="21" y="117"/>
                </a:lnTo>
                <a:lnTo>
                  <a:pt x="44" y="117"/>
                </a:lnTo>
                <a:lnTo>
                  <a:pt x="40" y="102"/>
                </a:lnTo>
                <a:lnTo>
                  <a:pt x="54" y="86"/>
                </a:lnTo>
                <a:lnTo>
                  <a:pt x="91" y="86"/>
                </a:lnTo>
                <a:lnTo>
                  <a:pt x="97" y="94"/>
                </a:lnTo>
                <a:lnTo>
                  <a:pt x="143" y="92"/>
                </a:lnTo>
                <a:lnTo>
                  <a:pt x="145" y="82"/>
                </a:lnTo>
                <a:lnTo>
                  <a:pt x="172" y="70"/>
                </a:lnTo>
                <a:lnTo>
                  <a:pt x="176" y="57"/>
                </a:lnTo>
                <a:lnTo>
                  <a:pt x="133" y="57"/>
                </a:lnTo>
                <a:lnTo>
                  <a:pt x="129" y="51"/>
                </a:lnTo>
                <a:lnTo>
                  <a:pt x="156" y="37"/>
                </a:lnTo>
                <a:lnTo>
                  <a:pt x="160" y="21"/>
                </a:lnTo>
                <a:lnTo>
                  <a:pt x="179" y="11"/>
                </a:lnTo>
                <a:lnTo>
                  <a:pt x="223" y="0"/>
                </a:lnTo>
                <a:lnTo>
                  <a:pt x="227" y="27"/>
                </a:lnTo>
                <a:lnTo>
                  <a:pt x="215" y="49"/>
                </a:lnTo>
                <a:lnTo>
                  <a:pt x="202" y="49"/>
                </a:lnTo>
                <a:lnTo>
                  <a:pt x="202" y="61"/>
                </a:lnTo>
                <a:lnTo>
                  <a:pt x="183" y="70"/>
                </a:lnTo>
                <a:lnTo>
                  <a:pt x="208" y="79"/>
                </a:lnTo>
                <a:lnTo>
                  <a:pt x="219" y="97"/>
                </a:lnTo>
                <a:lnTo>
                  <a:pt x="235" y="102"/>
                </a:lnTo>
                <a:lnTo>
                  <a:pt x="263" y="81"/>
                </a:lnTo>
                <a:lnTo>
                  <a:pt x="307" y="73"/>
                </a:lnTo>
                <a:lnTo>
                  <a:pt x="327" y="86"/>
                </a:lnTo>
                <a:lnTo>
                  <a:pt x="330" y="109"/>
                </a:lnTo>
                <a:lnTo>
                  <a:pt x="338" y="113"/>
                </a:lnTo>
                <a:lnTo>
                  <a:pt x="323" y="117"/>
                </a:lnTo>
                <a:lnTo>
                  <a:pt x="323" y="124"/>
                </a:lnTo>
                <a:lnTo>
                  <a:pt x="344" y="156"/>
                </a:lnTo>
                <a:lnTo>
                  <a:pt x="337" y="173"/>
                </a:lnTo>
                <a:lnTo>
                  <a:pt x="344" y="212"/>
                </a:lnTo>
                <a:lnTo>
                  <a:pt x="317" y="264"/>
                </a:lnTo>
                <a:lnTo>
                  <a:pt x="318" y="280"/>
                </a:lnTo>
                <a:lnTo>
                  <a:pt x="278" y="276"/>
                </a:lnTo>
                <a:lnTo>
                  <a:pt x="226" y="287"/>
                </a:lnTo>
                <a:lnTo>
                  <a:pt x="212" y="302"/>
                </a:lnTo>
                <a:lnTo>
                  <a:pt x="200" y="300"/>
                </a:lnTo>
                <a:lnTo>
                  <a:pt x="195" y="307"/>
                </a:lnTo>
                <a:lnTo>
                  <a:pt x="176" y="312"/>
                </a:lnTo>
                <a:lnTo>
                  <a:pt x="160" y="304"/>
                </a:lnTo>
                <a:lnTo>
                  <a:pt x="160" y="319"/>
                </a:lnTo>
                <a:lnTo>
                  <a:pt x="152" y="326"/>
                </a:lnTo>
                <a:lnTo>
                  <a:pt x="88" y="339"/>
                </a:lnTo>
                <a:lnTo>
                  <a:pt x="52" y="342"/>
                </a:lnTo>
                <a:lnTo>
                  <a:pt x="48" y="335"/>
                </a:lnTo>
                <a:lnTo>
                  <a:pt x="67" y="330"/>
                </a:lnTo>
                <a:lnTo>
                  <a:pt x="67" y="322"/>
                </a:lnTo>
                <a:lnTo>
                  <a:pt x="25" y="330"/>
                </a:lnTo>
                <a:lnTo>
                  <a:pt x="54" y="315"/>
                </a:lnTo>
                <a:lnTo>
                  <a:pt x="54" y="308"/>
                </a:lnTo>
                <a:lnTo>
                  <a:pt x="21" y="315"/>
                </a:lnTo>
                <a:lnTo>
                  <a:pt x="14" y="311"/>
                </a:lnTo>
                <a:lnTo>
                  <a:pt x="5" y="311"/>
                </a:lnTo>
                <a:lnTo>
                  <a:pt x="20" y="295"/>
                </a:lnTo>
                <a:lnTo>
                  <a:pt x="40" y="290"/>
                </a:lnTo>
                <a:lnTo>
                  <a:pt x="34" y="284"/>
                </a:lnTo>
                <a:lnTo>
                  <a:pt x="0" y="287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25920" y="2890800"/>
            <a:ext cx="395280" cy="490680"/>
          </a:xfrm>
          <a:custGeom>
            <a:avLst/>
            <a:gdLst/>
            <a:ahLst/>
            <a:rect l="l" t="t" r="r" b="b"/>
            <a:pathLst>
              <a:path w="634" h="782">
                <a:moveTo>
                  <a:pt x="0" y="175"/>
                </a:moveTo>
                <a:lnTo>
                  <a:pt x="3" y="178"/>
                </a:lnTo>
                <a:lnTo>
                  <a:pt x="16" y="179"/>
                </a:lnTo>
                <a:lnTo>
                  <a:pt x="17" y="187"/>
                </a:lnTo>
                <a:lnTo>
                  <a:pt x="36" y="197"/>
                </a:lnTo>
                <a:lnTo>
                  <a:pt x="65" y="181"/>
                </a:lnTo>
                <a:lnTo>
                  <a:pt x="68" y="187"/>
                </a:lnTo>
                <a:lnTo>
                  <a:pt x="43" y="234"/>
                </a:lnTo>
                <a:lnTo>
                  <a:pt x="41" y="253"/>
                </a:lnTo>
                <a:lnTo>
                  <a:pt x="48" y="253"/>
                </a:lnTo>
                <a:lnTo>
                  <a:pt x="51" y="261"/>
                </a:lnTo>
                <a:lnTo>
                  <a:pt x="29" y="300"/>
                </a:lnTo>
                <a:lnTo>
                  <a:pt x="43" y="297"/>
                </a:lnTo>
                <a:lnTo>
                  <a:pt x="64" y="260"/>
                </a:lnTo>
                <a:lnTo>
                  <a:pt x="57" y="237"/>
                </a:lnTo>
                <a:lnTo>
                  <a:pt x="81" y="219"/>
                </a:lnTo>
                <a:lnTo>
                  <a:pt x="69" y="252"/>
                </a:lnTo>
                <a:lnTo>
                  <a:pt x="83" y="242"/>
                </a:lnTo>
                <a:lnTo>
                  <a:pt x="95" y="245"/>
                </a:lnTo>
                <a:lnTo>
                  <a:pt x="95" y="233"/>
                </a:lnTo>
                <a:lnTo>
                  <a:pt x="118" y="242"/>
                </a:lnTo>
                <a:lnTo>
                  <a:pt x="106" y="249"/>
                </a:lnTo>
                <a:lnTo>
                  <a:pt x="103" y="266"/>
                </a:lnTo>
                <a:lnTo>
                  <a:pt x="118" y="286"/>
                </a:lnTo>
                <a:lnTo>
                  <a:pt x="92" y="321"/>
                </a:lnTo>
                <a:lnTo>
                  <a:pt x="90" y="337"/>
                </a:lnTo>
                <a:lnTo>
                  <a:pt x="79" y="332"/>
                </a:lnTo>
                <a:lnTo>
                  <a:pt x="79" y="337"/>
                </a:lnTo>
                <a:lnTo>
                  <a:pt x="88" y="357"/>
                </a:lnTo>
                <a:lnTo>
                  <a:pt x="98" y="361"/>
                </a:lnTo>
                <a:lnTo>
                  <a:pt x="96" y="348"/>
                </a:lnTo>
                <a:lnTo>
                  <a:pt x="104" y="344"/>
                </a:lnTo>
                <a:lnTo>
                  <a:pt x="136" y="357"/>
                </a:lnTo>
                <a:lnTo>
                  <a:pt x="140" y="344"/>
                </a:lnTo>
                <a:lnTo>
                  <a:pt x="177" y="347"/>
                </a:lnTo>
                <a:lnTo>
                  <a:pt x="214" y="332"/>
                </a:lnTo>
                <a:lnTo>
                  <a:pt x="245" y="335"/>
                </a:lnTo>
                <a:lnTo>
                  <a:pt x="221" y="344"/>
                </a:lnTo>
                <a:lnTo>
                  <a:pt x="199" y="376"/>
                </a:lnTo>
                <a:lnTo>
                  <a:pt x="237" y="411"/>
                </a:lnTo>
                <a:lnTo>
                  <a:pt x="274" y="400"/>
                </a:lnTo>
                <a:lnTo>
                  <a:pt x="251" y="440"/>
                </a:lnTo>
                <a:lnTo>
                  <a:pt x="266" y="442"/>
                </a:lnTo>
                <a:lnTo>
                  <a:pt x="251" y="466"/>
                </a:lnTo>
                <a:lnTo>
                  <a:pt x="261" y="472"/>
                </a:lnTo>
                <a:lnTo>
                  <a:pt x="250" y="483"/>
                </a:lnTo>
                <a:lnTo>
                  <a:pt x="191" y="482"/>
                </a:lnTo>
                <a:lnTo>
                  <a:pt x="118" y="525"/>
                </a:lnTo>
                <a:lnTo>
                  <a:pt x="124" y="527"/>
                </a:lnTo>
                <a:lnTo>
                  <a:pt x="160" y="517"/>
                </a:lnTo>
                <a:lnTo>
                  <a:pt x="166" y="545"/>
                </a:lnTo>
                <a:lnTo>
                  <a:pt x="177" y="554"/>
                </a:lnTo>
                <a:lnTo>
                  <a:pt x="160" y="576"/>
                </a:lnTo>
                <a:lnTo>
                  <a:pt x="72" y="613"/>
                </a:lnTo>
                <a:lnTo>
                  <a:pt x="88" y="634"/>
                </a:lnTo>
                <a:lnTo>
                  <a:pt x="110" y="632"/>
                </a:lnTo>
                <a:lnTo>
                  <a:pt x="135" y="620"/>
                </a:lnTo>
                <a:lnTo>
                  <a:pt x="147" y="638"/>
                </a:lnTo>
                <a:lnTo>
                  <a:pt x="167" y="638"/>
                </a:lnTo>
                <a:lnTo>
                  <a:pt x="183" y="632"/>
                </a:lnTo>
                <a:lnTo>
                  <a:pt x="217" y="656"/>
                </a:lnTo>
                <a:lnTo>
                  <a:pt x="231" y="656"/>
                </a:lnTo>
                <a:lnTo>
                  <a:pt x="289" y="624"/>
                </a:lnTo>
                <a:lnTo>
                  <a:pt x="289" y="632"/>
                </a:lnTo>
                <a:lnTo>
                  <a:pt x="251" y="671"/>
                </a:lnTo>
                <a:lnTo>
                  <a:pt x="160" y="676"/>
                </a:lnTo>
                <a:lnTo>
                  <a:pt x="132" y="708"/>
                </a:lnTo>
                <a:lnTo>
                  <a:pt x="48" y="767"/>
                </a:lnTo>
                <a:lnTo>
                  <a:pt x="43" y="780"/>
                </a:lnTo>
                <a:lnTo>
                  <a:pt x="52" y="771"/>
                </a:lnTo>
                <a:lnTo>
                  <a:pt x="79" y="782"/>
                </a:lnTo>
                <a:lnTo>
                  <a:pt x="116" y="751"/>
                </a:lnTo>
                <a:lnTo>
                  <a:pt x="160" y="750"/>
                </a:lnTo>
                <a:lnTo>
                  <a:pt x="199" y="758"/>
                </a:lnTo>
                <a:lnTo>
                  <a:pt x="210" y="748"/>
                </a:lnTo>
                <a:lnTo>
                  <a:pt x="214" y="724"/>
                </a:lnTo>
                <a:lnTo>
                  <a:pt x="269" y="713"/>
                </a:lnTo>
                <a:lnTo>
                  <a:pt x="296" y="732"/>
                </a:lnTo>
                <a:lnTo>
                  <a:pt x="312" y="724"/>
                </a:lnTo>
                <a:lnTo>
                  <a:pt x="336" y="726"/>
                </a:lnTo>
                <a:lnTo>
                  <a:pt x="333" y="719"/>
                </a:lnTo>
                <a:lnTo>
                  <a:pt x="369" y="717"/>
                </a:lnTo>
                <a:lnTo>
                  <a:pt x="384" y="711"/>
                </a:lnTo>
                <a:lnTo>
                  <a:pt x="387" y="700"/>
                </a:lnTo>
                <a:lnTo>
                  <a:pt x="416" y="705"/>
                </a:lnTo>
                <a:lnTo>
                  <a:pt x="429" y="713"/>
                </a:lnTo>
                <a:lnTo>
                  <a:pt x="484" y="707"/>
                </a:lnTo>
                <a:lnTo>
                  <a:pt x="502" y="711"/>
                </a:lnTo>
                <a:lnTo>
                  <a:pt x="573" y="696"/>
                </a:lnTo>
                <a:lnTo>
                  <a:pt x="607" y="676"/>
                </a:lnTo>
                <a:lnTo>
                  <a:pt x="610" y="665"/>
                </a:lnTo>
                <a:lnTo>
                  <a:pt x="551" y="660"/>
                </a:lnTo>
                <a:lnTo>
                  <a:pt x="550" y="651"/>
                </a:lnTo>
                <a:lnTo>
                  <a:pt x="545" y="645"/>
                </a:lnTo>
                <a:lnTo>
                  <a:pt x="559" y="641"/>
                </a:lnTo>
                <a:lnTo>
                  <a:pt x="569" y="629"/>
                </a:lnTo>
                <a:lnTo>
                  <a:pt x="558" y="624"/>
                </a:lnTo>
                <a:lnTo>
                  <a:pt x="595" y="617"/>
                </a:lnTo>
                <a:lnTo>
                  <a:pt x="595" y="602"/>
                </a:lnTo>
                <a:lnTo>
                  <a:pt x="613" y="600"/>
                </a:lnTo>
                <a:lnTo>
                  <a:pt x="625" y="589"/>
                </a:lnTo>
                <a:lnTo>
                  <a:pt x="634" y="553"/>
                </a:lnTo>
                <a:lnTo>
                  <a:pt x="630" y="537"/>
                </a:lnTo>
                <a:lnTo>
                  <a:pt x="617" y="523"/>
                </a:lnTo>
                <a:lnTo>
                  <a:pt x="591" y="514"/>
                </a:lnTo>
                <a:lnTo>
                  <a:pt x="539" y="518"/>
                </a:lnTo>
                <a:lnTo>
                  <a:pt x="523" y="531"/>
                </a:lnTo>
                <a:lnTo>
                  <a:pt x="498" y="525"/>
                </a:lnTo>
                <a:lnTo>
                  <a:pt x="519" y="501"/>
                </a:lnTo>
                <a:lnTo>
                  <a:pt x="523" y="486"/>
                </a:lnTo>
                <a:lnTo>
                  <a:pt x="468" y="446"/>
                </a:lnTo>
                <a:lnTo>
                  <a:pt x="475" y="443"/>
                </a:lnTo>
                <a:lnTo>
                  <a:pt x="490" y="452"/>
                </a:lnTo>
                <a:lnTo>
                  <a:pt x="510" y="456"/>
                </a:lnTo>
                <a:lnTo>
                  <a:pt x="506" y="439"/>
                </a:lnTo>
                <a:lnTo>
                  <a:pt x="483" y="420"/>
                </a:lnTo>
                <a:lnTo>
                  <a:pt x="447" y="372"/>
                </a:lnTo>
                <a:lnTo>
                  <a:pt x="403" y="363"/>
                </a:lnTo>
                <a:lnTo>
                  <a:pt x="371" y="316"/>
                </a:lnTo>
                <a:lnTo>
                  <a:pt x="367" y="280"/>
                </a:lnTo>
                <a:lnTo>
                  <a:pt x="328" y="252"/>
                </a:lnTo>
                <a:lnTo>
                  <a:pt x="285" y="237"/>
                </a:lnTo>
                <a:lnTo>
                  <a:pt x="251" y="242"/>
                </a:lnTo>
                <a:lnTo>
                  <a:pt x="231" y="240"/>
                </a:lnTo>
                <a:lnTo>
                  <a:pt x="233" y="230"/>
                </a:lnTo>
                <a:lnTo>
                  <a:pt x="243" y="223"/>
                </a:lnTo>
                <a:lnTo>
                  <a:pt x="282" y="218"/>
                </a:lnTo>
                <a:lnTo>
                  <a:pt x="258" y="197"/>
                </a:lnTo>
                <a:lnTo>
                  <a:pt x="272" y="197"/>
                </a:lnTo>
                <a:lnTo>
                  <a:pt x="289" y="186"/>
                </a:lnTo>
                <a:lnTo>
                  <a:pt x="312" y="161"/>
                </a:lnTo>
                <a:lnTo>
                  <a:pt x="326" y="127"/>
                </a:lnTo>
                <a:lnTo>
                  <a:pt x="346" y="112"/>
                </a:lnTo>
                <a:lnTo>
                  <a:pt x="341" y="88"/>
                </a:lnTo>
                <a:lnTo>
                  <a:pt x="227" y="84"/>
                </a:lnTo>
                <a:lnTo>
                  <a:pt x="163" y="102"/>
                </a:lnTo>
                <a:lnTo>
                  <a:pt x="156" y="98"/>
                </a:lnTo>
                <a:lnTo>
                  <a:pt x="160" y="88"/>
                </a:lnTo>
                <a:lnTo>
                  <a:pt x="147" y="87"/>
                </a:lnTo>
                <a:lnTo>
                  <a:pt x="183" y="75"/>
                </a:lnTo>
                <a:lnTo>
                  <a:pt x="159" y="74"/>
                </a:lnTo>
                <a:lnTo>
                  <a:pt x="160" y="67"/>
                </a:lnTo>
                <a:lnTo>
                  <a:pt x="237" y="25"/>
                </a:lnTo>
                <a:lnTo>
                  <a:pt x="243" y="4"/>
                </a:lnTo>
                <a:lnTo>
                  <a:pt x="223" y="0"/>
                </a:lnTo>
                <a:lnTo>
                  <a:pt x="143" y="9"/>
                </a:lnTo>
                <a:lnTo>
                  <a:pt x="95" y="8"/>
                </a:lnTo>
                <a:lnTo>
                  <a:pt x="81" y="23"/>
                </a:lnTo>
                <a:lnTo>
                  <a:pt x="79" y="35"/>
                </a:lnTo>
                <a:lnTo>
                  <a:pt x="64" y="37"/>
                </a:lnTo>
                <a:lnTo>
                  <a:pt x="64" y="49"/>
                </a:lnTo>
                <a:lnTo>
                  <a:pt x="57" y="52"/>
                </a:lnTo>
                <a:lnTo>
                  <a:pt x="72" y="63"/>
                </a:lnTo>
                <a:lnTo>
                  <a:pt x="31" y="76"/>
                </a:lnTo>
                <a:lnTo>
                  <a:pt x="31" y="95"/>
                </a:lnTo>
                <a:lnTo>
                  <a:pt x="41" y="98"/>
                </a:lnTo>
                <a:lnTo>
                  <a:pt x="23" y="102"/>
                </a:lnTo>
                <a:lnTo>
                  <a:pt x="24" y="115"/>
                </a:lnTo>
                <a:lnTo>
                  <a:pt x="51" y="112"/>
                </a:lnTo>
                <a:lnTo>
                  <a:pt x="43" y="119"/>
                </a:lnTo>
                <a:lnTo>
                  <a:pt x="51" y="120"/>
                </a:lnTo>
                <a:lnTo>
                  <a:pt x="24" y="155"/>
                </a:lnTo>
                <a:lnTo>
                  <a:pt x="23" y="170"/>
                </a:lnTo>
                <a:lnTo>
                  <a:pt x="0" y="175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29080" y="3079800"/>
            <a:ext cx="128520" cy="74520"/>
          </a:xfrm>
          <a:custGeom>
            <a:avLst/>
            <a:gdLst/>
            <a:ahLst/>
            <a:rect l="l" t="t" r="r" b="b"/>
            <a:pathLst>
              <a:path w="207" h="119">
                <a:moveTo>
                  <a:pt x="0" y="76"/>
                </a:moveTo>
                <a:lnTo>
                  <a:pt x="19" y="67"/>
                </a:lnTo>
                <a:lnTo>
                  <a:pt x="19" y="55"/>
                </a:lnTo>
                <a:lnTo>
                  <a:pt x="32" y="55"/>
                </a:lnTo>
                <a:lnTo>
                  <a:pt x="44" y="33"/>
                </a:lnTo>
                <a:lnTo>
                  <a:pt x="51" y="31"/>
                </a:lnTo>
                <a:lnTo>
                  <a:pt x="51" y="12"/>
                </a:lnTo>
                <a:lnTo>
                  <a:pt x="59" y="0"/>
                </a:lnTo>
                <a:lnTo>
                  <a:pt x="88" y="9"/>
                </a:lnTo>
                <a:lnTo>
                  <a:pt x="75" y="25"/>
                </a:lnTo>
                <a:lnTo>
                  <a:pt x="132" y="9"/>
                </a:lnTo>
                <a:lnTo>
                  <a:pt x="155" y="14"/>
                </a:lnTo>
                <a:lnTo>
                  <a:pt x="181" y="36"/>
                </a:lnTo>
                <a:lnTo>
                  <a:pt x="181" y="53"/>
                </a:lnTo>
                <a:lnTo>
                  <a:pt x="174" y="63"/>
                </a:lnTo>
                <a:lnTo>
                  <a:pt x="194" y="61"/>
                </a:lnTo>
                <a:lnTo>
                  <a:pt x="207" y="75"/>
                </a:lnTo>
                <a:lnTo>
                  <a:pt x="206" y="85"/>
                </a:lnTo>
                <a:lnTo>
                  <a:pt x="194" y="72"/>
                </a:lnTo>
                <a:lnTo>
                  <a:pt x="203" y="92"/>
                </a:lnTo>
                <a:lnTo>
                  <a:pt x="195" y="98"/>
                </a:lnTo>
                <a:lnTo>
                  <a:pt x="178" y="102"/>
                </a:lnTo>
                <a:lnTo>
                  <a:pt x="174" y="111"/>
                </a:lnTo>
                <a:lnTo>
                  <a:pt x="155" y="119"/>
                </a:lnTo>
                <a:lnTo>
                  <a:pt x="147" y="115"/>
                </a:lnTo>
                <a:lnTo>
                  <a:pt x="144" y="92"/>
                </a:lnTo>
                <a:lnTo>
                  <a:pt x="124" y="79"/>
                </a:lnTo>
                <a:lnTo>
                  <a:pt x="80" y="87"/>
                </a:lnTo>
                <a:lnTo>
                  <a:pt x="52" y="108"/>
                </a:lnTo>
                <a:lnTo>
                  <a:pt x="36" y="103"/>
                </a:lnTo>
                <a:lnTo>
                  <a:pt x="25" y="85"/>
                </a:lnTo>
                <a:lnTo>
                  <a:pt x="0" y="76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79840" y="2900520"/>
            <a:ext cx="44640" cy="41040"/>
          </a:xfrm>
          <a:custGeom>
            <a:avLst/>
            <a:gdLst/>
            <a:ahLst/>
            <a:rect l="l" t="t" r="r" b="b"/>
            <a:pathLst>
              <a:path w="72" h="64">
                <a:moveTo>
                  <a:pt x="0" y="41"/>
                </a:moveTo>
                <a:lnTo>
                  <a:pt x="0" y="29"/>
                </a:lnTo>
                <a:lnTo>
                  <a:pt x="5" y="21"/>
                </a:lnTo>
                <a:lnTo>
                  <a:pt x="24" y="24"/>
                </a:lnTo>
                <a:lnTo>
                  <a:pt x="22" y="16"/>
                </a:lnTo>
                <a:lnTo>
                  <a:pt x="65" y="0"/>
                </a:lnTo>
                <a:lnTo>
                  <a:pt x="64" y="17"/>
                </a:lnTo>
                <a:lnTo>
                  <a:pt x="72" y="20"/>
                </a:lnTo>
                <a:lnTo>
                  <a:pt x="50" y="29"/>
                </a:lnTo>
                <a:lnTo>
                  <a:pt x="53" y="36"/>
                </a:lnTo>
                <a:lnTo>
                  <a:pt x="46" y="45"/>
                </a:lnTo>
                <a:lnTo>
                  <a:pt x="32" y="45"/>
                </a:lnTo>
                <a:lnTo>
                  <a:pt x="5" y="64"/>
                </a:lnTo>
                <a:lnTo>
                  <a:pt x="0" y="58"/>
                </a:lnTo>
                <a:lnTo>
                  <a:pt x="9" y="49"/>
                </a:lnTo>
                <a:lnTo>
                  <a:pt x="0" y="41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97480" y="2944800"/>
            <a:ext cx="48960" cy="36360"/>
          </a:xfrm>
          <a:custGeom>
            <a:avLst/>
            <a:gdLst/>
            <a:ahLst/>
            <a:rect l="l" t="t" r="r" b="b"/>
            <a:pathLst>
              <a:path w="78" h="56">
                <a:moveTo>
                  <a:pt x="0" y="26"/>
                </a:moveTo>
                <a:lnTo>
                  <a:pt x="11" y="12"/>
                </a:lnTo>
                <a:lnTo>
                  <a:pt x="23" y="18"/>
                </a:lnTo>
                <a:lnTo>
                  <a:pt x="27" y="0"/>
                </a:lnTo>
                <a:lnTo>
                  <a:pt x="40" y="6"/>
                </a:lnTo>
                <a:lnTo>
                  <a:pt x="54" y="37"/>
                </a:lnTo>
                <a:lnTo>
                  <a:pt x="78" y="41"/>
                </a:lnTo>
                <a:lnTo>
                  <a:pt x="70" y="54"/>
                </a:lnTo>
                <a:lnTo>
                  <a:pt x="60" y="56"/>
                </a:lnTo>
                <a:lnTo>
                  <a:pt x="60" y="46"/>
                </a:lnTo>
                <a:lnTo>
                  <a:pt x="29" y="50"/>
                </a:lnTo>
                <a:lnTo>
                  <a:pt x="16" y="29"/>
                </a:lnTo>
                <a:lnTo>
                  <a:pt x="0" y="26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08640" y="3048120"/>
            <a:ext cx="20520" cy="12600"/>
          </a:xfrm>
          <a:custGeom>
            <a:avLst/>
            <a:gdLst/>
            <a:ahLst/>
            <a:rect l="l" t="t" r="r" b="b"/>
            <a:pathLst>
              <a:path w="33" h="24">
                <a:moveTo>
                  <a:pt x="0" y="16"/>
                </a:moveTo>
                <a:lnTo>
                  <a:pt x="6" y="7"/>
                </a:lnTo>
                <a:lnTo>
                  <a:pt x="26" y="0"/>
                </a:lnTo>
                <a:lnTo>
                  <a:pt x="33" y="12"/>
                </a:lnTo>
                <a:lnTo>
                  <a:pt x="33" y="20"/>
                </a:lnTo>
                <a:lnTo>
                  <a:pt x="19" y="24"/>
                </a:lnTo>
                <a:lnTo>
                  <a:pt x="12" y="11"/>
                </a:lnTo>
                <a:lnTo>
                  <a:pt x="0" y="16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13320" y="3005280"/>
            <a:ext cx="33120" cy="21960"/>
          </a:xfrm>
          <a:custGeom>
            <a:avLst/>
            <a:gdLst/>
            <a:ahLst/>
            <a:rect l="l" t="t" r="r" b="b"/>
            <a:pathLst>
              <a:path w="51" h="32">
                <a:moveTo>
                  <a:pt x="0" y="26"/>
                </a:moveTo>
                <a:lnTo>
                  <a:pt x="9" y="32"/>
                </a:lnTo>
                <a:lnTo>
                  <a:pt x="24" y="32"/>
                </a:lnTo>
                <a:lnTo>
                  <a:pt x="51" y="24"/>
                </a:lnTo>
                <a:lnTo>
                  <a:pt x="23" y="0"/>
                </a:lnTo>
                <a:lnTo>
                  <a:pt x="9" y="4"/>
                </a:lnTo>
                <a:lnTo>
                  <a:pt x="23" y="14"/>
                </a:lnTo>
                <a:lnTo>
                  <a:pt x="17" y="26"/>
                </a:lnTo>
                <a:lnTo>
                  <a:pt x="0" y="26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53080" y="2776680"/>
            <a:ext cx="23760" cy="42840"/>
          </a:xfrm>
          <a:custGeom>
            <a:avLst/>
            <a:gdLst/>
            <a:ahLst/>
            <a:rect l="l" t="t" r="r" b="b"/>
            <a:pathLst>
              <a:path w="40" h="70">
                <a:moveTo>
                  <a:pt x="0" y="37"/>
                </a:moveTo>
                <a:lnTo>
                  <a:pt x="10" y="45"/>
                </a:lnTo>
                <a:lnTo>
                  <a:pt x="21" y="39"/>
                </a:lnTo>
                <a:lnTo>
                  <a:pt x="24" y="43"/>
                </a:lnTo>
                <a:lnTo>
                  <a:pt x="20" y="70"/>
                </a:lnTo>
                <a:lnTo>
                  <a:pt x="37" y="58"/>
                </a:lnTo>
                <a:lnTo>
                  <a:pt x="40" y="21"/>
                </a:lnTo>
                <a:lnTo>
                  <a:pt x="26" y="17"/>
                </a:lnTo>
                <a:lnTo>
                  <a:pt x="24" y="0"/>
                </a:lnTo>
                <a:lnTo>
                  <a:pt x="6" y="12"/>
                </a:lnTo>
                <a:lnTo>
                  <a:pt x="14" y="29"/>
                </a:lnTo>
                <a:lnTo>
                  <a:pt x="0" y="37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54680" y="4346640"/>
            <a:ext cx="102960" cy="968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46680" y="4444920"/>
            <a:ext cx="88920" cy="9540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41880" y="4633920"/>
            <a:ext cx="88920" cy="9540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78560" y="4943520"/>
            <a:ext cx="101880" cy="824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79000" y="6332400"/>
            <a:ext cx="101520" cy="986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99320" y="4773600"/>
            <a:ext cx="104760" cy="968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44080" y="4222800"/>
            <a:ext cx="79200" cy="698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23280" y="5529240"/>
            <a:ext cx="102960" cy="9540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120240" y="6703920"/>
            <a:ext cx="104760" cy="968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51640" y="6222960"/>
            <a:ext cx="87120" cy="10476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86120" y="6067440"/>
            <a:ext cx="87480" cy="9360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70360" y="5905440"/>
            <a:ext cx="87120" cy="9540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35200" y="6554880"/>
            <a:ext cx="84240" cy="9360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89320" y="6445080"/>
            <a:ext cx="88920" cy="9216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17840" y="4822920"/>
            <a:ext cx="96840" cy="1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40080" y="4741920"/>
            <a:ext cx="85680" cy="950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41520" y="5184720"/>
            <a:ext cx="87480" cy="9540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41720" y="5292720"/>
            <a:ext cx="84240" cy="9540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74840" y="5711760"/>
            <a:ext cx="84240" cy="968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81160" y="4224240"/>
            <a:ext cx="87480" cy="9540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77960" y="4351320"/>
            <a:ext cx="88920" cy="968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73320" y="4253040"/>
            <a:ext cx="85680" cy="950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91040" y="3784680"/>
            <a:ext cx="87120" cy="9360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35280" y="4029120"/>
            <a:ext cx="88920" cy="950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14720" y="4019400"/>
            <a:ext cx="87120" cy="9540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18640" y="4000680"/>
            <a:ext cx="85680" cy="950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38400" y="3844800"/>
            <a:ext cx="88920" cy="968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908840" y="5415120"/>
            <a:ext cx="103320" cy="950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98920" y="917640"/>
            <a:ext cx="35136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Ägypt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98560" y="1063800"/>
            <a:ext cx="48852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Argentini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98920" y="1206360"/>
            <a:ext cx="43056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Australi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98200" y="1351080"/>
            <a:ext cx="31788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Belgi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98560" y="1494000"/>
            <a:ext cx="32364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Belaru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98920" y="1639800"/>
            <a:ext cx="43200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Bermud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98560" y="1785960"/>
            <a:ext cx="37260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Brasili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96760" y="1928880"/>
            <a:ext cx="21564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Chi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97480" y="2073240"/>
            <a:ext cx="24444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99640" y="2217600"/>
            <a:ext cx="42732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Dänemar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00000" y="2359080"/>
            <a:ext cx="52668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Deutschl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98200" y="2503440"/>
            <a:ext cx="31788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Estoni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99280" y="2647800"/>
            <a:ext cx="45036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Frankrei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99280" y="2795760"/>
            <a:ext cx="56160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Griechenl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98560" y="2935440"/>
            <a:ext cx="63468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Großbritanni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98200" y="3083040"/>
            <a:ext cx="47304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Hong Ko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97120" y="3225960"/>
            <a:ext cx="25812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Indi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98920" y="3368520"/>
            <a:ext cx="46260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Indonesi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96760" y="3517920"/>
            <a:ext cx="24012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Irl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97480" y="3657600"/>
            <a:ext cx="25380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Itali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98560" y="3803760"/>
            <a:ext cx="25380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98920" y="3948120"/>
            <a:ext cx="31788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Kanad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98200" y="4089240"/>
            <a:ext cx="35748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Kroati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00360" y="4235400"/>
            <a:ext cx="56448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Liechtenste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98560" y="4379760"/>
            <a:ext cx="47916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Luxembur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99280" y="4524480"/>
            <a:ext cx="36648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Malaysi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98560" y="4665600"/>
            <a:ext cx="29808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Mexic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97840" y="4809960"/>
            <a:ext cx="34380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Namibi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00360" y="4956120"/>
            <a:ext cx="49284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Neuseel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99640" y="5099040"/>
            <a:ext cx="50364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Niederlan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98200" y="5245200"/>
            <a:ext cx="42588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Norweg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97480" y="5388120"/>
            <a:ext cx="19728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Per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96760" y="5532480"/>
            <a:ext cx="47304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Philippin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96760" y="5676840"/>
            <a:ext cx="24012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Pol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97480" y="5821200"/>
            <a:ext cx="35748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98200" y="5965920"/>
            <a:ext cx="35136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Rußl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98200" y="6108840"/>
            <a:ext cx="43524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Schwed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97480" y="6253200"/>
            <a:ext cx="34812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Schwei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97120" y="6399360"/>
            <a:ext cx="38160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Singapu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97840" y="6540480"/>
            <a:ext cx="41508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Sloveni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98200" y="6688080"/>
            <a:ext cx="43056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Slowaki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97840" y="6831000"/>
            <a:ext cx="34200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Spani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91240" y="4118040"/>
            <a:ext cx="85680" cy="950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97040" y="4857840"/>
            <a:ext cx="401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36699"/>
                </a:solidFill>
                <a:latin typeface="Arial"/>
              </a:rPr>
              <a:t>Südafrik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97040" y="4998960"/>
            <a:ext cx="401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36699"/>
                </a:solidFill>
                <a:latin typeface="Arial"/>
              </a:rPr>
              <a:t>Südkore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96320" y="5145120"/>
            <a:ext cx="29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36699"/>
                </a:solidFill>
                <a:latin typeface="Arial"/>
              </a:rPr>
              <a:t>Taiw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96320" y="5289480"/>
            <a:ext cx="36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36699"/>
                </a:solidFill>
                <a:latin typeface="Arial"/>
              </a:rPr>
              <a:t>Thail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701000" y="5435640"/>
            <a:ext cx="97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36699"/>
                </a:solidFill>
                <a:latin typeface="Arial"/>
              </a:rPr>
              <a:t>Tschechische Republi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96680" y="5576760"/>
            <a:ext cx="264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36699"/>
                </a:solidFill>
                <a:latin typeface="Arial"/>
              </a:rPr>
              <a:t>Türke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97400" y="5719680"/>
            <a:ext cx="384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36699"/>
                </a:solidFill>
                <a:latin typeface="Arial"/>
              </a:rPr>
              <a:t>Tunesi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97040" y="5867280"/>
            <a:ext cx="323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36699"/>
                </a:solidFill>
                <a:latin typeface="Arial"/>
              </a:rPr>
              <a:t>Ukrai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96680" y="6010200"/>
            <a:ext cx="308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36699"/>
                </a:solidFill>
                <a:latin typeface="Arial"/>
              </a:rPr>
              <a:t>Ungar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95600" y="6156360"/>
            <a:ext cx="18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36699"/>
                </a:solidFill>
                <a:latin typeface="Arial"/>
              </a:rPr>
              <a:t>US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98480" y="6299280"/>
            <a:ext cx="46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36699"/>
                </a:solidFill>
                <a:latin typeface="Arial"/>
              </a:rPr>
              <a:t>Usbekist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97760" y="6442200"/>
            <a:ext cx="430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36699"/>
                </a:solidFill>
                <a:latin typeface="Arial"/>
              </a:rPr>
              <a:t>Venezuel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99560" y="6586560"/>
            <a:ext cx="1024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36699"/>
                </a:solidFill>
                <a:latin typeface="Arial"/>
              </a:rPr>
              <a:t>Vereinigte Arab. Emir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96680" y="6730920"/>
            <a:ext cx="34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36699"/>
                </a:solidFill>
                <a:latin typeface="Arial"/>
              </a:rPr>
              <a:t>Vietna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96320" y="6875640"/>
            <a:ext cx="293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36699"/>
                </a:solidFill>
                <a:latin typeface="Arial"/>
              </a:rPr>
              <a:t>Zyper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72840" y="6383160"/>
            <a:ext cx="1197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e Allianz ist heu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725080" y="6588000"/>
            <a:ext cx="187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in mehr als 70 Ländern prä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26320" y="4243320"/>
            <a:ext cx="106200" cy="9360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07400" y="4064040"/>
            <a:ext cx="104760" cy="950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43840" y="3757680"/>
            <a:ext cx="110880" cy="950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891560" y="4884840"/>
            <a:ext cx="104760" cy="950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410600" y="5203800"/>
            <a:ext cx="101520" cy="968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610480" y="6458040"/>
            <a:ext cx="104760" cy="968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0960" y="4119480"/>
            <a:ext cx="100080" cy="9360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710480" y="4548240"/>
            <a:ext cx="108000" cy="968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3560" y="3521160"/>
            <a:ext cx="103320" cy="968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53000" y="3800520"/>
            <a:ext cx="71280" cy="73080"/>
          </a:xfrm>
          <a:prstGeom prst="ellipse">
            <a:avLst/>
          </a:prstGeom>
          <a:solidFill>
            <a:srgbClr val="336699"/>
          </a:solidFill>
          <a:ln w="7920">
            <a:solidFill>
              <a:srgbClr val="ffe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54520" y="3246480"/>
            <a:ext cx="71640" cy="71280"/>
          </a:xfrm>
          <a:prstGeom prst="ellipse">
            <a:avLst/>
          </a:prstGeom>
          <a:solidFill>
            <a:srgbClr val="336699"/>
          </a:solidFill>
          <a:ln w="7920">
            <a:solidFill>
              <a:srgbClr val="ffe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53120" y="2813040"/>
            <a:ext cx="71280" cy="69840"/>
          </a:xfrm>
          <a:prstGeom prst="ellipse">
            <a:avLst/>
          </a:prstGeom>
          <a:solidFill>
            <a:srgbClr val="336699"/>
          </a:solidFill>
          <a:ln w="7920">
            <a:solidFill>
              <a:srgbClr val="ffe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64160" y="2700360"/>
            <a:ext cx="71640" cy="73080"/>
          </a:xfrm>
          <a:prstGeom prst="ellipse">
            <a:avLst/>
          </a:prstGeom>
          <a:solidFill>
            <a:srgbClr val="336699"/>
          </a:solidFill>
          <a:ln w="7920">
            <a:solidFill>
              <a:srgbClr val="ffe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24360" y="3500280"/>
            <a:ext cx="71640" cy="73080"/>
          </a:xfrm>
          <a:prstGeom prst="ellipse">
            <a:avLst/>
          </a:prstGeom>
          <a:solidFill>
            <a:srgbClr val="336699"/>
          </a:solidFill>
          <a:ln w="7920">
            <a:solidFill>
              <a:srgbClr val="ffe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00600" y="3203640"/>
            <a:ext cx="74880" cy="73080"/>
          </a:xfrm>
          <a:prstGeom prst="ellipse">
            <a:avLst/>
          </a:prstGeom>
          <a:solidFill>
            <a:srgbClr val="336699"/>
          </a:solidFill>
          <a:ln w="7920">
            <a:solidFill>
              <a:srgbClr val="ffe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00640" y="3165480"/>
            <a:ext cx="69840" cy="73080"/>
          </a:xfrm>
          <a:prstGeom prst="ellipse">
            <a:avLst/>
          </a:prstGeom>
          <a:solidFill>
            <a:srgbClr val="336699"/>
          </a:solidFill>
          <a:ln w="7920">
            <a:solidFill>
              <a:srgbClr val="ffe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22600" y="3181320"/>
            <a:ext cx="73080" cy="68400"/>
          </a:xfrm>
          <a:prstGeom prst="ellipse">
            <a:avLst/>
          </a:prstGeom>
          <a:solidFill>
            <a:srgbClr val="336699"/>
          </a:solidFill>
          <a:ln w="7920">
            <a:solidFill>
              <a:srgbClr val="ffe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51400" y="3909960"/>
            <a:ext cx="71280" cy="71640"/>
          </a:xfrm>
          <a:prstGeom prst="ellipse">
            <a:avLst/>
          </a:prstGeom>
          <a:solidFill>
            <a:srgbClr val="336699"/>
          </a:solidFill>
          <a:ln w="7920">
            <a:solidFill>
              <a:srgbClr val="ffe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65600" y="4013280"/>
            <a:ext cx="74520" cy="71280"/>
          </a:xfrm>
          <a:prstGeom prst="ellipse">
            <a:avLst/>
          </a:prstGeom>
          <a:solidFill>
            <a:srgbClr val="336699"/>
          </a:solidFill>
          <a:ln w="7920">
            <a:solidFill>
              <a:srgbClr val="ffe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084640" y="3684600"/>
            <a:ext cx="68400" cy="69840"/>
          </a:xfrm>
          <a:prstGeom prst="ellipse">
            <a:avLst/>
          </a:prstGeom>
          <a:solidFill>
            <a:srgbClr val="336699"/>
          </a:solidFill>
          <a:ln w="7920">
            <a:solidFill>
              <a:srgbClr val="ffe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14880" y="3300480"/>
            <a:ext cx="71640" cy="73080"/>
          </a:xfrm>
          <a:prstGeom prst="ellipse">
            <a:avLst/>
          </a:prstGeom>
          <a:solidFill>
            <a:srgbClr val="336699"/>
          </a:solidFill>
          <a:ln w="7920">
            <a:solidFill>
              <a:srgbClr val="ffe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62440" y="3606840"/>
            <a:ext cx="70200" cy="73080"/>
          </a:xfrm>
          <a:prstGeom prst="ellipse">
            <a:avLst/>
          </a:prstGeom>
          <a:solidFill>
            <a:srgbClr val="336699"/>
          </a:solidFill>
          <a:ln w="7920">
            <a:solidFill>
              <a:srgbClr val="ffe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24320" y="3500280"/>
            <a:ext cx="74880" cy="73080"/>
          </a:xfrm>
          <a:prstGeom prst="ellipse">
            <a:avLst/>
          </a:prstGeom>
          <a:solidFill>
            <a:srgbClr val="336699"/>
          </a:solidFill>
          <a:ln w="7920">
            <a:solidFill>
              <a:srgbClr val="ffe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33920" y="3481560"/>
            <a:ext cx="73080" cy="71280"/>
          </a:xfrm>
          <a:prstGeom prst="ellipse">
            <a:avLst/>
          </a:prstGeom>
          <a:solidFill>
            <a:srgbClr val="336699"/>
          </a:solidFill>
          <a:ln w="7920">
            <a:solidFill>
              <a:srgbClr val="ffe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43480" y="3632040"/>
            <a:ext cx="69840" cy="74880"/>
          </a:xfrm>
          <a:prstGeom prst="ellipse">
            <a:avLst/>
          </a:prstGeom>
          <a:solidFill>
            <a:srgbClr val="336699"/>
          </a:solidFill>
          <a:ln w="7920">
            <a:solidFill>
              <a:srgbClr val="ffe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408640" y="3435480"/>
            <a:ext cx="71280" cy="71280"/>
          </a:xfrm>
          <a:prstGeom prst="ellipse">
            <a:avLst/>
          </a:prstGeom>
          <a:solidFill>
            <a:srgbClr val="336699"/>
          </a:solidFill>
          <a:ln w="7920">
            <a:solidFill>
              <a:srgbClr val="ffe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35680" y="3951360"/>
            <a:ext cx="73080" cy="73080"/>
          </a:xfrm>
          <a:prstGeom prst="ellipse">
            <a:avLst/>
          </a:prstGeom>
          <a:solidFill>
            <a:srgbClr val="336699"/>
          </a:solidFill>
          <a:ln w="7920">
            <a:solidFill>
              <a:srgbClr val="ffe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27960" y="941400"/>
            <a:ext cx="5497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Die Allianz: weltweit in bester L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120.000 Mitarbei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392880" y="1538280"/>
            <a:ext cx="2203560" cy="19540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59720" y="1566720"/>
            <a:ext cx="1292040" cy="1895760"/>
          </a:xfrm>
          <a:custGeom>
            <a:avLst/>
            <a:gdLst/>
            <a:ahLst/>
            <a:rect l="l" t="t" r="r" b="b"/>
            <a:pathLst>
              <a:path w="4876" h="7165">
                <a:moveTo>
                  <a:pt x="1196" y="5640"/>
                </a:moveTo>
                <a:lnTo>
                  <a:pt x="1142" y="5615"/>
                </a:lnTo>
                <a:lnTo>
                  <a:pt x="1103" y="5615"/>
                </a:lnTo>
                <a:lnTo>
                  <a:pt x="1071" y="5615"/>
                </a:lnTo>
                <a:lnTo>
                  <a:pt x="977" y="5580"/>
                </a:lnTo>
                <a:lnTo>
                  <a:pt x="906" y="5580"/>
                </a:lnTo>
                <a:lnTo>
                  <a:pt x="826" y="5564"/>
                </a:lnTo>
                <a:lnTo>
                  <a:pt x="787" y="5537"/>
                </a:lnTo>
                <a:lnTo>
                  <a:pt x="772" y="5511"/>
                </a:lnTo>
                <a:lnTo>
                  <a:pt x="772" y="5489"/>
                </a:lnTo>
                <a:lnTo>
                  <a:pt x="755" y="5462"/>
                </a:lnTo>
                <a:lnTo>
                  <a:pt x="716" y="5455"/>
                </a:lnTo>
                <a:lnTo>
                  <a:pt x="708" y="5462"/>
                </a:lnTo>
                <a:lnTo>
                  <a:pt x="661" y="5462"/>
                </a:lnTo>
                <a:lnTo>
                  <a:pt x="630" y="5455"/>
                </a:lnTo>
                <a:lnTo>
                  <a:pt x="559" y="5421"/>
                </a:lnTo>
                <a:lnTo>
                  <a:pt x="496" y="5351"/>
                </a:lnTo>
                <a:lnTo>
                  <a:pt x="472" y="5345"/>
                </a:lnTo>
                <a:lnTo>
                  <a:pt x="457" y="5336"/>
                </a:lnTo>
                <a:lnTo>
                  <a:pt x="401" y="5361"/>
                </a:lnTo>
                <a:lnTo>
                  <a:pt x="347" y="5345"/>
                </a:lnTo>
                <a:lnTo>
                  <a:pt x="314" y="5310"/>
                </a:lnTo>
                <a:lnTo>
                  <a:pt x="258" y="5242"/>
                </a:lnTo>
                <a:lnTo>
                  <a:pt x="220" y="5150"/>
                </a:lnTo>
                <a:lnTo>
                  <a:pt x="181" y="5090"/>
                </a:lnTo>
                <a:lnTo>
                  <a:pt x="204" y="5029"/>
                </a:lnTo>
                <a:lnTo>
                  <a:pt x="235" y="4962"/>
                </a:lnTo>
                <a:lnTo>
                  <a:pt x="275" y="4860"/>
                </a:lnTo>
                <a:lnTo>
                  <a:pt x="275" y="4827"/>
                </a:lnTo>
                <a:lnTo>
                  <a:pt x="258" y="4810"/>
                </a:lnTo>
                <a:lnTo>
                  <a:pt x="187" y="4784"/>
                </a:lnTo>
                <a:lnTo>
                  <a:pt x="141" y="4751"/>
                </a:lnTo>
                <a:lnTo>
                  <a:pt x="110" y="4674"/>
                </a:lnTo>
                <a:lnTo>
                  <a:pt x="69" y="4640"/>
                </a:lnTo>
                <a:lnTo>
                  <a:pt x="63" y="4613"/>
                </a:lnTo>
                <a:lnTo>
                  <a:pt x="77" y="4538"/>
                </a:lnTo>
                <a:lnTo>
                  <a:pt x="69" y="4463"/>
                </a:lnTo>
                <a:lnTo>
                  <a:pt x="77" y="4404"/>
                </a:lnTo>
                <a:lnTo>
                  <a:pt x="110" y="4354"/>
                </a:lnTo>
                <a:lnTo>
                  <a:pt x="187" y="4311"/>
                </a:lnTo>
                <a:lnTo>
                  <a:pt x="220" y="4311"/>
                </a:lnTo>
                <a:lnTo>
                  <a:pt x="187" y="4311"/>
                </a:lnTo>
                <a:lnTo>
                  <a:pt x="211" y="4304"/>
                </a:lnTo>
                <a:lnTo>
                  <a:pt x="211" y="4233"/>
                </a:lnTo>
                <a:lnTo>
                  <a:pt x="204" y="4157"/>
                </a:lnTo>
                <a:lnTo>
                  <a:pt x="187" y="4142"/>
                </a:lnTo>
                <a:lnTo>
                  <a:pt x="148" y="4142"/>
                </a:lnTo>
                <a:lnTo>
                  <a:pt x="141" y="4133"/>
                </a:lnTo>
                <a:lnTo>
                  <a:pt x="125" y="4116"/>
                </a:lnTo>
                <a:lnTo>
                  <a:pt x="133" y="4091"/>
                </a:lnTo>
                <a:lnTo>
                  <a:pt x="164" y="4032"/>
                </a:lnTo>
                <a:lnTo>
                  <a:pt x="164" y="4006"/>
                </a:lnTo>
                <a:lnTo>
                  <a:pt x="157" y="3989"/>
                </a:lnTo>
                <a:lnTo>
                  <a:pt x="110" y="3955"/>
                </a:lnTo>
                <a:lnTo>
                  <a:pt x="63" y="3937"/>
                </a:lnTo>
                <a:lnTo>
                  <a:pt x="38" y="3922"/>
                </a:lnTo>
                <a:lnTo>
                  <a:pt x="38" y="3897"/>
                </a:lnTo>
                <a:lnTo>
                  <a:pt x="38" y="3873"/>
                </a:lnTo>
                <a:lnTo>
                  <a:pt x="63" y="3796"/>
                </a:lnTo>
                <a:lnTo>
                  <a:pt x="63" y="3752"/>
                </a:lnTo>
                <a:lnTo>
                  <a:pt x="54" y="3709"/>
                </a:lnTo>
                <a:lnTo>
                  <a:pt x="6" y="3683"/>
                </a:lnTo>
                <a:lnTo>
                  <a:pt x="0" y="3649"/>
                </a:lnTo>
                <a:lnTo>
                  <a:pt x="15" y="3616"/>
                </a:lnTo>
                <a:lnTo>
                  <a:pt x="77" y="3582"/>
                </a:lnTo>
                <a:lnTo>
                  <a:pt x="93" y="3565"/>
                </a:lnTo>
                <a:lnTo>
                  <a:pt x="101" y="3548"/>
                </a:lnTo>
                <a:lnTo>
                  <a:pt x="93" y="3490"/>
                </a:lnTo>
                <a:lnTo>
                  <a:pt x="101" y="3465"/>
                </a:lnTo>
                <a:lnTo>
                  <a:pt x="119" y="3447"/>
                </a:lnTo>
                <a:lnTo>
                  <a:pt x="141" y="3405"/>
                </a:lnTo>
                <a:lnTo>
                  <a:pt x="164" y="3347"/>
                </a:lnTo>
                <a:lnTo>
                  <a:pt x="173" y="3320"/>
                </a:lnTo>
                <a:lnTo>
                  <a:pt x="157" y="3245"/>
                </a:lnTo>
                <a:lnTo>
                  <a:pt x="110" y="3091"/>
                </a:lnTo>
                <a:lnTo>
                  <a:pt x="54" y="2980"/>
                </a:lnTo>
                <a:lnTo>
                  <a:pt x="54" y="2947"/>
                </a:lnTo>
                <a:lnTo>
                  <a:pt x="69" y="2932"/>
                </a:lnTo>
                <a:lnTo>
                  <a:pt x="86" y="2912"/>
                </a:lnTo>
                <a:lnTo>
                  <a:pt x="93" y="2912"/>
                </a:lnTo>
                <a:lnTo>
                  <a:pt x="141" y="2924"/>
                </a:lnTo>
                <a:lnTo>
                  <a:pt x="173" y="2924"/>
                </a:lnTo>
                <a:lnTo>
                  <a:pt x="187" y="2872"/>
                </a:lnTo>
                <a:lnTo>
                  <a:pt x="220" y="2872"/>
                </a:lnTo>
                <a:lnTo>
                  <a:pt x="275" y="2912"/>
                </a:lnTo>
                <a:lnTo>
                  <a:pt x="314" y="2906"/>
                </a:lnTo>
                <a:lnTo>
                  <a:pt x="353" y="2879"/>
                </a:lnTo>
                <a:lnTo>
                  <a:pt x="409" y="2872"/>
                </a:lnTo>
                <a:lnTo>
                  <a:pt x="481" y="2872"/>
                </a:lnTo>
                <a:lnTo>
                  <a:pt x="505" y="2855"/>
                </a:lnTo>
                <a:lnTo>
                  <a:pt x="511" y="2837"/>
                </a:lnTo>
                <a:lnTo>
                  <a:pt x="511" y="2786"/>
                </a:lnTo>
                <a:lnTo>
                  <a:pt x="457" y="2728"/>
                </a:lnTo>
                <a:lnTo>
                  <a:pt x="457" y="2692"/>
                </a:lnTo>
                <a:lnTo>
                  <a:pt x="472" y="2676"/>
                </a:lnTo>
                <a:lnTo>
                  <a:pt x="496" y="2669"/>
                </a:lnTo>
                <a:lnTo>
                  <a:pt x="543" y="2669"/>
                </a:lnTo>
                <a:lnTo>
                  <a:pt x="589" y="2635"/>
                </a:lnTo>
                <a:lnTo>
                  <a:pt x="630" y="2558"/>
                </a:lnTo>
                <a:lnTo>
                  <a:pt x="637" y="2498"/>
                </a:lnTo>
                <a:lnTo>
                  <a:pt x="645" y="2422"/>
                </a:lnTo>
                <a:lnTo>
                  <a:pt x="630" y="2388"/>
                </a:lnTo>
                <a:lnTo>
                  <a:pt x="600" y="2381"/>
                </a:lnTo>
                <a:lnTo>
                  <a:pt x="534" y="2370"/>
                </a:lnTo>
                <a:lnTo>
                  <a:pt x="505" y="2363"/>
                </a:lnTo>
                <a:lnTo>
                  <a:pt x="481" y="2344"/>
                </a:lnTo>
                <a:lnTo>
                  <a:pt x="472" y="2321"/>
                </a:lnTo>
                <a:lnTo>
                  <a:pt x="496" y="2235"/>
                </a:lnTo>
                <a:lnTo>
                  <a:pt x="528" y="2194"/>
                </a:lnTo>
                <a:lnTo>
                  <a:pt x="552" y="2178"/>
                </a:lnTo>
                <a:lnTo>
                  <a:pt x="566" y="2178"/>
                </a:lnTo>
                <a:lnTo>
                  <a:pt x="630" y="2194"/>
                </a:lnTo>
                <a:lnTo>
                  <a:pt x="661" y="2194"/>
                </a:lnTo>
                <a:lnTo>
                  <a:pt x="677" y="2178"/>
                </a:lnTo>
                <a:lnTo>
                  <a:pt x="677" y="2135"/>
                </a:lnTo>
                <a:lnTo>
                  <a:pt x="661" y="2074"/>
                </a:lnTo>
                <a:lnTo>
                  <a:pt x="661" y="2042"/>
                </a:lnTo>
                <a:lnTo>
                  <a:pt x="686" y="1965"/>
                </a:lnTo>
                <a:lnTo>
                  <a:pt x="732" y="1847"/>
                </a:lnTo>
                <a:lnTo>
                  <a:pt x="749" y="1778"/>
                </a:lnTo>
                <a:lnTo>
                  <a:pt x="732" y="1703"/>
                </a:lnTo>
                <a:lnTo>
                  <a:pt x="741" y="1678"/>
                </a:lnTo>
                <a:lnTo>
                  <a:pt x="772" y="1659"/>
                </a:lnTo>
                <a:lnTo>
                  <a:pt x="772" y="1633"/>
                </a:lnTo>
                <a:lnTo>
                  <a:pt x="804" y="1610"/>
                </a:lnTo>
                <a:lnTo>
                  <a:pt x="842" y="1601"/>
                </a:lnTo>
                <a:lnTo>
                  <a:pt x="842" y="1585"/>
                </a:lnTo>
                <a:lnTo>
                  <a:pt x="826" y="1558"/>
                </a:lnTo>
                <a:lnTo>
                  <a:pt x="732" y="1524"/>
                </a:lnTo>
                <a:lnTo>
                  <a:pt x="708" y="1498"/>
                </a:lnTo>
                <a:lnTo>
                  <a:pt x="700" y="1483"/>
                </a:lnTo>
                <a:lnTo>
                  <a:pt x="708" y="1440"/>
                </a:lnTo>
                <a:lnTo>
                  <a:pt x="725" y="1415"/>
                </a:lnTo>
                <a:lnTo>
                  <a:pt x="741" y="1406"/>
                </a:lnTo>
                <a:lnTo>
                  <a:pt x="795" y="1406"/>
                </a:lnTo>
                <a:lnTo>
                  <a:pt x="804" y="1396"/>
                </a:lnTo>
                <a:lnTo>
                  <a:pt x="780" y="1357"/>
                </a:lnTo>
                <a:lnTo>
                  <a:pt x="787" y="1279"/>
                </a:lnTo>
                <a:lnTo>
                  <a:pt x="804" y="1262"/>
                </a:lnTo>
                <a:lnTo>
                  <a:pt x="842" y="1255"/>
                </a:lnTo>
                <a:lnTo>
                  <a:pt x="890" y="1255"/>
                </a:lnTo>
                <a:lnTo>
                  <a:pt x="937" y="1272"/>
                </a:lnTo>
                <a:lnTo>
                  <a:pt x="1040" y="1262"/>
                </a:lnTo>
                <a:lnTo>
                  <a:pt x="1119" y="1245"/>
                </a:lnTo>
                <a:lnTo>
                  <a:pt x="1196" y="1245"/>
                </a:lnTo>
                <a:lnTo>
                  <a:pt x="1230" y="1272"/>
                </a:lnTo>
                <a:lnTo>
                  <a:pt x="1293" y="1415"/>
                </a:lnTo>
                <a:lnTo>
                  <a:pt x="1277" y="1422"/>
                </a:lnTo>
                <a:lnTo>
                  <a:pt x="1267" y="1433"/>
                </a:lnTo>
                <a:lnTo>
                  <a:pt x="1267" y="1483"/>
                </a:lnTo>
                <a:lnTo>
                  <a:pt x="1277" y="1493"/>
                </a:lnTo>
                <a:lnTo>
                  <a:pt x="1300" y="1483"/>
                </a:lnTo>
                <a:lnTo>
                  <a:pt x="1308" y="1493"/>
                </a:lnTo>
                <a:lnTo>
                  <a:pt x="1339" y="1524"/>
                </a:lnTo>
                <a:lnTo>
                  <a:pt x="1363" y="1524"/>
                </a:lnTo>
                <a:lnTo>
                  <a:pt x="1380" y="1524"/>
                </a:lnTo>
                <a:lnTo>
                  <a:pt x="1380" y="1483"/>
                </a:lnTo>
                <a:lnTo>
                  <a:pt x="1348" y="1415"/>
                </a:lnTo>
                <a:lnTo>
                  <a:pt x="1339" y="1371"/>
                </a:lnTo>
                <a:lnTo>
                  <a:pt x="1356" y="1346"/>
                </a:lnTo>
                <a:lnTo>
                  <a:pt x="1363" y="1337"/>
                </a:lnTo>
                <a:lnTo>
                  <a:pt x="1387" y="1346"/>
                </a:lnTo>
                <a:lnTo>
                  <a:pt x="1419" y="1363"/>
                </a:lnTo>
                <a:lnTo>
                  <a:pt x="1425" y="1390"/>
                </a:lnTo>
                <a:lnTo>
                  <a:pt x="1448" y="1406"/>
                </a:lnTo>
                <a:lnTo>
                  <a:pt x="1458" y="1415"/>
                </a:lnTo>
                <a:lnTo>
                  <a:pt x="1458" y="1449"/>
                </a:lnTo>
                <a:lnTo>
                  <a:pt x="1448" y="1483"/>
                </a:lnTo>
                <a:lnTo>
                  <a:pt x="1443" y="1619"/>
                </a:lnTo>
                <a:lnTo>
                  <a:pt x="1435" y="1678"/>
                </a:lnTo>
                <a:lnTo>
                  <a:pt x="1443" y="1712"/>
                </a:lnTo>
                <a:lnTo>
                  <a:pt x="1435" y="1712"/>
                </a:lnTo>
                <a:lnTo>
                  <a:pt x="1443" y="1763"/>
                </a:lnTo>
                <a:lnTo>
                  <a:pt x="1490" y="1821"/>
                </a:lnTo>
                <a:lnTo>
                  <a:pt x="1506" y="1865"/>
                </a:lnTo>
                <a:lnTo>
                  <a:pt x="1520" y="1889"/>
                </a:lnTo>
                <a:lnTo>
                  <a:pt x="1543" y="1897"/>
                </a:lnTo>
                <a:lnTo>
                  <a:pt x="1591" y="1865"/>
                </a:lnTo>
                <a:lnTo>
                  <a:pt x="1639" y="1872"/>
                </a:lnTo>
                <a:lnTo>
                  <a:pt x="1662" y="1865"/>
                </a:lnTo>
                <a:lnTo>
                  <a:pt x="1655" y="1812"/>
                </a:lnTo>
                <a:lnTo>
                  <a:pt x="1639" y="1770"/>
                </a:lnTo>
                <a:lnTo>
                  <a:pt x="1624" y="1755"/>
                </a:lnTo>
                <a:lnTo>
                  <a:pt x="1585" y="1744"/>
                </a:lnTo>
                <a:lnTo>
                  <a:pt x="1520" y="1693"/>
                </a:lnTo>
                <a:lnTo>
                  <a:pt x="1497" y="1687"/>
                </a:lnTo>
                <a:lnTo>
                  <a:pt x="1466" y="1687"/>
                </a:lnTo>
                <a:lnTo>
                  <a:pt x="1490" y="1422"/>
                </a:lnTo>
                <a:lnTo>
                  <a:pt x="1490" y="1382"/>
                </a:lnTo>
                <a:lnTo>
                  <a:pt x="1458" y="1279"/>
                </a:lnTo>
                <a:lnTo>
                  <a:pt x="1458" y="1255"/>
                </a:lnTo>
                <a:lnTo>
                  <a:pt x="1473" y="1237"/>
                </a:lnTo>
                <a:lnTo>
                  <a:pt x="1482" y="1202"/>
                </a:lnTo>
                <a:lnTo>
                  <a:pt x="1497" y="1162"/>
                </a:lnTo>
                <a:lnTo>
                  <a:pt x="1529" y="1110"/>
                </a:lnTo>
                <a:lnTo>
                  <a:pt x="1553" y="1092"/>
                </a:lnTo>
                <a:lnTo>
                  <a:pt x="1575" y="1092"/>
                </a:lnTo>
                <a:lnTo>
                  <a:pt x="1615" y="1128"/>
                </a:lnTo>
                <a:lnTo>
                  <a:pt x="1655" y="1143"/>
                </a:lnTo>
                <a:lnTo>
                  <a:pt x="1725" y="1143"/>
                </a:lnTo>
                <a:lnTo>
                  <a:pt x="1772" y="1136"/>
                </a:lnTo>
                <a:lnTo>
                  <a:pt x="1844" y="1128"/>
                </a:lnTo>
                <a:lnTo>
                  <a:pt x="1852" y="1136"/>
                </a:lnTo>
                <a:lnTo>
                  <a:pt x="1758" y="1079"/>
                </a:lnTo>
                <a:lnTo>
                  <a:pt x="1701" y="1079"/>
                </a:lnTo>
                <a:lnTo>
                  <a:pt x="1687" y="1059"/>
                </a:lnTo>
                <a:lnTo>
                  <a:pt x="1687" y="1008"/>
                </a:lnTo>
                <a:lnTo>
                  <a:pt x="1662" y="967"/>
                </a:lnTo>
                <a:lnTo>
                  <a:pt x="1655" y="957"/>
                </a:lnTo>
                <a:lnTo>
                  <a:pt x="1655" y="948"/>
                </a:lnTo>
                <a:lnTo>
                  <a:pt x="1701" y="975"/>
                </a:lnTo>
                <a:lnTo>
                  <a:pt x="1725" y="983"/>
                </a:lnTo>
                <a:lnTo>
                  <a:pt x="1742" y="948"/>
                </a:lnTo>
                <a:lnTo>
                  <a:pt x="1749" y="891"/>
                </a:lnTo>
                <a:lnTo>
                  <a:pt x="1742" y="865"/>
                </a:lnTo>
                <a:lnTo>
                  <a:pt x="1671" y="857"/>
                </a:lnTo>
                <a:lnTo>
                  <a:pt x="1679" y="840"/>
                </a:lnTo>
                <a:lnTo>
                  <a:pt x="1687" y="813"/>
                </a:lnTo>
                <a:lnTo>
                  <a:pt x="1679" y="783"/>
                </a:lnTo>
                <a:lnTo>
                  <a:pt x="1679" y="762"/>
                </a:lnTo>
                <a:lnTo>
                  <a:pt x="1735" y="728"/>
                </a:lnTo>
                <a:lnTo>
                  <a:pt x="1735" y="721"/>
                </a:lnTo>
                <a:lnTo>
                  <a:pt x="1725" y="713"/>
                </a:lnTo>
                <a:lnTo>
                  <a:pt x="1701" y="695"/>
                </a:lnTo>
                <a:lnTo>
                  <a:pt x="1662" y="695"/>
                </a:lnTo>
                <a:lnTo>
                  <a:pt x="1639" y="721"/>
                </a:lnTo>
                <a:lnTo>
                  <a:pt x="1624" y="713"/>
                </a:lnTo>
                <a:lnTo>
                  <a:pt x="1615" y="728"/>
                </a:lnTo>
                <a:lnTo>
                  <a:pt x="1591" y="728"/>
                </a:lnTo>
                <a:lnTo>
                  <a:pt x="1553" y="704"/>
                </a:lnTo>
                <a:lnTo>
                  <a:pt x="1543" y="678"/>
                </a:lnTo>
                <a:lnTo>
                  <a:pt x="1599" y="653"/>
                </a:lnTo>
                <a:lnTo>
                  <a:pt x="1647" y="645"/>
                </a:lnTo>
                <a:lnTo>
                  <a:pt x="1710" y="619"/>
                </a:lnTo>
                <a:lnTo>
                  <a:pt x="1735" y="593"/>
                </a:lnTo>
                <a:lnTo>
                  <a:pt x="1742" y="551"/>
                </a:lnTo>
                <a:lnTo>
                  <a:pt x="1742" y="525"/>
                </a:lnTo>
                <a:lnTo>
                  <a:pt x="1718" y="465"/>
                </a:lnTo>
                <a:lnTo>
                  <a:pt x="1662" y="390"/>
                </a:lnTo>
                <a:lnTo>
                  <a:pt x="1615" y="338"/>
                </a:lnTo>
                <a:lnTo>
                  <a:pt x="1585" y="271"/>
                </a:lnTo>
                <a:lnTo>
                  <a:pt x="1585" y="189"/>
                </a:lnTo>
                <a:lnTo>
                  <a:pt x="1567" y="180"/>
                </a:lnTo>
                <a:lnTo>
                  <a:pt x="1537" y="180"/>
                </a:lnTo>
                <a:lnTo>
                  <a:pt x="1497" y="189"/>
                </a:lnTo>
                <a:lnTo>
                  <a:pt x="1443" y="180"/>
                </a:lnTo>
                <a:lnTo>
                  <a:pt x="1425" y="271"/>
                </a:lnTo>
                <a:lnTo>
                  <a:pt x="1419" y="280"/>
                </a:lnTo>
                <a:lnTo>
                  <a:pt x="1404" y="290"/>
                </a:lnTo>
                <a:lnTo>
                  <a:pt x="1394" y="280"/>
                </a:lnTo>
                <a:lnTo>
                  <a:pt x="1394" y="230"/>
                </a:lnTo>
                <a:lnTo>
                  <a:pt x="1425" y="51"/>
                </a:lnTo>
                <a:lnTo>
                  <a:pt x="1443" y="18"/>
                </a:lnTo>
                <a:lnTo>
                  <a:pt x="1458" y="10"/>
                </a:lnTo>
                <a:lnTo>
                  <a:pt x="1473" y="0"/>
                </a:lnTo>
                <a:lnTo>
                  <a:pt x="1482" y="10"/>
                </a:lnTo>
                <a:lnTo>
                  <a:pt x="1482" y="18"/>
                </a:lnTo>
                <a:lnTo>
                  <a:pt x="1482" y="35"/>
                </a:lnTo>
                <a:lnTo>
                  <a:pt x="1458" y="93"/>
                </a:lnTo>
                <a:lnTo>
                  <a:pt x="1458" y="119"/>
                </a:lnTo>
                <a:lnTo>
                  <a:pt x="1482" y="144"/>
                </a:lnTo>
                <a:lnTo>
                  <a:pt x="1506" y="154"/>
                </a:lnTo>
                <a:lnTo>
                  <a:pt x="1575" y="154"/>
                </a:lnTo>
                <a:lnTo>
                  <a:pt x="1585" y="144"/>
                </a:lnTo>
                <a:lnTo>
                  <a:pt x="1591" y="103"/>
                </a:lnTo>
                <a:lnTo>
                  <a:pt x="1624" y="119"/>
                </a:lnTo>
                <a:lnTo>
                  <a:pt x="1662" y="127"/>
                </a:lnTo>
                <a:lnTo>
                  <a:pt x="1701" y="137"/>
                </a:lnTo>
                <a:lnTo>
                  <a:pt x="1742" y="144"/>
                </a:lnTo>
                <a:lnTo>
                  <a:pt x="1868" y="194"/>
                </a:lnTo>
                <a:lnTo>
                  <a:pt x="1915" y="220"/>
                </a:lnTo>
                <a:lnTo>
                  <a:pt x="1962" y="220"/>
                </a:lnTo>
                <a:lnTo>
                  <a:pt x="2025" y="189"/>
                </a:lnTo>
                <a:lnTo>
                  <a:pt x="2056" y="189"/>
                </a:lnTo>
                <a:lnTo>
                  <a:pt x="2080" y="213"/>
                </a:lnTo>
                <a:lnTo>
                  <a:pt x="2137" y="230"/>
                </a:lnTo>
                <a:lnTo>
                  <a:pt x="2192" y="280"/>
                </a:lnTo>
                <a:lnTo>
                  <a:pt x="2207" y="255"/>
                </a:lnTo>
                <a:lnTo>
                  <a:pt x="2238" y="307"/>
                </a:lnTo>
                <a:lnTo>
                  <a:pt x="2238" y="338"/>
                </a:lnTo>
                <a:lnTo>
                  <a:pt x="2161" y="441"/>
                </a:lnTo>
                <a:lnTo>
                  <a:pt x="2097" y="483"/>
                </a:lnTo>
                <a:lnTo>
                  <a:pt x="2066" y="500"/>
                </a:lnTo>
                <a:lnTo>
                  <a:pt x="2025" y="491"/>
                </a:lnTo>
                <a:lnTo>
                  <a:pt x="2018" y="500"/>
                </a:lnTo>
                <a:lnTo>
                  <a:pt x="2018" y="518"/>
                </a:lnTo>
                <a:lnTo>
                  <a:pt x="2049" y="542"/>
                </a:lnTo>
                <a:lnTo>
                  <a:pt x="2080" y="542"/>
                </a:lnTo>
                <a:lnTo>
                  <a:pt x="2104" y="534"/>
                </a:lnTo>
                <a:lnTo>
                  <a:pt x="2161" y="491"/>
                </a:lnTo>
                <a:lnTo>
                  <a:pt x="2248" y="399"/>
                </a:lnTo>
                <a:lnTo>
                  <a:pt x="2254" y="408"/>
                </a:lnTo>
                <a:lnTo>
                  <a:pt x="2262" y="433"/>
                </a:lnTo>
                <a:lnTo>
                  <a:pt x="2254" y="474"/>
                </a:lnTo>
                <a:lnTo>
                  <a:pt x="2238" y="510"/>
                </a:lnTo>
                <a:lnTo>
                  <a:pt x="2207" y="542"/>
                </a:lnTo>
                <a:lnTo>
                  <a:pt x="2184" y="568"/>
                </a:lnTo>
                <a:lnTo>
                  <a:pt x="2215" y="568"/>
                </a:lnTo>
                <a:lnTo>
                  <a:pt x="2271" y="551"/>
                </a:lnTo>
                <a:lnTo>
                  <a:pt x="2309" y="542"/>
                </a:lnTo>
                <a:lnTo>
                  <a:pt x="2324" y="551"/>
                </a:lnTo>
                <a:lnTo>
                  <a:pt x="2332" y="587"/>
                </a:lnTo>
                <a:lnTo>
                  <a:pt x="2324" y="635"/>
                </a:lnTo>
                <a:lnTo>
                  <a:pt x="2324" y="653"/>
                </a:lnTo>
                <a:lnTo>
                  <a:pt x="2332" y="653"/>
                </a:lnTo>
                <a:lnTo>
                  <a:pt x="2366" y="635"/>
                </a:lnTo>
                <a:lnTo>
                  <a:pt x="2412" y="619"/>
                </a:lnTo>
                <a:lnTo>
                  <a:pt x="2420" y="593"/>
                </a:lnTo>
                <a:lnTo>
                  <a:pt x="2428" y="587"/>
                </a:lnTo>
                <a:lnTo>
                  <a:pt x="2451" y="593"/>
                </a:lnTo>
                <a:lnTo>
                  <a:pt x="2484" y="629"/>
                </a:lnTo>
                <a:lnTo>
                  <a:pt x="2569" y="670"/>
                </a:lnTo>
                <a:lnTo>
                  <a:pt x="2625" y="713"/>
                </a:lnTo>
                <a:lnTo>
                  <a:pt x="2656" y="713"/>
                </a:lnTo>
                <a:lnTo>
                  <a:pt x="2664" y="704"/>
                </a:lnTo>
                <a:lnTo>
                  <a:pt x="2704" y="653"/>
                </a:lnTo>
                <a:lnTo>
                  <a:pt x="2712" y="653"/>
                </a:lnTo>
                <a:lnTo>
                  <a:pt x="2751" y="670"/>
                </a:lnTo>
                <a:lnTo>
                  <a:pt x="2775" y="670"/>
                </a:lnTo>
                <a:lnTo>
                  <a:pt x="2799" y="678"/>
                </a:lnTo>
                <a:lnTo>
                  <a:pt x="2799" y="704"/>
                </a:lnTo>
                <a:lnTo>
                  <a:pt x="2783" y="762"/>
                </a:lnTo>
                <a:lnTo>
                  <a:pt x="2799" y="822"/>
                </a:lnTo>
                <a:lnTo>
                  <a:pt x="2759" y="857"/>
                </a:lnTo>
                <a:lnTo>
                  <a:pt x="2712" y="882"/>
                </a:lnTo>
                <a:lnTo>
                  <a:pt x="2695" y="908"/>
                </a:lnTo>
                <a:lnTo>
                  <a:pt x="2680" y="908"/>
                </a:lnTo>
                <a:lnTo>
                  <a:pt x="2664" y="891"/>
                </a:lnTo>
                <a:lnTo>
                  <a:pt x="2656" y="917"/>
                </a:lnTo>
                <a:lnTo>
                  <a:pt x="2649" y="957"/>
                </a:lnTo>
                <a:lnTo>
                  <a:pt x="2649" y="991"/>
                </a:lnTo>
                <a:lnTo>
                  <a:pt x="2712" y="1025"/>
                </a:lnTo>
                <a:lnTo>
                  <a:pt x="2723" y="1037"/>
                </a:lnTo>
                <a:lnTo>
                  <a:pt x="2721" y="1080"/>
                </a:lnTo>
                <a:lnTo>
                  <a:pt x="2753" y="1096"/>
                </a:lnTo>
                <a:lnTo>
                  <a:pt x="2775" y="1096"/>
                </a:lnTo>
                <a:lnTo>
                  <a:pt x="2833" y="1047"/>
                </a:lnTo>
                <a:lnTo>
                  <a:pt x="2903" y="1053"/>
                </a:lnTo>
                <a:lnTo>
                  <a:pt x="2947" y="1072"/>
                </a:lnTo>
                <a:lnTo>
                  <a:pt x="2972" y="1100"/>
                </a:lnTo>
                <a:lnTo>
                  <a:pt x="2997" y="1096"/>
                </a:lnTo>
                <a:lnTo>
                  <a:pt x="3016" y="1072"/>
                </a:lnTo>
                <a:lnTo>
                  <a:pt x="3092" y="1016"/>
                </a:lnTo>
                <a:lnTo>
                  <a:pt x="3139" y="959"/>
                </a:lnTo>
                <a:lnTo>
                  <a:pt x="3219" y="909"/>
                </a:lnTo>
                <a:lnTo>
                  <a:pt x="3286" y="905"/>
                </a:lnTo>
                <a:lnTo>
                  <a:pt x="3358" y="884"/>
                </a:lnTo>
                <a:lnTo>
                  <a:pt x="3390" y="848"/>
                </a:lnTo>
                <a:lnTo>
                  <a:pt x="3434" y="840"/>
                </a:lnTo>
                <a:lnTo>
                  <a:pt x="3469" y="806"/>
                </a:lnTo>
                <a:lnTo>
                  <a:pt x="3521" y="793"/>
                </a:lnTo>
                <a:lnTo>
                  <a:pt x="3579" y="753"/>
                </a:lnTo>
                <a:lnTo>
                  <a:pt x="3616" y="738"/>
                </a:lnTo>
                <a:lnTo>
                  <a:pt x="3702" y="719"/>
                </a:lnTo>
                <a:lnTo>
                  <a:pt x="3747" y="728"/>
                </a:lnTo>
                <a:lnTo>
                  <a:pt x="3782" y="738"/>
                </a:lnTo>
                <a:lnTo>
                  <a:pt x="3798" y="765"/>
                </a:lnTo>
                <a:lnTo>
                  <a:pt x="3838" y="765"/>
                </a:lnTo>
                <a:lnTo>
                  <a:pt x="3860" y="784"/>
                </a:lnTo>
                <a:lnTo>
                  <a:pt x="3893" y="821"/>
                </a:lnTo>
                <a:lnTo>
                  <a:pt x="3903" y="848"/>
                </a:lnTo>
                <a:lnTo>
                  <a:pt x="3943" y="878"/>
                </a:lnTo>
                <a:lnTo>
                  <a:pt x="3993" y="896"/>
                </a:lnTo>
                <a:lnTo>
                  <a:pt x="4041" y="915"/>
                </a:lnTo>
                <a:lnTo>
                  <a:pt x="4087" y="915"/>
                </a:lnTo>
                <a:lnTo>
                  <a:pt x="4143" y="938"/>
                </a:lnTo>
                <a:lnTo>
                  <a:pt x="4168" y="1016"/>
                </a:lnTo>
                <a:lnTo>
                  <a:pt x="4198" y="1090"/>
                </a:lnTo>
                <a:lnTo>
                  <a:pt x="4203" y="1109"/>
                </a:lnTo>
                <a:lnTo>
                  <a:pt x="4216" y="1128"/>
                </a:lnTo>
                <a:lnTo>
                  <a:pt x="4261" y="1169"/>
                </a:lnTo>
                <a:lnTo>
                  <a:pt x="4296" y="1212"/>
                </a:lnTo>
                <a:lnTo>
                  <a:pt x="4308" y="1238"/>
                </a:lnTo>
                <a:lnTo>
                  <a:pt x="4334" y="1264"/>
                </a:lnTo>
                <a:lnTo>
                  <a:pt x="4372" y="1292"/>
                </a:lnTo>
                <a:lnTo>
                  <a:pt x="4398" y="1331"/>
                </a:lnTo>
                <a:lnTo>
                  <a:pt x="4407" y="1378"/>
                </a:lnTo>
                <a:lnTo>
                  <a:pt x="4434" y="1432"/>
                </a:lnTo>
                <a:lnTo>
                  <a:pt x="4459" y="1528"/>
                </a:lnTo>
                <a:lnTo>
                  <a:pt x="4464" y="1619"/>
                </a:lnTo>
                <a:lnTo>
                  <a:pt x="4454" y="1656"/>
                </a:lnTo>
                <a:lnTo>
                  <a:pt x="4468" y="1733"/>
                </a:lnTo>
                <a:lnTo>
                  <a:pt x="4461" y="1773"/>
                </a:lnTo>
                <a:lnTo>
                  <a:pt x="4436" y="1823"/>
                </a:lnTo>
                <a:lnTo>
                  <a:pt x="4433" y="1900"/>
                </a:lnTo>
                <a:lnTo>
                  <a:pt x="4433" y="2036"/>
                </a:lnTo>
                <a:lnTo>
                  <a:pt x="4434" y="2106"/>
                </a:lnTo>
                <a:lnTo>
                  <a:pt x="4450" y="2178"/>
                </a:lnTo>
                <a:lnTo>
                  <a:pt x="4477" y="2254"/>
                </a:lnTo>
                <a:lnTo>
                  <a:pt x="4512" y="2282"/>
                </a:lnTo>
                <a:lnTo>
                  <a:pt x="4531" y="2308"/>
                </a:lnTo>
                <a:lnTo>
                  <a:pt x="4544" y="2377"/>
                </a:lnTo>
                <a:lnTo>
                  <a:pt x="4567" y="2424"/>
                </a:lnTo>
                <a:lnTo>
                  <a:pt x="4594" y="2466"/>
                </a:lnTo>
                <a:lnTo>
                  <a:pt x="4605" y="2519"/>
                </a:lnTo>
                <a:lnTo>
                  <a:pt x="4605" y="2569"/>
                </a:lnTo>
                <a:lnTo>
                  <a:pt x="4616" y="2616"/>
                </a:lnTo>
                <a:lnTo>
                  <a:pt x="4659" y="2671"/>
                </a:lnTo>
                <a:lnTo>
                  <a:pt x="4712" y="2813"/>
                </a:lnTo>
                <a:lnTo>
                  <a:pt x="4720" y="2866"/>
                </a:lnTo>
                <a:lnTo>
                  <a:pt x="4702" y="2912"/>
                </a:lnTo>
                <a:lnTo>
                  <a:pt x="4702" y="2942"/>
                </a:lnTo>
                <a:lnTo>
                  <a:pt x="4677" y="2978"/>
                </a:lnTo>
                <a:lnTo>
                  <a:pt x="4677" y="3015"/>
                </a:lnTo>
                <a:lnTo>
                  <a:pt x="4702" y="3043"/>
                </a:lnTo>
                <a:lnTo>
                  <a:pt x="4729" y="3081"/>
                </a:lnTo>
                <a:lnTo>
                  <a:pt x="4738" y="3172"/>
                </a:lnTo>
                <a:lnTo>
                  <a:pt x="4711" y="3218"/>
                </a:lnTo>
                <a:lnTo>
                  <a:pt x="4729" y="3277"/>
                </a:lnTo>
                <a:lnTo>
                  <a:pt x="4816" y="3294"/>
                </a:lnTo>
                <a:lnTo>
                  <a:pt x="4860" y="3359"/>
                </a:lnTo>
                <a:lnTo>
                  <a:pt x="4863" y="3421"/>
                </a:lnTo>
                <a:lnTo>
                  <a:pt x="4876" y="3509"/>
                </a:lnTo>
                <a:lnTo>
                  <a:pt x="4853" y="3608"/>
                </a:lnTo>
                <a:lnTo>
                  <a:pt x="4851" y="3733"/>
                </a:lnTo>
                <a:lnTo>
                  <a:pt x="4825" y="3826"/>
                </a:lnTo>
                <a:lnTo>
                  <a:pt x="4807" y="3873"/>
                </a:lnTo>
                <a:lnTo>
                  <a:pt x="4746" y="3881"/>
                </a:lnTo>
                <a:lnTo>
                  <a:pt x="4720" y="3815"/>
                </a:lnTo>
                <a:lnTo>
                  <a:pt x="4677" y="3798"/>
                </a:lnTo>
                <a:lnTo>
                  <a:pt x="4633" y="3807"/>
                </a:lnTo>
                <a:lnTo>
                  <a:pt x="4564" y="3751"/>
                </a:lnTo>
                <a:lnTo>
                  <a:pt x="4519" y="3769"/>
                </a:lnTo>
                <a:lnTo>
                  <a:pt x="4519" y="3807"/>
                </a:lnTo>
                <a:lnTo>
                  <a:pt x="4545" y="3843"/>
                </a:lnTo>
                <a:lnTo>
                  <a:pt x="4477" y="3908"/>
                </a:lnTo>
                <a:lnTo>
                  <a:pt x="4390" y="3936"/>
                </a:lnTo>
                <a:lnTo>
                  <a:pt x="4372" y="3964"/>
                </a:lnTo>
                <a:lnTo>
                  <a:pt x="4338" y="3991"/>
                </a:lnTo>
                <a:lnTo>
                  <a:pt x="4285" y="3991"/>
                </a:lnTo>
                <a:lnTo>
                  <a:pt x="4248" y="4027"/>
                </a:lnTo>
                <a:lnTo>
                  <a:pt x="4182" y="4033"/>
                </a:lnTo>
                <a:lnTo>
                  <a:pt x="4131" y="4097"/>
                </a:lnTo>
                <a:lnTo>
                  <a:pt x="4060" y="4132"/>
                </a:lnTo>
                <a:lnTo>
                  <a:pt x="4034" y="4159"/>
                </a:lnTo>
                <a:lnTo>
                  <a:pt x="3937" y="4179"/>
                </a:lnTo>
                <a:lnTo>
                  <a:pt x="3840" y="4251"/>
                </a:lnTo>
                <a:lnTo>
                  <a:pt x="3772" y="4310"/>
                </a:lnTo>
                <a:lnTo>
                  <a:pt x="3702" y="4328"/>
                </a:lnTo>
                <a:lnTo>
                  <a:pt x="3661" y="4383"/>
                </a:lnTo>
                <a:lnTo>
                  <a:pt x="3529" y="4477"/>
                </a:lnTo>
                <a:lnTo>
                  <a:pt x="3521" y="4559"/>
                </a:lnTo>
                <a:lnTo>
                  <a:pt x="3504" y="4559"/>
                </a:lnTo>
                <a:lnTo>
                  <a:pt x="3471" y="4504"/>
                </a:lnTo>
                <a:lnTo>
                  <a:pt x="3413" y="4573"/>
                </a:lnTo>
                <a:lnTo>
                  <a:pt x="3445" y="4624"/>
                </a:lnTo>
                <a:lnTo>
                  <a:pt x="3507" y="4647"/>
                </a:lnTo>
                <a:lnTo>
                  <a:pt x="3563" y="4691"/>
                </a:lnTo>
                <a:lnTo>
                  <a:pt x="3594" y="4708"/>
                </a:lnTo>
                <a:lnTo>
                  <a:pt x="3618" y="4734"/>
                </a:lnTo>
                <a:lnTo>
                  <a:pt x="3633" y="4784"/>
                </a:lnTo>
                <a:lnTo>
                  <a:pt x="3627" y="4821"/>
                </a:lnTo>
                <a:lnTo>
                  <a:pt x="3571" y="4887"/>
                </a:lnTo>
                <a:lnTo>
                  <a:pt x="3563" y="4957"/>
                </a:lnTo>
                <a:lnTo>
                  <a:pt x="3586" y="4971"/>
                </a:lnTo>
                <a:lnTo>
                  <a:pt x="3610" y="5005"/>
                </a:lnTo>
                <a:lnTo>
                  <a:pt x="3642" y="5080"/>
                </a:lnTo>
                <a:lnTo>
                  <a:pt x="3674" y="5123"/>
                </a:lnTo>
                <a:lnTo>
                  <a:pt x="3697" y="5201"/>
                </a:lnTo>
                <a:lnTo>
                  <a:pt x="3753" y="5260"/>
                </a:lnTo>
                <a:lnTo>
                  <a:pt x="3785" y="5284"/>
                </a:lnTo>
                <a:lnTo>
                  <a:pt x="3864" y="5301"/>
                </a:lnTo>
                <a:lnTo>
                  <a:pt x="3885" y="5310"/>
                </a:lnTo>
                <a:lnTo>
                  <a:pt x="3957" y="5395"/>
                </a:lnTo>
                <a:lnTo>
                  <a:pt x="3997" y="5455"/>
                </a:lnTo>
                <a:lnTo>
                  <a:pt x="4028" y="5489"/>
                </a:lnTo>
                <a:lnTo>
                  <a:pt x="4075" y="5504"/>
                </a:lnTo>
                <a:lnTo>
                  <a:pt x="4108" y="5522"/>
                </a:lnTo>
                <a:lnTo>
                  <a:pt x="4123" y="5555"/>
                </a:lnTo>
                <a:lnTo>
                  <a:pt x="4138" y="5607"/>
                </a:lnTo>
                <a:lnTo>
                  <a:pt x="4162" y="5630"/>
                </a:lnTo>
                <a:lnTo>
                  <a:pt x="4179" y="5630"/>
                </a:lnTo>
                <a:lnTo>
                  <a:pt x="4201" y="5615"/>
                </a:lnTo>
                <a:lnTo>
                  <a:pt x="4217" y="5615"/>
                </a:lnTo>
                <a:lnTo>
                  <a:pt x="4233" y="5630"/>
                </a:lnTo>
                <a:lnTo>
                  <a:pt x="4241" y="5650"/>
                </a:lnTo>
                <a:lnTo>
                  <a:pt x="4273" y="5665"/>
                </a:lnTo>
                <a:lnTo>
                  <a:pt x="4313" y="5665"/>
                </a:lnTo>
                <a:lnTo>
                  <a:pt x="4337" y="5682"/>
                </a:lnTo>
                <a:lnTo>
                  <a:pt x="4344" y="5706"/>
                </a:lnTo>
                <a:lnTo>
                  <a:pt x="4385" y="5785"/>
                </a:lnTo>
                <a:lnTo>
                  <a:pt x="4385" y="5809"/>
                </a:lnTo>
                <a:lnTo>
                  <a:pt x="4352" y="5877"/>
                </a:lnTo>
                <a:lnTo>
                  <a:pt x="4304" y="5938"/>
                </a:lnTo>
                <a:lnTo>
                  <a:pt x="4273" y="5946"/>
                </a:lnTo>
                <a:lnTo>
                  <a:pt x="4241" y="5938"/>
                </a:lnTo>
                <a:lnTo>
                  <a:pt x="4233" y="5926"/>
                </a:lnTo>
                <a:lnTo>
                  <a:pt x="4210" y="5946"/>
                </a:lnTo>
                <a:lnTo>
                  <a:pt x="4186" y="5986"/>
                </a:lnTo>
                <a:lnTo>
                  <a:pt x="4179" y="6038"/>
                </a:lnTo>
                <a:lnTo>
                  <a:pt x="4138" y="6105"/>
                </a:lnTo>
                <a:lnTo>
                  <a:pt x="4116" y="6181"/>
                </a:lnTo>
                <a:lnTo>
                  <a:pt x="4092" y="6225"/>
                </a:lnTo>
                <a:lnTo>
                  <a:pt x="4037" y="6225"/>
                </a:lnTo>
                <a:lnTo>
                  <a:pt x="3950" y="6248"/>
                </a:lnTo>
                <a:lnTo>
                  <a:pt x="3895" y="6284"/>
                </a:lnTo>
                <a:lnTo>
                  <a:pt x="3871" y="6308"/>
                </a:lnTo>
                <a:lnTo>
                  <a:pt x="3822" y="6384"/>
                </a:lnTo>
                <a:lnTo>
                  <a:pt x="3816" y="6401"/>
                </a:lnTo>
                <a:lnTo>
                  <a:pt x="3816" y="6428"/>
                </a:lnTo>
                <a:lnTo>
                  <a:pt x="3871" y="6504"/>
                </a:lnTo>
                <a:lnTo>
                  <a:pt x="3885" y="6536"/>
                </a:lnTo>
                <a:lnTo>
                  <a:pt x="3926" y="6581"/>
                </a:lnTo>
                <a:lnTo>
                  <a:pt x="3965" y="6639"/>
                </a:lnTo>
                <a:lnTo>
                  <a:pt x="3926" y="6673"/>
                </a:lnTo>
                <a:lnTo>
                  <a:pt x="3926" y="6706"/>
                </a:lnTo>
                <a:lnTo>
                  <a:pt x="3957" y="6757"/>
                </a:lnTo>
                <a:lnTo>
                  <a:pt x="3981" y="6790"/>
                </a:lnTo>
                <a:lnTo>
                  <a:pt x="3981" y="6868"/>
                </a:lnTo>
                <a:lnTo>
                  <a:pt x="3965" y="6943"/>
                </a:lnTo>
                <a:lnTo>
                  <a:pt x="3957" y="6952"/>
                </a:lnTo>
                <a:lnTo>
                  <a:pt x="3926" y="6936"/>
                </a:lnTo>
                <a:lnTo>
                  <a:pt x="3880" y="6918"/>
                </a:lnTo>
                <a:lnTo>
                  <a:pt x="3816" y="6868"/>
                </a:lnTo>
                <a:lnTo>
                  <a:pt x="3753" y="6790"/>
                </a:lnTo>
                <a:lnTo>
                  <a:pt x="3729" y="6790"/>
                </a:lnTo>
                <a:lnTo>
                  <a:pt x="3697" y="6790"/>
                </a:lnTo>
                <a:lnTo>
                  <a:pt x="3642" y="6833"/>
                </a:lnTo>
                <a:lnTo>
                  <a:pt x="3618" y="6826"/>
                </a:lnTo>
                <a:lnTo>
                  <a:pt x="3586" y="6757"/>
                </a:lnTo>
                <a:lnTo>
                  <a:pt x="3556" y="6723"/>
                </a:lnTo>
                <a:lnTo>
                  <a:pt x="3493" y="6692"/>
                </a:lnTo>
                <a:lnTo>
                  <a:pt x="3468" y="6680"/>
                </a:lnTo>
                <a:lnTo>
                  <a:pt x="3445" y="6698"/>
                </a:lnTo>
                <a:lnTo>
                  <a:pt x="3438" y="6723"/>
                </a:lnTo>
                <a:lnTo>
                  <a:pt x="3452" y="6783"/>
                </a:lnTo>
                <a:lnTo>
                  <a:pt x="3452" y="6790"/>
                </a:lnTo>
                <a:lnTo>
                  <a:pt x="3413" y="6843"/>
                </a:lnTo>
                <a:lnTo>
                  <a:pt x="3351" y="6876"/>
                </a:lnTo>
                <a:lnTo>
                  <a:pt x="3342" y="6885"/>
                </a:lnTo>
                <a:lnTo>
                  <a:pt x="3248" y="6918"/>
                </a:lnTo>
                <a:lnTo>
                  <a:pt x="3201" y="6918"/>
                </a:lnTo>
                <a:lnTo>
                  <a:pt x="3161" y="6894"/>
                </a:lnTo>
                <a:lnTo>
                  <a:pt x="3131" y="6894"/>
                </a:lnTo>
                <a:lnTo>
                  <a:pt x="3114" y="6910"/>
                </a:lnTo>
                <a:lnTo>
                  <a:pt x="3082" y="6943"/>
                </a:lnTo>
                <a:lnTo>
                  <a:pt x="3042" y="6952"/>
                </a:lnTo>
                <a:lnTo>
                  <a:pt x="3009" y="6970"/>
                </a:lnTo>
                <a:lnTo>
                  <a:pt x="2955" y="7029"/>
                </a:lnTo>
                <a:lnTo>
                  <a:pt x="2925" y="7038"/>
                </a:lnTo>
                <a:lnTo>
                  <a:pt x="2893" y="7021"/>
                </a:lnTo>
                <a:lnTo>
                  <a:pt x="2861" y="7021"/>
                </a:lnTo>
                <a:lnTo>
                  <a:pt x="2806" y="7046"/>
                </a:lnTo>
                <a:lnTo>
                  <a:pt x="2767" y="7046"/>
                </a:lnTo>
                <a:lnTo>
                  <a:pt x="2736" y="7029"/>
                </a:lnTo>
                <a:lnTo>
                  <a:pt x="2712" y="6985"/>
                </a:lnTo>
                <a:lnTo>
                  <a:pt x="2704" y="6928"/>
                </a:lnTo>
                <a:lnTo>
                  <a:pt x="2695" y="6928"/>
                </a:lnTo>
                <a:lnTo>
                  <a:pt x="2680" y="6928"/>
                </a:lnTo>
                <a:lnTo>
                  <a:pt x="2632" y="6943"/>
                </a:lnTo>
                <a:lnTo>
                  <a:pt x="2601" y="6928"/>
                </a:lnTo>
                <a:lnTo>
                  <a:pt x="2577" y="6928"/>
                </a:lnTo>
                <a:lnTo>
                  <a:pt x="2547" y="6936"/>
                </a:lnTo>
                <a:lnTo>
                  <a:pt x="2508" y="6936"/>
                </a:lnTo>
                <a:lnTo>
                  <a:pt x="2484" y="6918"/>
                </a:lnTo>
                <a:lnTo>
                  <a:pt x="2458" y="6885"/>
                </a:lnTo>
                <a:lnTo>
                  <a:pt x="2444" y="6885"/>
                </a:lnTo>
                <a:lnTo>
                  <a:pt x="2436" y="6894"/>
                </a:lnTo>
                <a:lnTo>
                  <a:pt x="2436" y="6918"/>
                </a:lnTo>
                <a:lnTo>
                  <a:pt x="2444" y="7003"/>
                </a:lnTo>
                <a:lnTo>
                  <a:pt x="2436" y="7053"/>
                </a:lnTo>
                <a:lnTo>
                  <a:pt x="2412" y="7096"/>
                </a:lnTo>
                <a:lnTo>
                  <a:pt x="2366" y="7139"/>
                </a:lnTo>
                <a:lnTo>
                  <a:pt x="2324" y="7165"/>
                </a:lnTo>
                <a:lnTo>
                  <a:pt x="2277" y="7165"/>
                </a:lnTo>
                <a:lnTo>
                  <a:pt x="2286" y="7129"/>
                </a:lnTo>
                <a:lnTo>
                  <a:pt x="2302" y="7072"/>
                </a:lnTo>
                <a:lnTo>
                  <a:pt x="2294" y="7063"/>
                </a:lnTo>
                <a:lnTo>
                  <a:pt x="2231" y="7053"/>
                </a:lnTo>
                <a:lnTo>
                  <a:pt x="2207" y="7003"/>
                </a:lnTo>
                <a:lnTo>
                  <a:pt x="2167" y="6928"/>
                </a:lnTo>
                <a:lnTo>
                  <a:pt x="2120" y="6918"/>
                </a:lnTo>
                <a:lnTo>
                  <a:pt x="2089" y="6885"/>
                </a:lnTo>
                <a:lnTo>
                  <a:pt x="2056" y="6876"/>
                </a:lnTo>
                <a:lnTo>
                  <a:pt x="2018" y="6918"/>
                </a:lnTo>
                <a:lnTo>
                  <a:pt x="1971" y="6894"/>
                </a:lnTo>
                <a:lnTo>
                  <a:pt x="1814" y="6826"/>
                </a:lnTo>
                <a:lnTo>
                  <a:pt x="1749" y="6783"/>
                </a:lnTo>
                <a:lnTo>
                  <a:pt x="1718" y="6749"/>
                </a:lnTo>
                <a:lnTo>
                  <a:pt x="1679" y="6723"/>
                </a:lnTo>
                <a:lnTo>
                  <a:pt x="1671" y="6733"/>
                </a:lnTo>
                <a:lnTo>
                  <a:pt x="1679" y="6757"/>
                </a:lnTo>
                <a:lnTo>
                  <a:pt x="1687" y="6790"/>
                </a:lnTo>
                <a:lnTo>
                  <a:pt x="1647" y="6790"/>
                </a:lnTo>
                <a:lnTo>
                  <a:pt x="1639" y="6790"/>
                </a:lnTo>
                <a:lnTo>
                  <a:pt x="1631" y="6817"/>
                </a:lnTo>
                <a:lnTo>
                  <a:pt x="1591" y="6843"/>
                </a:lnTo>
                <a:lnTo>
                  <a:pt x="1543" y="6843"/>
                </a:lnTo>
                <a:lnTo>
                  <a:pt x="1490" y="6817"/>
                </a:lnTo>
                <a:lnTo>
                  <a:pt x="1458" y="6768"/>
                </a:lnTo>
                <a:lnTo>
                  <a:pt x="1419" y="6741"/>
                </a:lnTo>
                <a:lnTo>
                  <a:pt x="1387" y="6706"/>
                </a:lnTo>
                <a:lnTo>
                  <a:pt x="1363" y="6716"/>
                </a:lnTo>
                <a:lnTo>
                  <a:pt x="1317" y="6741"/>
                </a:lnTo>
                <a:lnTo>
                  <a:pt x="1293" y="6768"/>
                </a:lnTo>
                <a:lnTo>
                  <a:pt x="1293" y="6826"/>
                </a:lnTo>
                <a:lnTo>
                  <a:pt x="1317" y="6903"/>
                </a:lnTo>
                <a:lnTo>
                  <a:pt x="1317" y="6918"/>
                </a:lnTo>
                <a:lnTo>
                  <a:pt x="1261" y="6918"/>
                </a:lnTo>
                <a:lnTo>
                  <a:pt x="1220" y="6894"/>
                </a:lnTo>
                <a:lnTo>
                  <a:pt x="1166" y="6885"/>
                </a:lnTo>
                <a:lnTo>
                  <a:pt x="1134" y="6885"/>
                </a:lnTo>
                <a:lnTo>
                  <a:pt x="1064" y="6910"/>
                </a:lnTo>
                <a:lnTo>
                  <a:pt x="1008" y="6903"/>
                </a:lnTo>
                <a:lnTo>
                  <a:pt x="968" y="6876"/>
                </a:lnTo>
                <a:lnTo>
                  <a:pt x="930" y="6868"/>
                </a:lnTo>
                <a:lnTo>
                  <a:pt x="890" y="6928"/>
                </a:lnTo>
                <a:lnTo>
                  <a:pt x="866" y="6936"/>
                </a:lnTo>
                <a:lnTo>
                  <a:pt x="842" y="6928"/>
                </a:lnTo>
                <a:lnTo>
                  <a:pt x="811" y="6910"/>
                </a:lnTo>
                <a:lnTo>
                  <a:pt x="780" y="6857"/>
                </a:lnTo>
                <a:lnTo>
                  <a:pt x="763" y="6826"/>
                </a:lnTo>
                <a:lnTo>
                  <a:pt x="755" y="6749"/>
                </a:lnTo>
                <a:lnTo>
                  <a:pt x="772" y="6680"/>
                </a:lnTo>
                <a:lnTo>
                  <a:pt x="780" y="6639"/>
                </a:lnTo>
                <a:lnTo>
                  <a:pt x="811" y="6606"/>
                </a:lnTo>
                <a:lnTo>
                  <a:pt x="826" y="6520"/>
                </a:lnTo>
                <a:lnTo>
                  <a:pt x="811" y="6419"/>
                </a:lnTo>
                <a:lnTo>
                  <a:pt x="826" y="6353"/>
                </a:lnTo>
                <a:lnTo>
                  <a:pt x="906" y="6241"/>
                </a:lnTo>
                <a:lnTo>
                  <a:pt x="921" y="6200"/>
                </a:lnTo>
                <a:lnTo>
                  <a:pt x="914" y="6140"/>
                </a:lnTo>
                <a:lnTo>
                  <a:pt x="930" y="6088"/>
                </a:lnTo>
                <a:lnTo>
                  <a:pt x="937" y="6022"/>
                </a:lnTo>
                <a:lnTo>
                  <a:pt x="968" y="5946"/>
                </a:lnTo>
                <a:lnTo>
                  <a:pt x="1032" y="5886"/>
                </a:lnTo>
                <a:lnTo>
                  <a:pt x="1079" y="5817"/>
                </a:lnTo>
                <a:lnTo>
                  <a:pt x="1111" y="5785"/>
                </a:lnTo>
                <a:lnTo>
                  <a:pt x="1142" y="5760"/>
                </a:lnTo>
                <a:lnTo>
                  <a:pt x="1150" y="5751"/>
                </a:lnTo>
                <a:lnTo>
                  <a:pt x="1158" y="5717"/>
                </a:lnTo>
                <a:lnTo>
                  <a:pt x="1190" y="5674"/>
                </a:lnTo>
                <a:lnTo>
                  <a:pt x="1196" y="564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732720" y="1538280"/>
            <a:ext cx="1290600" cy="1895400"/>
          </a:xfrm>
          <a:custGeom>
            <a:avLst/>
            <a:gdLst/>
            <a:ahLst/>
            <a:rect l="l" t="t" r="r" b="b"/>
            <a:pathLst>
              <a:path w="4876" h="7165">
                <a:moveTo>
                  <a:pt x="1197" y="5640"/>
                </a:moveTo>
                <a:lnTo>
                  <a:pt x="1143" y="5615"/>
                </a:lnTo>
                <a:lnTo>
                  <a:pt x="1104" y="5615"/>
                </a:lnTo>
                <a:lnTo>
                  <a:pt x="1071" y="5615"/>
                </a:lnTo>
                <a:lnTo>
                  <a:pt x="977" y="5581"/>
                </a:lnTo>
                <a:lnTo>
                  <a:pt x="907" y="5581"/>
                </a:lnTo>
                <a:lnTo>
                  <a:pt x="826" y="5564"/>
                </a:lnTo>
                <a:lnTo>
                  <a:pt x="788" y="5538"/>
                </a:lnTo>
                <a:lnTo>
                  <a:pt x="772" y="5511"/>
                </a:lnTo>
                <a:lnTo>
                  <a:pt x="772" y="5489"/>
                </a:lnTo>
                <a:lnTo>
                  <a:pt x="755" y="5462"/>
                </a:lnTo>
                <a:lnTo>
                  <a:pt x="716" y="5455"/>
                </a:lnTo>
                <a:lnTo>
                  <a:pt x="709" y="5462"/>
                </a:lnTo>
                <a:lnTo>
                  <a:pt x="661" y="5462"/>
                </a:lnTo>
                <a:lnTo>
                  <a:pt x="630" y="5455"/>
                </a:lnTo>
                <a:lnTo>
                  <a:pt x="560" y="5421"/>
                </a:lnTo>
                <a:lnTo>
                  <a:pt x="497" y="5351"/>
                </a:lnTo>
                <a:lnTo>
                  <a:pt x="473" y="5345"/>
                </a:lnTo>
                <a:lnTo>
                  <a:pt x="457" y="5336"/>
                </a:lnTo>
                <a:lnTo>
                  <a:pt x="401" y="5361"/>
                </a:lnTo>
                <a:lnTo>
                  <a:pt x="347" y="5345"/>
                </a:lnTo>
                <a:lnTo>
                  <a:pt x="314" y="5310"/>
                </a:lnTo>
                <a:lnTo>
                  <a:pt x="258" y="5242"/>
                </a:lnTo>
                <a:lnTo>
                  <a:pt x="220" y="5150"/>
                </a:lnTo>
                <a:lnTo>
                  <a:pt x="182" y="5090"/>
                </a:lnTo>
                <a:lnTo>
                  <a:pt x="204" y="5029"/>
                </a:lnTo>
                <a:lnTo>
                  <a:pt x="235" y="4962"/>
                </a:lnTo>
                <a:lnTo>
                  <a:pt x="276" y="4860"/>
                </a:lnTo>
                <a:lnTo>
                  <a:pt x="276" y="4827"/>
                </a:lnTo>
                <a:lnTo>
                  <a:pt x="258" y="4810"/>
                </a:lnTo>
                <a:lnTo>
                  <a:pt x="188" y="4784"/>
                </a:lnTo>
                <a:lnTo>
                  <a:pt x="141" y="4751"/>
                </a:lnTo>
                <a:lnTo>
                  <a:pt x="110" y="4674"/>
                </a:lnTo>
                <a:lnTo>
                  <a:pt x="70" y="4640"/>
                </a:lnTo>
                <a:lnTo>
                  <a:pt x="64" y="4613"/>
                </a:lnTo>
                <a:lnTo>
                  <a:pt x="77" y="4538"/>
                </a:lnTo>
                <a:lnTo>
                  <a:pt x="70" y="4463"/>
                </a:lnTo>
                <a:lnTo>
                  <a:pt x="77" y="4404"/>
                </a:lnTo>
                <a:lnTo>
                  <a:pt x="110" y="4354"/>
                </a:lnTo>
                <a:lnTo>
                  <a:pt x="188" y="4311"/>
                </a:lnTo>
                <a:lnTo>
                  <a:pt x="220" y="4311"/>
                </a:lnTo>
                <a:lnTo>
                  <a:pt x="188" y="4311"/>
                </a:lnTo>
                <a:lnTo>
                  <a:pt x="212" y="4304"/>
                </a:lnTo>
                <a:lnTo>
                  <a:pt x="212" y="4233"/>
                </a:lnTo>
                <a:lnTo>
                  <a:pt x="204" y="4157"/>
                </a:lnTo>
                <a:lnTo>
                  <a:pt x="188" y="4142"/>
                </a:lnTo>
                <a:lnTo>
                  <a:pt x="148" y="4142"/>
                </a:lnTo>
                <a:lnTo>
                  <a:pt x="141" y="4133"/>
                </a:lnTo>
                <a:lnTo>
                  <a:pt x="126" y="4116"/>
                </a:lnTo>
                <a:lnTo>
                  <a:pt x="133" y="4091"/>
                </a:lnTo>
                <a:lnTo>
                  <a:pt x="164" y="4032"/>
                </a:lnTo>
                <a:lnTo>
                  <a:pt x="164" y="4006"/>
                </a:lnTo>
                <a:lnTo>
                  <a:pt x="158" y="3989"/>
                </a:lnTo>
                <a:lnTo>
                  <a:pt x="110" y="3956"/>
                </a:lnTo>
                <a:lnTo>
                  <a:pt x="64" y="3937"/>
                </a:lnTo>
                <a:lnTo>
                  <a:pt x="39" y="3922"/>
                </a:lnTo>
                <a:lnTo>
                  <a:pt x="39" y="3897"/>
                </a:lnTo>
                <a:lnTo>
                  <a:pt x="39" y="3873"/>
                </a:lnTo>
                <a:lnTo>
                  <a:pt x="64" y="3796"/>
                </a:lnTo>
                <a:lnTo>
                  <a:pt x="64" y="3752"/>
                </a:lnTo>
                <a:lnTo>
                  <a:pt x="54" y="3709"/>
                </a:lnTo>
                <a:lnTo>
                  <a:pt x="7" y="3683"/>
                </a:lnTo>
                <a:lnTo>
                  <a:pt x="0" y="3649"/>
                </a:lnTo>
                <a:lnTo>
                  <a:pt x="16" y="3616"/>
                </a:lnTo>
                <a:lnTo>
                  <a:pt x="77" y="3582"/>
                </a:lnTo>
                <a:lnTo>
                  <a:pt x="94" y="3566"/>
                </a:lnTo>
                <a:lnTo>
                  <a:pt x="102" y="3548"/>
                </a:lnTo>
                <a:lnTo>
                  <a:pt x="94" y="3490"/>
                </a:lnTo>
                <a:lnTo>
                  <a:pt x="102" y="3465"/>
                </a:lnTo>
                <a:lnTo>
                  <a:pt x="119" y="3447"/>
                </a:lnTo>
                <a:lnTo>
                  <a:pt x="141" y="3405"/>
                </a:lnTo>
                <a:lnTo>
                  <a:pt x="164" y="3347"/>
                </a:lnTo>
                <a:lnTo>
                  <a:pt x="173" y="3320"/>
                </a:lnTo>
                <a:lnTo>
                  <a:pt x="158" y="3245"/>
                </a:lnTo>
                <a:lnTo>
                  <a:pt x="110" y="3091"/>
                </a:lnTo>
                <a:lnTo>
                  <a:pt x="54" y="2981"/>
                </a:lnTo>
                <a:lnTo>
                  <a:pt x="54" y="2947"/>
                </a:lnTo>
                <a:lnTo>
                  <a:pt x="70" y="2932"/>
                </a:lnTo>
                <a:lnTo>
                  <a:pt x="86" y="2912"/>
                </a:lnTo>
                <a:lnTo>
                  <a:pt x="94" y="2912"/>
                </a:lnTo>
                <a:lnTo>
                  <a:pt x="141" y="2924"/>
                </a:lnTo>
                <a:lnTo>
                  <a:pt x="173" y="2924"/>
                </a:lnTo>
                <a:lnTo>
                  <a:pt x="188" y="2873"/>
                </a:lnTo>
                <a:lnTo>
                  <a:pt x="220" y="2873"/>
                </a:lnTo>
                <a:lnTo>
                  <a:pt x="276" y="2912"/>
                </a:lnTo>
                <a:lnTo>
                  <a:pt x="314" y="2906"/>
                </a:lnTo>
                <a:lnTo>
                  <a:pt x="354" y="2879"/>
                </a:lnTo>
                <a:lnTo>
                  <a:pt x="409" y="2873"/>
                </a:lnTo>
                <a:lnTo>
                  <a:pt x="481" y="2873"/>
                </a:lnTo>
                <a:lnTo>
                  <a:pt x="506" y="2855"/>
                </a:lnTo>
                <a:lnTo>
                  <a:pt x="511" y="2837"/>
                </a:lnTo>
                <a:lnTo>
                  <a:pt x="511" y="2787"/>
                </a:lnTo>
                <a:lnTo>
                  <a:pt x="457" y="2728"/>
                </a:lnTo>
                <a:lnTo>
                  <a:pt x="457" y="2692"/>
                </a:lnTo>
                <a:lnTo>
                  <a:pt x="473" y="2676"/>
                </a:lnTo>
                <a:lnTo>
                  <a:pt x="497" y="2669"/>
                </a:lnTo>
                <a:lnTo>
                  <a:pt x="543" y="2669"/>
                </a:lnTo>
                <a:lnTo>
                  <a:pt x="590" y="2636"/>
                </a:lnTo>
                <a:lnTo>
                  <a:pt x="630" y="2558"/>
                </a:lnTo>
                <a:lnTo>
                  <a:pt x="637" y="2498"/>
                </a:lnTo>
                <a:lnTo>
                  <a:pt x="646" y="2422"/>
                </a:lnTo>
                <a:lnTo>
                  <a:pt x="630" y="2388"/>
                </a:lnTo>
                <a:lnTo>
                  <a:pt x="600" y="2381"/>
                </a:lnTo>
                <a:lnTo>
                  <a:pt x="535" y="2370"/>
                </a:lnTo>
                <a:lnTo>
                  <a:pt x="506" y="2363"/>
                </a:lnTo>
                <a:lnTo>
                  <a:pt x="481" y="2344"/>
                </a:lnTo>
                <a:lnTo>
                  <a:pt x="473" y="2321"/>
                </a:lnTo>
                <a:lnTo>
                  <a:pt x="497" y="2235"/>
                </a:lnTo>
                <a:lnTo>
                  <a:pt x="529" y="2194"/>
                </a:lnTo>
                <a:lnTo>
                  <a:pt x="552" y="2178"/>
                </a:lnTo>
                <a:lnTo>
                  <a:pt x="566" y="2178"/>
                </a:lnTo>
                <a:lnTo>
                  <a:pt x="630" y="2194"/>
                </a:lnTo>
                <a:lnTo>
                  <a:pt x="661" y="2194"/>
                </a:lnTo>
                <a:lnTo>
                  <a:pt x="678" y="2178"/>
                </a:lnTo>
                <a:lnTo>
                  <a:pt x="678" y="2136"/>
                </a:lnTo>
                <a:lnTo>
                  <a:pt x="661" y="2074"/>
                </a:lnTo>
                <a:lnTo>
                  <a:pt x="661" y="2042"/>
                </a:lnTo>
                <a:lnTo>
                  <a:pt x="686" y="1965"/>
                </a:lnTo>
                <a:lnTo>
                  <a:pt x="733" y="1847"/>
                </a:lnTo>
                <a:lnTo>
                  <a:pt x="749" y="1778"/>
                </a:lnTo>
                <a:lnTo>
                  <a:pt x="733" y="1704"/>
                </a:lnTo>
                <a:lnTo>
                  <a:pt x="741" y="1678"/>
                </a:lnTo>
                <a:lnTo>
                  <a:pt x="772" y="1660"/>
                </a:lnTo>
                <a:lnTo>
                  <a:pt x="772" y="1633"/>
                </a:lnTo>
                <a:lnTo>
                  <a:pt x="804" y="1610"/>
                </a:lnTo>
                <a:lnTo>
                  <a:pt x="842" y="1601"/>
                </a:lnTo>
                <a:lnTo>
                  <a:pt x="842" y="1585"/>
                </a:lnTo>
                <a:lnTo>
                  <a:pt x="826" y="1558"/>
                </a:lnTo>
                <a:lnTo>
                  <a:pt x="733" y="1524"/>
                </a:lnTo>
                <a:lnTo>
                  <a:pt x="709" y="1498"/>
                </a:lnTo>
                <a:lnTo>
                  <a:pt x="701" y="1483"/>
                </a:lnTo>
                <a:lnTo>
                  <a:pt x="709" y="1440"/>
                </a:lnTo>
                <a:lnTo>
                  <a:pt x="725" y="1415"/>
                </a:lnTo>
                <a:lnTo>
                  <a:pt x="741" y="1406"/>
                </a:lnTo>
                <a:lnTo>
                  <a:pt x="796" y="1406"/>
                </a:lnTo>
                <a:lnTo>
                  <a:pt x="804" y="1396"/>
                </a:lnTo>
                <a:lnTo>
                  <a:pt x="780" y="1358"/>
                </a:lnTo>
                <a:lnTo>
                  <a:pt x="788" y="1279"/>
                </a:lnTo>
                <a:lnTo>
                  <a:pt x="804" y="1262"/>
                </a:lnTo>
                <a:lnTo>
                  <a:pt x="842" y="1255"/>
                </a:lnTo>
                <a:lnTo>
                  <a:pt x="890" y="1255"/>
                </a:lnTo>
                <a:lnTo>
                  <a:pt x="938" y="1272"/>
                </a:lnTo>
                <a:lnTo>
                  <a:pt x="1040" y="1262"/>
                </a:lnTo>
                <a:lnTo>
                  <a:pt x="1119" y="1245"/>
                </a:lnTo>
                <a:lnTo>
                  <a:pt x="1197" y="1245"/>
                </a:lnTo>
                <a:lnTo>
                  <a:pt x="1230" y="1272"/>
                </a:lnTo>
                <a:lnTo>
                  <a:pt x="1293" y="1415"/>
                </a:lnTo>
                <a:lnTo>
                  <a:pt x="1278" y="1423"/>
                </a:lnTo>
                <a:lnTo>
                  <a:pt x="1267" y="1433"/>
                </a:lnTo>
                <a:lnTo>
                  <a:pt x="1267" y="1483"/>
                </a:lnTo>
                <a:lnTo>
                  <a:pt x="1278" y="1493"/>
                </a:lnTo>
                <a:lnTo>
                  <a:pt x="1300" y="1483"/>
                </a:lnTo>
                <a:lnTo>
                  <a:pt x="1309" y="1493"/>
                </a:lnTo>
                <a:lnTo>
                  <a:pt x="1340" y="1524"/>
                </a:lnTo>
                <a:lnTo>
                  <a:pt x="1364" y="1524"/>
                </a:lnTo>
                <a:lnTo>
                  <a:pt x="1380" y="1524"/>
                </a:lnTo>
                <a:lnTo>
                  <a:pt x="1380" y="1483"/>
                </a:lnTo>
                <a:lnTo>
                  <a:pt x="1348" y="1415"/>
                </a:lnTo>
                <a:lnTo>
                  <a:pt x="1340" y="1371"/>
                </a:lnTo>
                <a:lnTo>
                  <a:pt x="1356" y="1346"/>
                </a:lnTo>
                <a:lnTo>
                  <a:pt x="1364" y="1337"/>
                </a:lnTo>
                <a:lnTo>
                  <a:pt x="1387" y="1346"/>
                </a:lnTo>
                <a:lnTo>
                  <a:pt x="1419" y="1363"/>
                </a:lnTo>
                <a:lnTo>
                  <a:pt x="1426" y="1390"/>
                </a:lnTo>
                <a:lnTo>
                  <a:pt x="1448" y="1406"/>
                </a:lnTo>
                <a:lnTo>
                  <a:pt x="1459" y="1415"/>
                </a:lnTo>
                <a:lnTo>
                  <a:pt x="1459" y="1449"/>
                </a:lnTo>
                <a:lnTo>
                  <a:pt x="1448" y="1483"/>
                </a:lnTo>
                <a:lnTo>
                  <a:pt x="1443" y="1619"/>
                </a:lnTo>
                <a:lnTo>
                  <a:pt x="1435" y="1678"/>
                </a:lnTo>
                <a:lnTo>
                  <a:pt x="1443" y="1712"/>
                </a:lnTo>
                <a:lnTo>
                  <a:pt x="1435" y="1712"/>
                </a:lnTo>
                <a:lnTo>
                  <a:pt x="1443" y="1763"/>
                </a:lnTo>
                <a:lnTo>
                  <a:pt x="1490" y="1821"/>
                </a:lnTo>
                <a:lnTo>
                  <a:pt x="1506" y="1865"/>
                </a:lnTo>
                <a:lnTo>
                  <a:pt x="1520" y="1889"/>
                </a:lnTo>
                <a:lnTo>
                  <a:pt x="1544" y="1898"/>
                </a:lnTo>
                <a:lnTo>
                  <a:pt x="1591" y="1865"/>
                </a:lnTo>
                <a:lnTo>
                  <a:pt x="1639" y="1872"/>
                </a:lnTo>
                <a:lnTo>
                  <a:pt x="1663" y="1865"/>
                </a:lnTo>
                <a:lnTo>
                  <a:pt x="1656" y="1813"/>
                </a:lnTo>
                <a:lnTo>
                  <a:pt x="1639" y="1770"/>
                </a:lnTo>
                <a:lnTo>
                  <a:pt x="1625" y="1755"/>
                </a:lnTo>
                <a:lnTo>
                  <a:pt x="1585" y="1744"/>
                </a:lnTo>
                <a:lnTo>
                  <a:pt x="1520" y="1693"/>
                </a:lnTo>
                <a:lnTo>
                  <a:pt x="1497" y="1687"/>
                </a:lnTo>
                <a:lnTo>
                  <a:pt x="1466" y="1687"/>
                </a:lnTo>
                <a:lnTo>
                  <a:pt x="1490" y="1423"/>
                </a:lnTo>
                <a:lnTo>
                  <a:pt x="1490" y="1382"/>
                </a:lnTo>
                <a:lnTo>
                  <a:pt x="1459" y="1279"/>
                </a:lnTo>
                <a:lnTo>
                  <a:pt x="1459" y="1255"/>
                </a:lnTo>
                <a:lnTo>
                  <a:pt x="1473" y="1237"/>
                </a:lnTo>
                <a:lnTo>
                  <a:pt x="1483" y="1202"/>
                </a:lnTo>
                <a:lnTo>
                  <a:pt x="1497" y="1163"/>
                </a:lnTo>
                <a:lnTo>
                  <a:pt x="1529" y="1110"/>
                </a:lnTo>
                <a:lnTo>
                  <a:pt x="1553" y="1092"/>
                </a:lnTo>
                <a:lnTo>
                  <a:pt x="1576" y="1092"/>
                </a:lnTo>
                <a:lnTo>
                  <a:pt x="1615" y="1128"/>
                </a:lnTo>
                <a:lnTo>
                  <a:pt x="1656" y="1143"/>
                </a:lnTo>
                <a:lnTo>
                  <a:pt x="1725" y="1143"/>
                </a:lnTo>
                <a:lnTo>
                  <a:pt x="1773" y="1136"/>
                </a:lnTo>
                <a:lnTo>
                  <a:pt x="1844" y="1128"/>
                </a:lnTo>
                <a:lnTo>
                  <a:pt x="1852" y="1136"/>
                </a:lnTo>
                <a:lnTo>
                  <a:pt x="1758" y="1079"/>
                </a:lnTo>
                <a:lnTo>
                  <a:pt x="1701" y="1079"/>
                </a:lnTo>
                <a:lnTo>
                  <a:pt x="1688" y="1059"/>
                </a:lnTo>
                <a:lnTo>
                  <a:pt x="1688" y="1008"/>
                </a:lnTo>
                <a:lnTo>
                  <a:pt x="1663" y="968"/>
                </a:lnTo>
                <a:lnTo>
                  <a:pt x="1656" y="957"/>
                </a:lnTo>
                <a:lnTo>
                  <a:pt x="1656" y="948"/>
                </a:lnTo>
                <a:lnTo>
                  <a:pt x="1701" y="975"/>
                </a:lnTo>
                <a:lnTo>
                  <a:pt x="1725" y="983"/>
                </a:lnTo>
                <a:lnTo>
                  <a:pt x="1743" y="948"/>
                </a:lnTo>
                <a:lnTo>
                  <a:pt x="1750" y="891"/>
                </a:lnTo>
                <a:lnTo>
                  <a:pt x="1743" y="865"/>
                </a:lnTo>
                <a:lnTo>
                  <a:pt x="1671" y="858"/>
                </a:lnTo>
                <a:lnTo>
                  <a:pt x="1679" y="840"/>
                </a:lnTo>
                <a:lnTo>
                  <a:pt x="1688" y="813"/>
                </a:lnTo>
                <a:lnTo>
                  <a:pt x="1679" y="783"/>
                </a:lnTo>
                <a:lnTo>
                  <a:pt x="1679" y="762"/>
                </a:lnTo>
                <a:lnTo>
                  <a:pt x="1735" y="729"/>
                </a:lnTo>
                <a:lnTo>
                  <a:pt x="1735" y="721"/>
                </a:lnTo>
                <a:lnTo>
                  <a:pt x="1725" y="713"/>
                </a:lnTo>
                <a:lnTo>
                  <a:pt x="1701" y="695"/>
                </a:lnTo>
                <a:lnTo>
                  <a:pt x="1663" y="695"/>
                </a:lnTo>
                <a:lnTo>
                  <a:pt x="1639" y="721"/>
                </a:lnTo>
                <a:lnTo>
                  <a:pt x="1625" y="713"/>
                </a:lnTo>
                <a:lnTo>
                  <a:pt x="1615" y="729"/>
                </a:lnTo>
                <a:lnTo>
                  <a:pt x="1591" y="729"/>
                </a:lnTo>
                <a:lnTo>
                  <a:pt x="1553" y="704"/>
                </a:lnTo>
                <a:lnTo>
                  <a:pt x="1544" y="678"/>
                </a:lnTo>
                <a:lnTo>
                  <a:pt x="1600" y="653"/>
                </a:lnTo>
                <a:lnTo>
                  <a:pt x="1647" y="645"/>
                </a:lnTo>
                <a:lnTo>
                  <a:pt x="1711" y="620"/>
                </a:lnTo>
                <a:lnTo>
                  <a:pt x="1735" y="593"/>
                </a:lnTo>
                <a:lnTo>
                  <a:pt x="1743" y="551"/>
                </a:lnTo>
                <a:lnTo>
                  <a:pt x="1743" y="525"/>
                </a:lnTo>
                <a:lnTo>
                  <a:pt x="1719" y="465"/>
                </a:lnTo>
                <a:lnTo>
                  <a:pt x="1663" y="390"/>
                </a:lnTo>
                <a:lnTo>
                  <a:pt x="1615" y="339"/>
                </a:lnTo>
                <a:lnTo>
                  <a:pt x="1585" y="271"/>
                </a:lnTo>
                <a:lnTo>
                  <a:pt x="1585" y="189"/>
                </a:lnTo>
                <a:lnTo>
                  <a:pt x="1568" y="180"/>
                </a:lnTo>
                <a:lnTo>
                  <a:pt x="1538" y="180"/>
                </a:lnTo>
                <a:lnTo>
                  <a:pt x="1497" y="189"/>
                </a:lnTo>
                <a:lnTo>
                  <a:pt x="1443" y="180"/>
                </a:lnTo>
                <a:lnTo>
                  <a:pt x="1426" y="271"/>
                </a:lnTo>
                <a:lnTo>
                  <a:pt x="1419" y="280"/>
                </a:lnTo>
                <a:lnTo>
                  <a:pt x="1404" y="290"/>
                </a:lnTo>
                <a:lnTo>
                  <a:pt x="1395" y="280"/>
                </a:lnTo>
                <a:lnTo>
                  <a:pt x="1395" y="231"/>
                </a:lnTo>
                <a:lnTo>
                  <a:pt x="1426" y="51"/>
                </a:lnTo>
                <a:lnTo>
                  <a:pt x="1443" y="18"/>
                </a:lnTo>
                <a:lnTo>
                  <a:pt x="1459" y="10"/>
                </a:lnTo>
                <a:lnTo>
                  <a:pt x="1473" y="0"/>
                </a:lnTo>
                <a:lnTo>
                  <a:pt x="1483" y="10"/>
                </a:lnTo>
                <a:lnTo>
                  <a:pt x="1483" y="18"/>
                </a:lnTo>
                <a:lnTo>
                  <a:pt x="1483" y="36"/>
                </a:lnTo>
                <a:lnTo>
                  <a:pt x="1459" y="93"/>
                </a:lnTo>
                <a:lnTo>
                  <a:pt x="1459" y="119"/>
                </a:lnTo>
                <a:lnTo>
                  <a:pt x="1483" y="145"/>
                </a:lnTo>
                <a:lnTo>
                  <a:pt x="1506" y="154"/>
                </a:lnTo>
                <a:lnTo>
                  <a:pt x="1576" y="154"/>
                </a:lnTo>
                <a:lnTo>
                  <a:pt x="1585" y="145"/>
                </a:lnTo>
                <a:lnTo>
                  <a:pt x="1591" y="103"/>
                </a:lnTo>
                <a:lnTo>
                  <a:pt x="1625" y="119"/>
                </a:lnTo>
                <a:lnTo>
                  <a:pt x="1663" y="127"/>
                </a:lnTo>
                <a:lnTo>
                  <a:pt x="1701" y="137"/>
                </a:lnTo>
                <a:lnTo>
                  <a:pt x="1743" y="145"/>
                </a:lnTo>
                <a:lnTo>
                  <a:pt x="1868" y="194"/>
                </a:lnTo>
                <a:lnTo>
                  <a:pt x="1916" y="220"/>
                </a:lnTo>
                <a:lnTo>
                  <a:pt x="1962" y="220"/>
                </a:lnTo>
                <a:lnTo>
                  <a:pt x="2025" y="189"/>
                </a:lnTo>
                <a:lnTo>
                  <a:pt x="2056" y="189"/>
                </a:lnTo>
                <a:lnTo>
                  <a:pt x="2080" y="213"/>
                </a:lnTo>
                <a:lnTo>
                  <a:pt x="2137" y="231"/>
                </a:lnTo>
                <a:lnTo>
                  <a:pt x="2192" y="280"/>
                </a:lnTo>
                <a:lnTo>
                  <a:pt x="2208" y="255"/>
                </a:lnTo>
                <a:lnTo>
                  <a:pt x="2239" y="307"/>
                </a:lnTo>
                <a:lnTo>
                  <a:pt x="2239" y="339"/>
                </a:lnTo>
                <a:lnTo>
                  <a:pt x="2161" y="441"/>
                </a:lnTo>
                <a:lnTo>
                  <a:pt x="2097" y="483"/>
                </a:lnTo>
                <a:lnTo>
                  <a:pt x="2067" y="500"/>
                </a:lnTo>
                <a:lnTo>
                  <a:pt x="2025" y="492"/>
                </a:lnTo>
                <a:lnTo>
                  <a:pt x="2018" y="500"/>
                </a:lnTo>
                <a:lnTo>
                  <a:pt x="2018" y="518"/>
                </a:lnTo>
                <a:lnTo>
                  <a:pt x="2049" y="542"/>
                </a:lnTo>
                <a:lnTo>
                  <a:pt x="2080" y="542"/>
                </a:lnTo>
                <a:lnTo>
                  <a:pt x="2104" y="535"/>
                </a:lnTo>
                <a:lnTo>
                  <a:pt x="2161" y="492"/>
                </a:lnTo>
                <a:lnTo>
                  <a:pt x="2248" y="399"/>
                </a:lnTo>
                <a:lnTo>
                  <a:pt x="2254" y="408"/>
                </a:lnTo>
                <a:lnTo>
                  <a:pt x="2263" y="433"/>
                </a:lnTo>
                <a:lnTo>
                  <a:pt x="2254" y="474"/>
                </a:lnTo>
                <a:lnTo>
                  <a:pt x="2239" y="510"/>
                </a:lnTo>
                <a:lnTo>
                  <a:pt x="2208" y="542"/>
                </a:lnTo>
                <a:lnTo>
                  <a:pt x="2184" y="568"/>
                </a:lnTo>
                <a:lnTo>
                  <a:pt x="2215" y="568"/>
                </a:lnTo>
                <a:lnTo>
                  <a:pt x="2271" y="551"/>
                </a:lnTo>
                <a:lnTo>
                  <a:pt x="2309" y="542"/>
                </a:lnTo>
                <a:lnTo>
                  <a:pt x="2325" y="551"/>
                </a:lnTo>
                <a:lnTo>
                  <a:pt x="2332" y="587"/>
                </a:lnTo>
                <a:lnTo>
                  <a:pt x="2325" y="635"/>
                </a:lnTo>
                <a:lnTo>
                  <a:pt x="2325" y="653"/>
                </a:lnTo>
                <a:lnTo>
                  <a:pt x="2332" y="653"/>
                </a:lnTo>
                <a:lnTo>
                  <a:pt x="2366" y="635"/>
                </a:lnTo>
                <a:lnTo>
                  <a:pt x="2413" y="620"/>
                </a:lnTo>
                <a:lnTo>
                  <a:pt x="2420" y="593"/>
                </a:lnTo>
                <a:lnTo>
                  <a:pt x="2428" y="587"/>
                </a:lnTo>
                <a:lnTo>
                  <a:pt x="2451" y="593"/>
                </a:lnTo>
                <a:lnTo>
                  <a:pt x="2484" y="629"/>
                </a:lnTo>
                <a:lnTo>
                  <a:pt x="2569" y="670"/>
                </a:lnTo>
                <a:lnTo>
                  <a:pt x="2625" y="713"/>
                </a:lnTo>
                <a:lnTo>
                  <a:pt x="2656" y="713"/>
                </a:lnTo>
                <a:lnTo>
                  <a:pt x="2665" y="704"/>
                </a:lnTo>
                <a:lnTo>
                  <a:pt x="2704" y="653"/>
                </a:lnTo>
                <a:lnTo>
                  <a:pt x="2712" y="653"/>
                </a:lnTo>
                <a:lnTo>
                  <a:pt x="2752" y="670"/>
                </a:lnTo>
                <a:lnTo>
                  <a:pt x="2775" y="670"/>
                </a:lnTo>
                <a:lnTo>
                  <a:pt x="2799" y="678"/>
                </a:lnTo>
                <a:lnTo>
                  <a:pt x="2799" y="704"/>
                </a:lnTo>
                <a:lnTo>
                  <a:pt x="2784" y="762"/>
                </a:lnTo>
                <a:lnTo>
                  <a:pt x="2799" y="822"/>
                </a:lnTo>
                <a:lnTo>
                  <a:pt x="2760" y="858"/>
                </a:lnTo>
                <a:lnTo>
                  <a:pt x="2712" y="882"/>
                </a:lnTo>
                <a:lnTo>
                  <a:pt x="2696" y="908"/>
                </a:lnTo>
                <a:lnTo>
                  <a:pt x="2680" y="908"/>
                </a:lnTo>
                <a:lnTo>
                  <a:pt x="2665" y="891"/>
                </a:lnTo>
                <a:lnTo>
                  <a:pt x="2656" y="917"/>
                </a:lnTo>
                <a:lnTo>
                  <a:pt x="2649" y="957"/>
                </a:lnTo>
                <a:lnTo>
                  <a:pt x="2649" y="991"/>
                </a:lnTo>
                <a:lnTo>
                  <a:pt x="2712" y="1025"/>
                </a:lnTo>
                <a:lnTo>
                  <a:pt x="2724" y="1037"/>
                </a:lnTo>
                <a:lnTo>
                  <a:pt x="2721" y="1080"/>
                </a:lnTo>
                <a:lnTo>
                  <a:pt x="2754" y="1097"/>
                </a:lnTo>
                <a:lnTo>
                  <a:pt x="2775" y="1097"/>
                </a:lnTo>
                <a:lnTo>
                  <a:pt x="2833" y="1047"/>
                </a:lnTo>
                <a:lnTo>
                  <a:pt x="2904" y="1054"/>
                </a:lnTo>
                <a:lnTo>
                  <a:pt x="2947" y="1072"/>
                </a:lnTo>
                <a:lnTo>
                  <a:pt x="2972" y="1100"/>
                </a:lnTo>
                <a:lnTo>
                  <a:pt x="2997" y="1097"/>
                </a:lnTo>
                <a:lnTo>
                  <a:pt x="3017" y="1072"/>
                </a:lnTo>
                <a:lnTo>
                  <a:pt x="3092" y="1016"/>
                </a:lnTo>
                <a:lnTo>
                  <a:pt x="3139" y="959"/>
                </a:lnTo>
                <a:lnTo>
                  <a:pt x="3220" y="909"/>
                </a:lnTo>
                <a:lnTo>
                  <a:pt x="3286" y="905"/>
                </a:lnTo>
                <a:lnTo>
                  <a:pt x="3359" y="884"/>
                </a:lnTo>
                <a:lnTo>
                  <a:pt x="3391" y="848"/>
                </a:lnTo>
                <a:lnTo>
                  <a:pt x="3434" y="840"/>
                </a:lnTo>
                <a:lnTo>
                  <a:pt x="3469" y="806"/>
                </a:lnTo>
                <a:lnTo>
                  <a:pt x="3521" y="794"/>
                </a:lnTo>
                <a:lnTo>
                  <a:pt x="3579" y="753"/>
                </a:lnTo>
                <a:lnTo>
                  <a:pt x="3616" y="738"/>
                </a:lnTo>
                <a:lnTo>
                  <a:pt x="3702" y="719"/>
                </a:lnTo>
                <a:lnTo>
                  <a:pt x="3747" y="729"/>
                </a:lnTo>
                <a:lnTo>
                  <a:pt x="3782" y="738"/>
                </a:lnTo>
                <a:lnTo>
                  <a:pt x="3799" y="765"/>
                </a:lnTo>
                <a:lnTo>
                  <a:pt x="3838" y="765"/>
                </a:lnTo>
                <a:lnTo>
                  <a:pt x="3860" y="784"/>
                </a:lnTo>
                <a:lnTo>
                  <a:pt x="3893" y="821"/>
                </a:lnTo>
                <a:lnTo>
                  <a:pt x="3903" y="848"/>
                </a:lnTo>
                <a:lnTo>
                  <a:pt x="3944" y="878"/>
                </a:lnTo>
                <a:lnTo>
                  <a:pt x="3994" y="896"/>
                </a:lnTo>
                <a:lnTo>
                  <a:pt x="4041" y="915"/>
                </a:lnTo>
                <a:lnTo>
                  <a:pt x="4088" y="915"/>
                </a:lnTo>
                <a:lnTo>
                  <a:pt x="4144" y="938"/>
                </a:lnTo>
                <a:lnTo>
                  <a:pt x="4169" y="1016"/>
                </a:lnTo>
                <a:lnTo>
                  <a:pt x="4199" y="1090"/>
                </a:lnTo>
                <a:lnTo>
                  <a:pt x="4204" y="1109"/>
                </a:lnTo>
                <a:lnTo>
                  <a:pt x="4216" y="1128"/>
                </a:lnTo>
                <a:lnTo>
                  <a:pt x="4262" y="1169"/>
                </a:lnTo>
                <a:lnTo>
                  <a:pt x="4296" y="1212"/>
                </a:lnTo>
                <a:lnTo>
                  <a:pt x="4308" y="1238"/>
                </a:lnTo>
                <a:lnTo>
                  <a:pt x="4334" y="1264"/>
                </a:lnTo>
                <a:lnTo>
                  <a:pt x="4373" y="1293"/>
                </a:lnTo>
                <a:lnTo>
                  <a:pt x="4399" y="1331"/>
                </a:lnTo>
                <a:lnTo>
                  <a:pt x="4408" y="1379"/>
                </a:lnTo>
                <a:lnTo>
                  <a:pt x="4435" y="1432"/>
                </a:lnTo>
                <a:lnTo>
                  <a:pt x="4460" y="1528"/>
                </a:lnTo>
                <a:lnTo>
                  <a:pt x="4465" y="1619"/>
                </a:lnTo>
                <a:lnTo>
                  <a:pt x="4454" y="1656"/>
                </a:lnTo>
                <a:lnTo>
                  <a:pt x="4468" y="1733"/>
                </a:lnTo>
                <a:lnTo>
                  <a:pt x="4462" y="1773"/>
                </a:lnTo>
                <a:lnTo>
                  <a:pt x="4437" y="1823"/>
                </a:lnTo>
                <a:lnTo>
                  <a:pt x="4434" y="1900"/>
                </a:lnTo>
                <a:lnTo>
                  <a:pt x="4434" y="2036"/>
                </a:lnTo>
                <a:lnTo>
                  <a:pt x="4435" y="2106"/>
                </a:lnTo>
                <a:lnTo>
                  <a:pt x="4450" y="2178"/>
                </a:lnTo>
                <a:lnTo>
                  <a:pt x="4477" y="2254"/>
                </a:lnTo>
                <a:lnTo>
                  <a:pt x="4512" y="2282"/>
                </a:lnTo>
                <a:lnTo>
                  <a:pt x="4531" y="2309"/>
                </a:lnTo>
                <a:lnTo>
                  <a:pt x="4545" y="2377"/>
                </a:lnTo>
                <a:lnTo>
                  <a:pt x="4567" y="2424"/>
                </a:lnTo>
                <a:lnTo>
                  <a:pt x="4594" y="2466"/>
                </a:lnTo>
                <a:lnTo>
                  <a:pt x="4606" y="2519"/>
                </a:lnTo>
                <a:lnTo>
                  <a:pt x="4606" y="2570"/>
                </a:lnTo>
                <a:lnTo>
                  <a:pt x="4616" y="2616"/>
                </a:lnTo>
                <a:lnTo>
                  <a:pt x="4660" y="2671"/>
                </a:lnTo>
                <a:lnTo>
                  <a:pt x="4712" y="2813"/>
                </a:lnTo>
                <a:lnTo>
                  <a:pt x="4721" y="2866"/>
                </a:lnTo>
                <a:lnTo>
                  <a:pt x="4702" y="2912"/>
                </a:lnTo>
                <a:lnTo>
                  <a:pt x="4702" y="2942"/>
                </a:lnTo>
                <a:lnTo>
                  <a:pt x="4677" y="2978"/>
                </a:lnTo>
                <a:lnTo>
                  <a:pt x="4677" y="3015"/>
                </a:lnTo>
                <a:lnTo>
                  <a:pt x="4702" y="3043"/>
                </a:lnTo>
                <a:lnTo>
                  <a:pt x="4729" y="3081"/>
                </a:lnTo>
                <a:lnTo>
                  <a:pt x="4738" y="3172"/>
                </a:lnTo>
                <a:lnTo>
                  <a:pt x="4711" y="3219"/>
                </a:lnTo>
                <a:lnTo>
                  <a:pt x="4729" y="3277"/>
                </a:lnTo>
                <a:lnTo>
                  <a:pt x="4816" y="3294"/>
                </a:lnTo>
                <a:lnTo>
                  <a:pt x="4861" y="3359"/>
                </a:lnTo>
                <a:lnTo>
                  <a:pt x="4864" y="3421"/>
                </a:lnTo>
                <a:lnTo>
                  <a:pt x="4876" y="3509"/>
                </a:lnTo>
                <a:lnTo>
                  <a:pt x="4853" y="3609"/>
                </a:lnTo>
                <a:lnTo>
                  <a:pt x="4851" y="3733"/>
                </a:lnTo>
                <a:lnTo>
                  <a:pt x="4825" y="3827"/>
                </a:lnTo>
                <a:lnTo>
                  <a:pt x="4808" y="3873"/>
                </a:lnTo>
                <a:lnTo>
                  <a:pt x="4747" y="3881"/>
                </a:lnTo>
                <a:lnTo>
                  <a:pt x="4721" y="3815"/>
                </a:lnTo>
                <a:lnTo>
                  <a:pt x="4677" y="3798"/>
                </a:lnTo>
                <a:lnTo>
                  <a:pt x="4634" y="3807"/>
                </a:lnTo>
                <a:lnTo>
                  <a:pt x="4564" y="3751"/>
                </a:lnTo>
                <a:lnTo>
                  <a:pt x="4520" y="3769"/>
                </a:lnTo>
                <a:lnTo>
                  <a:pt x="4520" y="3807"/>
                </a:lnTo>
                <a:lnTo>
                  <a:pt x="4546" y="3843"/>
                </a:lnTo>
                <a:lnTo>
                  <a:pt x="4477" y="3908"/>
                </a:lnTo>
                <a:lnTo>
                  <a:pt x="4390" y="3936"/>
                </a:lnTo>
                <a:lnTo>
                  <a:pt x="4373" y="3964"/>
                </a:lnTo>
                <a:lnTo>
                  <a:pt x="4338" y="3991"/>
                </a:lnTo>
                <a:lnTo>
                  <a:pt x="4286" y="3991"/>
                </a:lnTo>
                <a:lnTo>
                  <a:pt x="4248" y="4027"/>
                </a:lnTo>
                <a:lnTo>
                  <a:pt x="4182" y="4033"/>
                </a:lnTo>
                <a:lnTo>
                  <a:pt x="4131" y="4097"/>
                </a:lnTo>
                <a:lnTo>
                  <a:pt x="4061" y="4132"/>
                </a:lnTo>
                <a:lnTo>
                  <a:pt x="4034" y="4159"/>
                </a:lnTo>
                <a:lnTo>
                  <a:pt x="3938" y="4179"/>
                </a:lnTo>
                <a:lnTo>
                  <a:pt x="3840" y="4251"/>
                </a:lnTo>
                <a:lnTo>
                  <a:pt x="3773" y="4310"/>
                </a:lnTo>
                <a:lnTo>
                  <a:pt x="3702" y="4328"/>
                </a:lnTo>
                <a:lnTo>
                  <a:pt x="3661" y="4383"/>
                </a:lnTo>
                <a:lnTo>
                  <a:pt x="3529" y="4477"/>
                </a:lnTo>
                <a:lnTo>
                  <a:pt x="3521" y="4559"/>
                </a:lnTo>
                <a:lnTo>
                  <a:pt x="3505" y="4559"/>
                </a:lnTo>
                <a:lnTo>
                  <a:pt x="3471" y="4504"/>
                </a:lnTo>
                <a:lnTo>
                  <a:pt x="3413" y="4573"/>
                </a:lnTo>
                <a:lnTo>
                  <a:pt x="3446" y="4624"/>
                </a:lnTo>
                <a:lnTo>
                  <a:pt x="3508" y="4648"/>
                </a:lnTo>
                <a:lnTo>
                  <a:pt x="3564" y="4692"/>
                </a:lnTo>
                <a:lnTo>
                  <a:pt x="3595" y="4708"/>
                </a:lnTo>
                <a:lnTo>
                  <a:pt x="3619" y="4735"/>
                </a:lnTo>
                <a:lnTo>
                  <a:pt x="3633" y="4784"/>
                </a:lnTo>
                <a:lnTo>
                  <a:pt x="3628" y="4822"/>
                </a:lnTo>
                <a:lnTo>
                  <a:pt x="3571" y="4888"/>
                </a:lnTo>
                <a:lnTo>
                  <a:pt x="3564" y="4957"/>
                </a:lnTo>
                <a:lnTo>
                  <a:pt x="3586" y="4971"/>
                </a:lnTo>
                <a:lnTo>
                  <a:pt x="3610" y="5005"/>
                </a:lnTo>
                <a:lnTo>
                  <a:pt x="3642" y="5080"/>
                </a:lnTo>
                <a:lnTo>
                  <a:pt x="3674" y="5123"/>
                </a:lnTo>
                <a:lnTo>
                  <a:pt x="3697" y="5201"/>
                </a:lnTo>
                <a:lnTo>
                  <a:pt x="3753" y="5260"/>
                </a:lnTo>
                <a:lnTo>
                  <a:pt x="3785" y="5284"/>
                </a:lnTo>
                <a:lnTo>
                  <a:pt x="3864" y="5301"/>
                </a:lnTo>
                <a:lnTo>
                  <a:pt x="3886" y="5310"/>
                </a:lnTo>
                <a:lnTo>
                  <a:pt x="3957" y="5395"/>
                </a:lnTo>
                <a:lnTo>
                  <a:pt x="3998" y="5455"/>
                </a:lnTo>
                <a:lnTo>
                  <a:pt x="4029" y="5489"/>
                </a:lnTo>
                <a:lnTo>
                  <a:pt x="4075" y="5504"/>
                </a:lnTo>
                <a:lnTo>
                  <a:pt x="4108" y="5522"/>
                </a:lnTo>
                <a:lnTo>
                  <a:pt x="4123" y="5555"/>
                </a:lnTo>
                <a:lnTo>
                  <a:pt x="4139" y="5607"/>
                </a:lnTo>
                <a:lnTo>
                  <a:pt x="4162" y="5630"/>
                </a:lnTo>
                <a:lnTo>
                  <a:pt x="4179" y="5630"/>
                </a:lnTo>
                <a:lnTo>
                  <a:pt x="4202" y="5615"/>
                </a:lnTo>
                <a:lnTo>
                  <a:pt x="4217" y="5615"/>
                </a:lnTo>
                <a:lnTo>
                  <a:pt x="4234" y="5630"/>
                </a:lnTo>
                <a:lnTo>
                  <a:pt x="4241" y="5650"/>
                </a:lnTo>
                <a:lnTo>
                  <a:pt x="4273" y="5666"/>
                </a:lnTo>
                <a:lnTo>
                  <a:pt x="4314" y="5666"/>
                </a:lnTo>
                <a:lnTo>
                  <a:pt x="4337" y="5682"/>
                </a:lnTo>
                <a:lnTo>
                  <a:pt x="4345" y="5706"/>
                </a:lnTo>
                <a:lnTo>
                  <a:pt x="4385" y="5785"/>
                </a:lnTo>
                <a:lnTo>
                  <a:pt x="4385" y="5809"/>
                </a:lnTo>
                <a:lnTo>
                  <a:pt x="4352" y="5877"/>
                </a:lnTo>
                <a:lnTo>
                  <a:pt x="4304" y="5938"/>
                </a:lnTo>
                <a:lnTo>
                  <a:pt x="4273" y="5946"/>
                </a:lnTo>
                <a:lnTo>
                  <a:pt x="4241" y="5938"/>
                </a:lnTo>
                <a:lnTo>
                  <a:pt x="4234" y="5927"/>
                </a:lnTo>
                <a:lnTo>
                  <a:pt x="4210" y="5946"/>
                </a:lnTo>
                <a:lnTo>
                  <a:pt x="4186" y="5986"/>
                </a:lnTo>
                <a:lnTo>
                  <a:pt x="4179" y="6038"/>
                </a:lnTo>
                <a:lnTo>
                  <a:pt x="4139" y="6105"/>
                </a:lnTo>
                <a:lnTo>
                  <a:pt x="4117" y="6181"/>
                </a:lnTo>
                <a:lnTo>
                  <a:pt x="4092" y="6225"/>
                </a:lnTo>
                <a:lnTo>
                  <a:pt x="4037" y="6225"/>
                </a:lnTo>
                <a:lnTo>
                  <a:pt x="3950" y="6248"/>
                </a:lnTo>
                <a:lnTo>
                  <a:pt x="3895" y="6284"/>
                </a:lnTo>
                <a:lnTo>
                  <a:pt x="3871" y="6308"/>
                </a:lnTo>
                <a:lnTo>
                  <a:pt x="3823" y="6384"/>
                </a:lnTo>
                <a:lnTo>
                  <a:pt x="3816" y="6401"/>
                </a:lnTo>
                <a:lnTo>
                  <a:pt x="3816" y="6428"/>
                </a:lnTo>
                <a:lnTo>
                  <a:pt x="3871" y="6504"/>
                </a:lnTo>
                <a:lnTo>
                  <a:pt x="3886" y="6536"/>
                </a:lnTo>
                <a:lnTo>
                  <a:pt x="3926" y="6581"/>
                </a:lnTo>
                <a:lnTo>
                  <a:pt x="3966" y="6639"/>
                </a:lnTo>
                <a:lnTo>
                  <a:pt x="3926" y="6673"/>
                </a:lnTo>
                <a:lnTo>
                  <a:pt x="3926" y="6707"/>
                </a:lnTo>
                <a:lnTo>
                  <a:pt x="3957" y="6757"/>
                </a:lnTo>
                <a:lnTo>
                  <a:pt x="3981" y="6790"/>
                </a:lnTo>
                <a:lnTo>
                  <a:pt x="3981" y="6868"/>
                </a:lnTo>
                <a:lnTo>
                  <a:pt x="3966" y="6944"/>
                </a:lnTo>
                <a:lnTo>
                  <a:pt x="3957" y="6952"/>
                </a:lnTo>
                <a:lnTo>
                  <a:pt x="3926" y="6936"/>
                </a:lnTo>
                <a:lnTo>
                  <a:pt x="3881" y="6918"/>
                </a:lnTo>
                <a:lnTo>
                  <a:pt x="3816" y="6868"/>
                </a:lnTo>
                <a:lnTo>
                  <a:pt x="3753" y="6790"/>
                </a:lnTo>
                <a:lnTo>
                  <a:pt x="3729" y="6790"/>
                </a:lnTo>
                <a:lnTo>
                  <a:pt x="3697" y="6790"/>
                </a:lnTo>
                <a:lnTo>
                  <a:pt x="3642" y="6833"/>
                </a:lnTo>
                <a:lnTo>
                  <a:pt x="3619" y="6826"/>
                </a:lnTo>
                <a:lnTo>
                  <a:pt x="3586" y="6757"/>
                </a:lnTo>
                <a:lnTo>
                  <a:pt x="3556" y="6723"/>
                </a:lnTo>
                <a:lnTo>
                  <a:pt x="3493" y="6692"/>
                </a:lnTo>
                <a:lnTo>
                  <a:pt x="3468" y="6680"/>
                </a:lnTo>
                <a:lnTo>
                  <a:pt x="3446" y="6698"/>
                </a:lnTo>
                <a:lnTo>
                  <a:pt x="3438" y="6723"/>
                </a:lnTo>
                <a:lnTo>
                  <a:pt x="3453" y="6783"/>
                </a:lnTo>
                <a:lnTo>
                  <a:pt x="3453" y="6790"/>
                </a:lnTo>
                <a:lnTo>
                  <a:pt x="3413" y="6843"/>
                </a:lnTo>
                <a:lnTo>
                  <a:pt x="3351" y="6876"/>
                </a:lnTo>
                <a:lnTo>
                  <a:pt x="3342" y="6885"/>
                </a:lnTo>
                <a:lnTo>
                  <a:pt x="3249" y="6918"/>
                </a:lnTo>
                <a:lnTo>
                  <a:pt x="3201" y="6918"/>
                </a:lnTo>
                <a:lnTo>
                  <a:pt x="3162" y="6894"/>
                </a:lnTo>
                <a:lnTo>
                  <a:pt x="3132" y="6894"/>
                </a:lnTo>
                <a:lnTo>
                  <a:pt x="3114" y="6910"/>
                </a:lnTo>
                <a:lnTo>
                  <a:pt x="3082" y="6944"/>
                </a:lnTo>
                <a:lnTo>
                  <a:pt x="3043" y="6952"/>
                </a:lnTo>
                <a:lnTo>
                  <a:pt x="3009" y="6970"/>
                </a:lnTo>
                <a:lnTo>
                  <a:pt x="2956" y="7029"/>
                </a:lnTo>
                <a:lnTo>
                  <a:pt x="2926" y="7038"/>
                </a:lnTo>
                <a:lnTo>
                  <a:pt x="2893" y="7021"/>
                </a:lnTo>
                <a:lnTo>
                  <a:pt x="2861" y="7021"/>
                </a:lnTo>
                <a:lnTo>
                  <a:pt x="2806" y="7046"/>
                </a:lnTo>
                <a:lnTo>
                  <a:pt x="2767" y="7046"/>
                </a:lnTo>
                <a:lnTo>
                  <a:pt x="2736" y="7029"/>
                </a:lnTo>
                <a:lnTo>
                  <a:pt x="2712" y="6985"/>
                </a:lnTo>
                <a:lnTo>
                  <a:pt x="2704" y="6928"/>
                </a:lnTo>
                <a:lnTo>
                  <a:pt x="2696" y="6928"/>
                </a:lnTo>
                <a:lnTo>
                  <a:pt x="2680" y="6928"/>
                </a:lnTo>
                <a:lnTo>
                  <a:pt x="2632" y="6944"/>
                </a:lnTo>
                <a:lnTo>
                  <a:pt x="2601" y="6928"/>
                </a:lnTo>
                <a:lnTo>
                  <a:pt x="2578" y="6928"/>
                </a:lnTo>
                <a:lnTo>
                  <a:pt x="2547" y="6936"/>
                </a:lnTo>
                <a:lnTo>
                  <a:pt x="2508" y="6936"/>
                </a:lnTo>
                <a:lnTo>
                  <a:pt x="2484" y="6918"/>
                </a:lnTo>
                <a:lnTo>
                  <a:pt x="2458" y="6885"/>
                </a:lnTo>
                <a:lnTo>
                  <a:pt x="2444" y="6885"/>
                </a:lnTo>
                <a:lnTo>
                  <a:pt x="2437" y="6894"/>
                </a:lnTo>
                <a:lnTo>
                  <a:pt x="2437" y="6918"/>
                </a:lnTo>
                <a:lnTo>
                  <a:pt x="2444" y="7003"/>
                </a:lnTo>
                <a:lnTo>
                  <a:pt x="2437" y="7054"/>
                </a:lnTo>
                <a:lnTo>
                  <a:pt x="2413" y="7097"/>
                </a:lnTo>
                <a:lnTo>
                  <a:pt x="2366" y="7140"/>
                </a:lnTo>
                <a:lnTo>
                  <a:pt x="2325" y="7165"/>
                </a:lnTo>
                <a:lnTo>
                  <a:pt x="2277" y="7165"/>
                </a:lnTo>
                <a:lnTo>
                  <a:pt x="2286" y="7129"/>
                </a:lnTo>
                <a:lnTo>
                  <a:pt x="2302" y="7072"/>
                </a:lnTo>
                <a:lnTo>
                  <a:pt x="2295" y="7063"/>
                </a:lnTo>
                <a:lnTo>
                  <a:pt x="2232" y="7054"/>
                </a:lnTo>
                <a:lnTo>
                  <a:pt x="2208" y="7003"/>
                </a:lnTo>
                <a:lnTo>
                  <a:pt x="2167" y="6928"/>
                </a:lnTo>
                <a:lnTo>
                  <a:pt x="2121" y="6918"/>
                </a:lnTo>
                <a:lnTo>
                  <a:pt x="2090" y="6885"/>
                </a:lnTo>
                <a:lnTo>
                  <a:pt x="2056" y="6876"/>
                </a:lnTo>
                <a:lnTo>
                  <a:pt x="2018" y="6918"/>
                </a:lnTo>
                <a:lnTo>
                  <a:pt x="1972" y="6894"/>
                </a:lnTo>
                <a:lnTo>
                  <a:pt x="1814" y="6826"/>
                </a:lnTo>
                <a:lnTo>
                  <a:pt x="1750" y="6783"/>
                </a:lnTo>
                <a:lnTo>
                  <a:pt x="1719" y="6750"/>
                </a:lnTo>
                <a:lnTo>
                  <a:pt x="1679" y="6723"/>
                </a:lnTo>
                <a:lnTo>
                  <a:pt x="1671" y="6733"/>
                </a:lnTo>
                <a:lnTo>
                  <a:pt x="1679" y="6757"/>
                </a:lnTo>
                <a:lnTo>
                  <a:pt x="1688" y="6790"/>
                </a:lnTo>
                <a:lnTo>
                  <a:pt x="1647" y="6790"/>
                </a:lnTo>
                <a:lnTo>
                  <a:pt x="1639" y="6790"/>
                </a:lnTo>
                <a:lnTo>
                  <a:pt x="1632" y="6817"/>
                </a:lnTo>
                <a:lnTo>
                  <a:pt x="1591" y="6843"/>
                </a:lnTo>
                <a:lnTo>
                  <a:pt x="1544" y="6843"/>
                </a:lnTo>
                <a:lnTo>
                  <a:pt x="1490" y="6817"/>
                </a:lnTo>
                <a:lnTo>
                  <a:pt x="1459" y="6768"/>
                </a:lnTo>
                <a:lnTo>
                  <a:pt x="1419" y="6741"/>
                </a:lnTo>
                <a:lnTo>
                  <a:pt x="1387" y="6707"/>
                </a:lnTo>
                <a:lnTo>
                  <a:pt x="1364" y="6716"/>
                </a:lnTo>
                <a:lnTo>
                  <a:pt x="1317" y="6741"/>
                </a:lnTo>
                <a:lnTo>
                  <a:pt x="1293" y="6768"/>
                </a:lnTo>
                <a:lnTo>
                  <a:pt x="1293" y="6826"/>
                </a:lnTo>
                <a:lnTo>
                  <a:pt x="1317" y="6903"/>
                </a:lnTo>
                <a:lnTo>
                  <a:pt x="1317" y="6918"/>
                </a:lnTo>
                <a:lnTo>
                  <a:pt x="1261" y="6918"/>
                </a:lnTo>
                <a:lnTo>
                  <a:pt x="1221" y="6894"/>
                </a:lnTo>
                <a:lnTo>
                  <a:pt x="1167" y="6885"/>
                </a:lnTo>
                <a:lnTo>
                  <a:pt x="1135" y="6885"/>
                </a:lnTo>
                <a:lnTo>
                  <a:pt x="1064" y="6910"/>
                </a:lnTo>
                <a:lnTo>
                  <a:pt x="1008" y="6903"/>
                </a:lnTo>
                <a:lnTo>
                  <a:pt x="969" y="6876"/>
                </a:lnTo>
                <a:lnTo>
                  <a:pt x="931" y="6868"/>
                </a:lnTo>
                <a:lnTo>
                  <a:pt x="890" y="6928"/>
                </a:lnTo>
                <a:lnTo>
                  <a:pt x="866" y="6936"/>
                </a:lnTo>
                <a:lnTo>
                  <a:pt x="842" y="6928"/>
                </a:lnTo>
                <a:lnTo>
                  <a:pt x="811" y="6910"/>
                </a:lnTo>
                <a:lnTo>
                  <a:pt x="780" y="6858"/>
                </a:lnTo>
                <a:lnTo>
                  <a:pt x="764" y="6826"/>
                </a:lnTo>
                <a:lnTo>
                  <a:pt x="755" y="6750"/>
                </a:lnTo>
                <a:lnTo>
                  <a:pt x="772" y="6680"/>
                </a:lnTo>
                <a:lnTo>
                  <a:pt x="780" y="6639"/>
                </a:lnTo>
                <a:lnTo>
                  <a:pt x="811" y="6606"/>
                </a:lnTo>
                <a:lnTo>
                  <a:pt x="826" y="6520"/>
                </a:lnTo>
                <a:lnTo>
                  <a:pt x="811" y="6419"/>
                </a:lnTo>
                <a:lnTo>
                  <a:pt x="826" y="6353"/>
                </a:lnTo>
                <a:lnTo>
                  <a:pt x="907" y="6241"/>
                </a:lnTo>
                <a:lnTo>
                  <a:pt x="921" y="6200"/>
                </a:lnTo>
                <a:lnTo>
                  <a:pt x="914" y="6140"/>
                </a:lnTo>
                <a:lnTo>
                  <a:pt x="931" y="6088"/>
                </a:lnTo>
                <a:lnTo>
                  <a:pt x="938" y="6022"/>
                </a:lnTo>
                <a:lnTo>
                  <a:pt x="969" y="5946"/>
                </a:lnTo>
                <a:lnTo>
                  <a:pt x="1032" y="5886"/>
                </a:lnTo>
                <a:lnTo>
                  <a:pt x="1080" y="5818"/>
                </a:lnTo>
                <a:lnTo>
                  <a:pt x="1112" y="5785"/>
                </a:lnTo>
                <a:lnTo>
                  <a:pt x="1143" y="5760"/>
                </a:lnTo>
                <a:lnTo>
                  <a:pt x="1150" y="5751"/>
                </a:lnTo>
                <a:lnTo>
                  <a:pt x="1158" y="5717"/>
                </a:lnTo>
                <a:lnTo>
                  <a:pt x="1191" y="5674"/>
                </a:lnTo>
                <a:lnTo>
                  <a:pt x="1197" y="5640"/>
                </a:lnTo>
                <a:close/>
              </a:path>
            </a:pathLst>
          </a:custGeom>
          <a:solidFill>
            <a:srgbClr val="fbd128"/>
          </a:soli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80240" y="1719360"/>
            <a:ext cx="54000" cy="28440"/>
          </a:xfrm>
          <a:custGeom>
            <a:avLst/>
            <a:gdLst/>
            <a:ahLst/>
            <a:rect l="l" t="t" r="r" b="b"/>
            <a:pathLst>
              <a:path w="205" h="110">
                <a:moveTo>
                  <a:pt x="9" y="52"/>
                </a:moveTo>
                <a:lnTo>
                  <a:pt x="50" y="21"/>
                </a:lnTo>
                <a:lnTo>
                  <a:pt x="174" y="0"/>
                </a:lnTo>
                <a:lnTo>
                  <a:pt x="205" y="27"/>
                </a:lnTo>
                <a:lnTo>
                  <a:pt x="198" y="56"/>
                </a:lnTo>
                <a:lnTo>
                  <a:pt x="161" y="65"/>
                </a:lnTo>
                <a:lnTo>
                  <a:pt x="105" y="91"/>
                </a:lnTo>
                <a:lnTo>
                  <a:pt x="37" y="110"/>
                </a:lnTo>
                <a:lnTo>
                  <a:pt x="0" y="104"/>
                </a:lnTo>
                <a:lnTo>
                  <a:pt x="9" y="5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653240" y="1690560"/>
            <a:ext cx="54000" cy="30240"/>
          </a:xfrm>
          <a:custGeom>
            <a:avLst/>
            <a:gdLst/>
            <a:ahLst/>
            <a:rect l="l" t="t" r="r" b="b"/>
            <a:pathLst>
              <a:path w="205" h="109">
                <a:moveTo>
                  <a:pt x="8" y="51"/>
                </a:moveTo>
                <a:lnTo>
                  <a:pt x="49" y="21"/>
                </a:lnTo>
                <a:lnTo>
                  <a:pt x="174" y="0"/>
                </a:lnTo>
                <a:lnTo>
                  <a:pt x="205" y="26"/>
                </a:lnTo>
                <a:lnTo>
                  <a:pt x="197" y="55"/>
                </a:lnTo>
                <a:lnTo>
                  <a:pt x="160" y="65"/>
                </a:lnTo>
                <a:lnTo>
                  <a:pt x="104" y="90"/>
                </a:lnTo>
                <a:lnTo>
                  <a:pt x="36" y="109"/>
                </a:lnTo>
                <a:lnTo>
                  <a:pt x="0" y="103"/>
                </a:lnTo>
                <a:lnTo>
                  <a:pt x="8" y="51"/>
                </a:lnTo>
                <a:close/>
              </a:path>
            </a:pathLst>
          </a:custGeom>
          <a:solidFill>
            <a:srgbClr val="fbd128"/>
          </a:soli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77080" y="1684440"/>
            <a:ext cx="58680" cy="81000"/>
          </a:xfrm>
          <a:custGeom>
            <a:avLst/>
            <a:gdLst/>
            <a:ahLst/>
            <a:rect l="l" t="t" r="r" b="b"/>
            <a:pathLst>
              <a:path w="220" h="304">
                <a:moveTo>
                  <a:pt x="97" y="304"/>
                </a:moveTo>
                <a:lnTo>
                  <a:pt x="207" y="280"/>
                </a:lnTo>
                <a:lnTo>
                  <a:pt x="220" y="249"/>
                </a:lnTo>
                <a:lnTo>
                  <a:pt x="207" y="223"/>
                </a:lnTo>
                <a:lnTo>
                  <a:pt x="191" y="175"/>
                </a:lnTo>
                <a:lnTo>
                  <a:pt x="207" y="153"/>
                </a:lnTo>
                <a:lnTo>
                  <a:pt x="215" y="78"/>
                </a:lnTo>
                <a:lnTo>
                  <a:pt x="112" y="0"/>
                </a:lnTo>
                <a:lnTo>
                  <a:pt x="95" y="42"/>
                </a:lnTo>
                <a:lnTo>
                  <a:pt x="103" y="95"/>
                </a:lnTo>
                <a:lnTo>
                  <a:pt x="68" y="126"/>
                </a:lnTo>
                <a:lnTo>
                  <a:pt x="30" y="159"/>
                </a:lnTo>
                <a:lnTo>
                  <a:pt x="0" y="227"/>
                </a:lnTo>
                <a:lnTo>
                  <a:pt x="18" y="272"/>
                </a:lnTo>
                <a:lnTo>
                  <a:pt x="97" y="30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748640" y="1655640"/>
            <a:ext cx="60120" cy="81000"/>
          </a:xfrm>
          <a:custGeom>
            <a:avLst/>
            <a:gdLst/>
            <a:ahLst/>
            <a:rect l="l" t="t" r="r" b="b"/>
            <a:pathLst>
              <a:path w="220" h="304">
                <a:moveTo>
                  <a:pt x="98" y="304"/>
                </a:moveTo>
                <a:lnTo>
                  <a:pt x="208" y="280"/>
                </a:lnTo>
                <a:lnTo>
                  <a:pt x="220" y="249"/>
                </a:lnTo>
                <a:lnTo>
                  <a:pt x="208" y="223"/>
                </a:lnTo>
                <a:lnTo>
                  <a:pt x="191" y="176"/>
                </a:lnTo>
                <a:lnTo>
                  <a:pt x="208" y="153"/>
                </a:lnTo>
                <a:lnTo>
                  <a:pt x="216" y="78"/>
                </a:lnTo>
                <a:lnTo>
                  <a:pt x="112" y="0"/>
                </a:lnTo>
                <a:lnTo>
                  <a:pt x="96" y="42"/>
                </a:lnTo>
                <a:lnTo>
                  <a:pt x="103" y="95"/>
                </a:lnTo>
                <a:lnTo>
                  <a:pt x="69" y="126"/>
                </a:lnTo>
                <a:lnTo>
                  <a:pt x="30" y="159"/>
                </a:lnTo>
                <a:lnTo>
                  <a:pt x="0" y="227"/>
                </a:lnTo>
                <a:lnTo>
                  <a:pt x="18" y="272"/>
                </a:lnTo>
                <a:lnTo>
                  <a:pt x="98" y="304"/>
                </a:lnTo>
                <a:close/>
              </a:path>
            </a:pathLst>
          </a:custGeom>
          <a:solidFill>
            <a:srgbClr val="fbd128"/>
          </a:soli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26440" y="3222720"/>
            <a:ext cx="52200" cy="47520"/>
          </a:xfrm>
          <a:prstGeom prst="rect">
            <a:avLst/>
          </a:prstGeom>
          <a:solidFill>
            <a:srgbClr val="da0030"/>
          </a:solidFill>
          <a:ln w="0">
            <a:solidFill>
              <a:srgbClr val="da003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94480" y="3087720"/>
            <a:ext cx="384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700" spc="-1" strike="noStrike">
                <a:solidFill>
                  <a:srgbClr val="000080"/>
                </a:solidFill>
                <a:latin typeface="Arial"/>
              </a:rPr>
              <a:t>Münch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142040" y="3033720"/>
            <a:ext cx="38160" cy="38160"/>
          </a:xfrm>
          <a:prstGeom prst="ellipse">
            <a:avLst/>
          </a:prstGeom>
          <a:solidFill>
            <a:srgbClr val="da0030"/>
          </a:solidFill>
          <a:ln w="0">
            <a:solidFill>
              <a:srgbClr val="da003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194600" y="2890800"/>
            <a:ext cx="366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700" spc="-1" strike="noStrike">
                <a:solidFill>
                  <a:srgbClr val="000080"/>
                </a:solidFill>
                <a:latin typeface="Arial"/>
              </a:rPr>
              <a:t>Stuttgar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075440" y="2752560"/>
            <a:ext cx="38160" cy="38160"/>
          </a:xfrm>
          <a:prstGeom prst="ellipse">
            <a:avLst/>
          </a:prstGeom>
          <a:solidFill>
            <a:srgbClr val="da0030"/>
          </a:solidFill>
          <a:ln w="0">
            <a:solidFill>
              <a:srgbClr val="da003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126920" y="2610000"/>
            <a:ext cx="386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700" spc="-1" strike="noStrike">
                <a:solidFill>
                  <a:srgbClr val="000080"/>
                </a:solidFill>
                <a:latin typeface="Arial"/>
              </a:rPr>
              <a:t>Frankfur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78520" y="2509920"/>
            <a:ext cx="39960" cy="38160"/>
          </a:xfrm>
          <a:prstGeom prst="ellipse">
            <a:avLst/>
          </a:prstGeom>
          <a:solidFill>
            <a:srgbClr val="da0030"/>
          </a:solidFill>
          <a:ln w="0">
            <a:solidFill>
              <a:srgbClr val="da003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938640" y="2367000"/>
            <a:ext cx="195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700" spc="-1" strike="noStrike">
                <a:solidFill>
                  <a:srgbClr val="000080"/>
                </a:solidFill>
                <a:latin typeface="Arial"/>
              </a:rPr>
              <a:t>Köl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77000" y="2212920"/>
            <a:ext cx="38160" cy="41400"/>
          </a:xfrm>
          <a:prstGeom prst="ellipse">
            <a:avLst/>
          </a:prstGeom>
          <a:solidFill>
            <a:srgbClr val="da0030"/>
          </a:solidFill>
          <a:ln w="0">
            <a:solidFill>
              <a:srgbClr val="da003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734960" y="2073240"/>
            <a:ext cx="250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700" spc="-1" strike="noStrike">
                <a:solidFill>
                  <a:srgbClr val="000080"/>
                </a:solidFill>
                <a:latin typeface="Arial"/>
              </a:rPr>
              <a:t>Berl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91320" y="2443320"/>
            <a:ext cx="39960" cy="37800"/>
          </a:xfrm>
          <a:prstGeom prst="ellipse">
            <a:avLst/>
          </a:prstGeom>
          <a:solidFill>
            <a:srgbClr val="da0030"/>
          </a:solidFill>
          <a:ln w="0">
            <a:solidFill>
              <a:srgbClr val="da003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46400" y="2300400"/>
            <a:ext cx="302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700" spc="-1" strike="noStrike">
                <a:solidFill>
                  <a:srgbClr val="000080"/>
                </a:solidFill>
                <a:latin typeface="Arial"/>
              </a:rPr>
              <a:t>Leipzi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157880" y="2039760"/>
            <a:ext cx="39960" cy="38160"/>
          </a:xfrm>
          <a:prstGeom prst="ellipse">
            <a:avLst/>
          </a:prstGeom>
          <a:solidFill>
            <a:srgbClr val="da0030"/>
          </a:solidFill>
          <a:ln w="0">
            <a:solidFill>
              <a:srgbClr val="da003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208640" y="1898640"/>
            <a:ext cx="38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700" spc="-1" strike="noStrike">
                <a:solidFill>
                  <a:srgbClr val="000080"/>
                </a:solidFill>
                <a:latin typeface="Arial"/>
              </a:rPr>
              <a:t>Hambur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96040" y="2278080"/>
            <a:ext cx="38160" cy="41400"/>
          </a:xfrm>
          <a:prstGeom prst="ellipse">
            <a:avLst/>
          </a:prstGeom>
          <a:solidFill>
            <a:srgbClr val="da0030"/>
          </a:solidFill>
          <a:ln w="0">
            <a:solidFill>
              <a:srgbClr val="da003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245720" y="213660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700" spc="-1" strike="noStrike">
                <a:solidFill>
                  <a:srgbClr val="000080"/>
                </a:solidFill>
                <a:latin typeface="Arial"/>
              </a:rPr>
              <a:t>Hannov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056360" y="2955960"/>
            <a:ext cx="39600" cy="38160"/>
          </a:xfrm>
          <a:prstGeom prst="ellipse">
            <a:avLst/>
          </a:prstGeom>
          <a:solidFill>
            <a:srgbClr val="da0030"/>
          </a:solidFill>
          <a:ln w="0">
            <a:solidFill>
              <a:srgbClr val="da003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06040" y="2813040"/>
            <a:ext cx="412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700" spc="-1" strike="noStrike">
                <a:solidFill>
                  <a:srgbClr val="000080"/>
                </a:solidFill>
                <a:latin typeface="Arial"/>
              </a:rPr>
              <a:t>Karlsru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483920" y="444600"/>
            <a:ext cx="63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icherungen.Vorsorge.Vermögens-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Lifecycle von Information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50680" y="1676520"/>
            <a:ext cx="94359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buClr>
                <a:srgbClr val="0000c8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okumente stehen im Kontext zu ande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okumente können redundant s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okumente können im Widerspruch zu anderen Dokumenten steh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er Kontext muss beim Erstellen des Dokuments beachtet wer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buClr>
                <a:srgbClr val="0000c8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Informationen können alter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okumente müssen aktualisiert wer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okumente verlieren ihre Gültigkeit und müssen eliminiert wer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buClr>
                <a:srgbClr val="3333cc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Wissensmanagement gibt es ers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wenn das Informationsmanagement gelöst 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Kommunikation von Anwende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74360" y="1676520"/>
            <a:ext cx="943596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77640" indent="-377640">
              <a:buClr>
                <a:srgbClr val="3333cc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Synchrone Kommunik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4680" indent="-31500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ie Benutzer kommunizieren wie im Gespräch oder Telefongesprä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3160" indent="-248760">
              <a:buClr>
                <a:srgbClr val="0000c8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über Chat oder einer virtuellen Konferenz z.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4680" indent="-31500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ie Benutzer müssen gleichzeitig online s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4680" indent="-31500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Oftmals ist es schwer festzustellen, ob andere Benutzer gleichzeitig am System angemeldet s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7640" indent="-377640">
              <a:buClr>
                <a:srgbClr val="3333cc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Asynchrone Kommunik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4680" indent="-31500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ie Benutzer stehen nicht direkt im Gespräch, sondern senden sich Nachricht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4680"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z.B. über Mail oder Diskussionsfo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Gelbe Sei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70120" y="4133520"/>
            <a:ext cx="6597360" cy="21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81600" indent="-381600">
              <a:buClr>
                <a:srgbClr val="0000c8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Viele Wissensmanagement-Lösungen bieten Möglichkeiten an, Experten zu Themen zu finden. Sei es über Gelbe Seiten, sei es über andere Techniken wie das automatische Zuordnen von Schlüsselworten zu Personenprofile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7329600" y="4424400"/>
            <a:ext cx="2881080" cy="206064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946080" y="2144880"/>
            <a:ext cx="9569520" cy="18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01760" indent="-401760">
              <a:lnSpc>
                <a:spcPct val="100000"/>
              </a:lnSpc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Wie werden Experten zu bestimmten Themen gefund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Gelbe Seiten - Zuordnung eines Experten zu einem The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Schließen über ein Thema auf einen Expe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Der Einsatz ist eine Frage der Kultur. Oftmals werden solche Anwendungen nicht genutz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Workflow-, Groupware-Anwendun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74400" y="1450800"/>
            <a:ext cx="6483240" cy="533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6880"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zwei Dimension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Personal Information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64960">
              <a:buClr>
                <a:srgbClr val="0000c8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Mail-, Adress-, Termin-  und Aufgaben- bzw. Journalfun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Server für viele Anw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64960">
              <a:buClr>
                <a:srgbClr val="0000c8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Mail-, Adress-, Termin-, Aufgaben bzw. Journalfunk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64960">
              <a:buClr>
                <a:srgbClr val="0000c8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Datenban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64960">
              <a:buClr>
                <a:srgbClr val="0000c8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Replikation von 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Rechteverwaltung für Benutzer und Doku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Entwicklungsumgebung für Groupware- und Workflow-Anwend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7223040" y="4884840"/>
            <a:ext cx="3030480" cy="218268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7037280" y="4356000"/>
            <a:ext cx="3030480" cy="218304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rcRect l="0" t="0" r="0" b="5248"/>
          <a:stretch/>
        </p:blipFill>
        <p:spPr>
          <a:xfrm>
            <a:off x="7178760" y="1460520"/>
            <a:ext cx="2725560" cy="193680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4"/>
          <a:srcRect l="23728" t="10943" r="23208" b="30668"/>
          <a:stretch/>
        </p:blipFill>
        <p:spPr>
          <a:xfrm>
            <a:off x="8124840" y="2108160"/>
            <a:ext cx="2128680" cy="175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Historie des Informationsmanag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4828320" y="1447920"/>
            <a:ext cx="2134440" cy="4857480"/>
            <a:chOff x="4828320" y="1447920"/>
            <a:chExt cx="2134440" cy="4857480"/>
          </a:xfrm>
        </p:grpSpPr>
        <p:sp>
          <p:nvSpPr>
            <p:cNvPr id="665" name=""/>
            <p:cNvSpPr/>
            <p:nvPr/>
          </p:nvSpPr>
          <p:spPr>
            <a:xfrm>
              <a:off x="4829040" y="1447920"/>
              <a:ext cx="2133720" cy="4857480"/>
            </a:xfrm>
            <a:prstGeom prst="rect">
              <a:avLst/>
            </a:prstGeom>
            <a:solidFill>
              <a:srgbClr val="eb3e2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905360" y="3524040"/>
              <a:ext cx="2057400" cy="1066680"/>
            </a:xfrm>
            <a:custGeom>
              <a:avLst/>
              <a:gdLst>
                <a:gd name="textAreaLeft" fmla="*/ 0 w 2057400"/>
                <a:gd name="textAreaRight" fmla="*/ 2057400 w 205740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b3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828320" y="4628880"/>
              <a:ext cx="21193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Verknüpfung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K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Elem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Content/ Lay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Navig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905360" y="1542960"/>
              <a:ext cx="1295280" cy="152352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362560" y="1619280"/>
              <a:ext cx="685800" cy="30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1d4a6e"/>
                  </a:solidFill>
                  <a:latin typeface="Arial"/>
                </a:rPr>
                <a:t>Hans Hub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1d4a6e"/>
                  </a:solidFill>
                  <a:latin typeface="Arial"/>
                </a:rPr>
                <a:t>Münch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981320" y="2000160"/>
              <a:ext cx="114300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1d4a6e"/>
                  </a:solidFill>
                  <a:latin typeface="Arial"/>
                </a:rPr>
                <a:t>Lorem ipsu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71" name=""/>
            <p:cNvGraphicFramePr/>
            <p:nvPr/>
          </p:nvGraphicFramePr>
          <p:xfrm>
            <a:off x="5057640" y="2609640"/>
            <a:ext cx="1066680" cy="601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57640" y="2609640"/>
                      <a:ext cx="1066680" cy="60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3" name=""/>
            <p:cNvSpPr/>
            <p:nvPr/>
          </p:nvSpPr>
          <p:spPr>
            <a:xfrm>
              <a:off x="4893840" y="3705120"/>
              <a:ext cx="196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Informations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Einheite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5743080" y="1295280"/>
            <a:ext cx="2667240" cy="2146320"/>
            <a:chOff x="5743080" y="1295280"/>
            <a:chExt cx="2667240" cy="2146320"/>
          </a:xfrm>
        </p:grpSpPr>
        <p:sp>
          <p:nvSpPr>
            <p:cNvPr id="675" name=""/>
            <p:cNvSpPr/>
            <p:nvPr/>
          </p:nvSpPr>
          <p:spPr>
            <a:xfrm>
              <a:off x="7057800" y="1295280"/>
              <a:ext cx="1011240" cy="59076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1d4a6e"/>
                  </a:solidFill>
                  <a:latin typeface="Arial"/>
                </a:rPr>
                <a:t>Adress-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5895720" y="2190600"/>
              <a:ext cx="2438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6048000" y="1581120"/>
              <a:ext cx="8571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8" name="" descr=""/>
            <p:cNvPicPr/>
            <p:nvPr/>
          </p:nvPicPr>
          <p:blipFill>
            <a:blip r:embed="rId3"/>
            <a:stretch/>
          </p:blipFill>
          <p:spPr>
            <a:xfrm>
              <a:off x="6962760" y="2419200"/>
              <a:ext cx="144756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 flipH="1" flipV="1">
              <a:off x="5743080" y="2876040"/>
              <a:ext cx="10666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1058760" y="1771560"/>
            <a:ext cx="838440" cy="1143000"/>
          </a:xfrm>
          <a:prstGeom prst="flowChartMultidocumen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06480" y="3524400"/>
            <a:ext cx="1523880" cy="10666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b3e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906840" y="4629240"/>
            <a:ext cx="103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985680" y="385776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i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2457360" y="1542960"/>
            <a:ext cx="2207160" cy="4399560"/>
            <a:chOff x="2457360" y="1542960"/>
            <a:chExt cx="2207160" cy="4399560"/>
          </a:xfrm>
        </p:grpSpPr>
        <p:graphicFrame>
          <p:nvGraphicFramePr>
            <p:cNvPr id="685" name=""/>
            <p:cNvGraphicFramePr/>
            <p:nvPr/>
          </p:nvGraphicFramePr>
          <p:xfrm>
            <a:off x="3143160" y="2533680"/>
            <a:ext cx="1352520" cy="76176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68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143160" y="2533680"/>
                      <a:ext cx="1352520" cy="76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7" name=""/>
            <p:cNvGraphicFramePr/>
            <p:nvPr/>
          </p:nvGraphicFramePr>
          <p:xfrm>
            <a:off x="2990880" y="1542960"/>
            <a:ext cx="1447560" cy="816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8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990880" y="1542960"/>
                      <a:ext cx="1447560" cy="8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9" name=""/>
            <p:cNvGraphicFramePr/>
            <p:nvPr/>
          </p:nvGraphicFramePr>
          <p:xfrm>
            <a:off x="2457360" y="2152440"/>
            <a:ext cx="1352520" cy="7621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69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457360" y="2152440"/>
                      <a:ext cx="135252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1" name=""/>
            <p:cNvSpPr/>
            <p:nvPr/>
          </p:nvSpPr>
          <p:spPr>
            <a:xfrm>
              <a:off x="2838240" y="3524040"/>
              <a:ext cx="1752840" cy="1067040"/>
            </a:xfrm>
            <a:custGeom>
              <a:avLst/>
              <a:gdLst>
                <a:gd name="textAreaLeft" fmla="*/ 0 w 1752840"/>
                <a:gd name="textAreaRight" fmla="*/ 1753200 w 1752840"/>
                <a:gd name="textAreaTop" fmla="*/ 0 h 1067040"/>
                <a:gd name="textAreaBottom" fmla="*/ 106740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b3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838240" y="4628880"/>
              <a:ext cx="16941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chlagwor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Lay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trukt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840760" y="3828960"/>
              <a:ext cx="182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Dokument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7267680" y="3524400"/>
            <a:ext cx="2133360" cy="1066680"/>
            <a:chOff x="7267680" y="3524400"/>
            <a:chExt cx="2133360" cy="1066680"/>
          </a:xfrm>
        </p:grpSpPr>
        <p:sp>
          <p:nvSpPr>
            <p:cNvPr id="695" name=""/>
            <p:cNvSpPr/>
            <p:nvPr/>
          </p:nvSpPr>
          <p:spPr>
            <a:xfrm>
              <a:off x="7267680" y="3524400"/>
              <a:ext cx="1752480" cy="1066680"/>
            </a:xfrm>
            <a:custGeom>
              <a:avLst/>
              <a:gdLst>
                <a:gd name="textAreaLeft" fmla="*/ 0 w 1752480"/>
                <a:gd name="textAreaRight" fmla="*/ 1752840 w 175248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b3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267680" y="3647880"/>
              <a:ext cx="213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abstrak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Wisse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857880" y="642132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ile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499480" y="6238800"/>
            <a:ext cx="212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okumente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874400" y="6238800"/>
            <a:ext cx="20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ten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8172360" y="1866960"/>
          <a:ext cx="1352520" cy="76212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70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172360" y="1866960"/>
                    <a:ext cx="13525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Fileser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0880" y="1587240"/>
            <a:ext cx="6026400" cy="49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Dateien beliebigen Forma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Informationen über die Datei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64960">
              <a:buClr>
                <a:srgbClr val="0000c8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Autor, Daten und Rech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 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weitere Informationen nicht verfüg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Hierarchisch Ordnung über Ord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Lesen der Inhalte durch Öffnen mit dem entsprechenden Pro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Gesucht kann werden na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64960">
              <a:buClr>
                <a:srgbClr val="0000c8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Dateinamen, Daten und enthaltene Zeichenkett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 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Suche nach Dateien ist schwieri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1"/>
          <a:stretch/>
        </p:blipFill>
        <p:spPr>
          <a:xfrm>
            <a:off x="6726240" y="2509920"/>
            <a:ext cx="3638520" cy="258264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2"/>
          <a:stretch/>
        </p:blipFill>
        <p:spPr>
          <a:xfrm>
            <a:off x="6523200" y="4527720"/>
            <a:ext cx="3400200" cy="24066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7350480" y="188424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Formata Condensed"/>
              </a:rPr>
              <a:t>Microsoft Explor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Dokumenten-Management-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625500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797400" indent="-308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ateien beliebigen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400" indent="-308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Informationen über die Datei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26520" indent="-243720">
              <a:buClr>
                <a:srgbClr val="0000c8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Autor, Daten, Rechte, Schlagworte, Formate u.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400" indent="-308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auch Informationen über die Dateien wie z.B. Schlagwo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400" indent="-308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Hierarchische Ordnung der Doku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400" indent="-308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Lesen der Inhalte durch Öffnen mit dem entsprechenden Progra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400" indent="-308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Eine Suchfunktion unterstützt den Benutz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7032600" y="2209680"/>
            <a:ext cx="3006720" cy="214956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2"/>
          <a:stretch/>
        </p:blipFill>
        <p:spPr>
          <a:xfrm>
            <a:off x="7413480" y="3733920"/>
            <a:ext cx="3006720" cy="214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Content-Management-System (CM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640728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797400" indent="-308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Veröffentlichen von Informationen      (e-Publish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400" indent="-308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Informationen über Doku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26520" indent="-243720">
              <a:buClr>
                <a:srgbClr val="0000c8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Autor, Daten, Rechte, Schlagworte, Kategorien u.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400" indent="-308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Informationen in Kontexte gesetz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400" indent="-308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Kontexte durch Verlink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400" indent="-308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okumente in XML oder 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400" indent="-308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okumente in anderen Formaten als  Down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400" indent="-308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Eine Suche unterstützt den Benutz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7159680" y="4527720"/>
            <a:ext cx="3301560" cy="2720880"/>
            <a:chOff x="7159680" y="4527720"/>
            <a:chExt cx="3301560" cy="2720880"/>
          </a:xfrm>
        </p:grpSpPr>
        <p:grpSp>
          <p:nvGrpSpPr>
            <p:cNvPr id="714" name=""/>
            <p:cNvGrpSpPr/>
            <p:nvPr/>
          </p:nvGrpSpPr>
          <p:grpSpPr>
            <a:xfrm>
              <a:off x="7159680" y="4527720"/>
              <a:ext cx="3301560" cy="2220120"/>
              <a:chOff x="7159680" y="4527720"/>
              <a:chExt cx="3301560" cy="2220120"/>
            </a:xfrm>
          </p:grpSpPr>
          <p:pic>
            <p:nvPicPr>
              <p:cNvPr id="715" name="" descr=""/>
              <p:cNvPicPr/>
              <p:nvPr/>
            </p:nvPicPr>
            <p:blipFill>
              <a:blip r:embed="rId1"/>
              <a:srcRect l="0" t="5336" r="4001" b="0"/>
              <a:stretch/>
            </p:blipFill>
            <p:spPr>
              <a:xfrm>
                <a:off x="7159680" y="4527720"/>
                <a:ext cx="2551680" cy="175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6" name="" descr=""/>
              <p:cNvPicPr/>
              <p:nvPr/>
            </p:nvPicPr>
            <p:blipFill>
              <a:blip r:embed="rId2"/>
              <a:srcRect l="0" t="4637" r="3543" b="6029"/>
              <a:stretch/>
            </p:blipFill>
            <p:spPr>
              <a:xfrm>
                <a:off x="7909560" y="4992480"/>
                <a:ext cx="2551680" cy="1755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17" name=""/>
            <p:cNvSpPr/>
            <p:nvPr/>
          </p:nvSpPr>
          <p:spPr>
            <a:xfrm>
              <a:off x="8024400" y="6849720"/>
              <a:ext cx="12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Formata Condensed"/>
                </a:rPr>
                <a:t>Intra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7199280" y="1665360"/>
            <a:ext cx="3252600" cy="2764440"/>
            <a:chOff x="7199280" y="1665360"/>
            <a:chExt cx="3252600" cy="2764440"/>
          </a:xfrm>
        </p:grpSpPr>
        <p:grpSp>
          <p:nvGrpSpPr>
            <p:cNvPr id="719" name=""/>
            <p:cNvGrpSpPr/>
            <p:nvPr/>
          </p:nvGrpSpPr>
          <p:grpSpPr>
            <a:xfrm>
              <a:off x="7199280" y="1665360"/>
              <a:ext cx="3252600" cy="2277720"/>
              <a:chOff x="7199280" y="1665360"/>
              <a:chExt cx="3252600" cy="2277720"/>
            </a:xfrm>
          </p:grpSpPr>
          <p:pic>
            <p:nvPicPr>
              <p:cNvPr id="720" name="" descr=""/>
              <p:cNvPicPr/>
              <p:nvPr/>
            </p:nvPicPr>
            <p:blipFill>
              <a:blip r:embed="rId3"/>
              <a:srcRect l="0" t="4668" r="0" b="0"/>
              <a:stretch/>
            </p:blipFill>
            <p:spPr>
              <a:xfrm>
                <a:off x="7199280" y="1665360"/>
                <a:ext cx="2471040" cy="178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1" name="" descr=""/>
              <p:cNvPicPr/>
              <p:nvPr/>
            </p:nvPicPr>
            <p:blipFill>
              <a:blip r:embed="rId4"/>
              <a:srcRect l="0" t="4668" r="4748" b="4536"/>
              <a:stretch/>
            </p:blipFill>
            <p:spPr>
              <a:xfrm>
                <a:off x="7932240" y="2193840"/>
                <a:ext cx="2519640" cy="1749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22" name=""/>
            <p:cNvSpPr/>
            <p:nvPr/>
          </p:nvSpPr>
          <p:spPr>
            <a:xfrm>
              <a:off x="7245000" y="4030920"/>
              <a:ext cx="29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Formata Condensed"/>
                </a:rPr>
                <a:t>http://www.allianz.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e-Publ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505320" y="1828440"/>
            <a:ext cx="9524880" cy="54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buClr>
                <a:srgbClr val="0000c8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Informationen werden angebo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-9684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die Allianz informiert ihre Kunden und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-9684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die Allianz informiert die Mitarbe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-9684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Human Resource informiert die Mitarbe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-9684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Abteilungen informieren Abteil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buClr>
                <a:srgbClr val="0000c8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Workflow-Manag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-9684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Zusammenarbeit von mehreren Auto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-9684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Veröffentlichung der Dokumente d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Redakte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buClr>
                <a:srgbClr val="0000c8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Berechtigun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Benutzer sehen nur Dokumente, für die s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berechtigt sind, und können nur auf die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zugreif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851040" y="2230560"/>
            <a:ext cx="2586960" cy="4659120"/>
            <a:chOff x="851040" y="2230560"/>
            <a:chExt cx="2586960" cy="4659120"/>
          </a:xfrm>
        </p:grpSpPr>
        <p:grpSp>
          <p:nvGrpSpPr>
            <p:cNvPr id="726" name=""/>
            <p:cNvGrpSpPr/>
            <p:nvPr/>
          </p:nvGrpSpPr>
          <p:grpSpPr>
            <a:xfrm>
              <a:off x="887040" y="4648320"/>
              <a:ext cx="2513880" cy="1858680"/>
              <a:chOff x="887040" y="4648320"/>
              <a:chExt cx="2513880" cy="1858680"/>
            </a:xfrm>
          </p:grpSpPr>
          <p:pic>
            <p:nvPicPr>
              <p:cNvPr id="727" name="" descr=""/>
              <p:cNvPicPr/>
              <p:nvPr/>
            </p:nvPicPr>
            <p:blipFill>
              <a:blip r:embed="rId1"/>
              <a:srcRect l="0" t="3647" r="0" b="0"/>
              <a:stretch/>
            </p:blipFill>
            <p:spPr>
              <a:xfrm>
                <a:off x="887040" y="4923000"/>
                <a:ext cx="2257200" cy="158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8" name="" descr=""/>
              <p:cNvPicPr/>
              <p:nvPr/>
            </p:nvPicPr>
            <p:blipFill>
              <a:blip r:embed="rId2"/>
              <a:srcRect l="0" t="0" r="2344" b="3647"/>
              <a:stretch/>
            </p:blipFill>
            <p:spPr>
              <a:xfrm>
                <a:off x="1143720" y="4648320"/>
                <a:ext cx="2257200" cy="1584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29" name=""/>
            <p:cNvGrpSpPr/>
            <p:nvPr/>
          </p:nvGrpSpPr>
          <p:grpSpPr>
            <a:xfrm>
              <a:off x="851040" y="2230560"/>
              <a:ext cx="2586960" cy="1827000"/>
              <a:chOff x="851040" y="2230560"/>
              <a:chExt cx="2586960" cy="1827000"/>
            </a:xfrm>
          </p:grpSpPr>
          <p:pic>
            <p:nvPicPr>
              <p:cNvPr id="730" name="" descr=""/>
              <p:cNvPicPr/>
              <p:nvPr/>
            </p:nvPicPr>
            <p:blipFill>
              <a:blip r:embed="rId3"/>
              <a:srcRect l="0" t="5336" r="4001" b="0"/>
              <a:stretch/>
            </p:blipFill>
            <p:spPr>
              <a:xfrm>
                <a:off x="851040" y="2230560"/>
                <a:ext cx="2258640" cy="155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1" name="" descr=""/>
              <p:cNvPicPr/>
              <p:nvPr/>
            </p:nvPicPr>
            <p:blipFill>
              <a:blip r:embed="rId4"/>
              <a:srcRect l="0" t="4637" r="3543" b="6029"/>
              <a:stretch/>
            </p:blipFill>
            <p:spPr>
              <a:xfrm>
                <a:off x="1179360" y="2505240"/>
                <a:ext cx="2258640" cy="1552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32" name=""/>
            <p:cNvSpPr/>
            <p:nvPr/>
          </p:nvSpPr>
          <p:spPr>
            <a:xfrm>
              <a:off x="1571040" y="4064040"/>
              <a:ext cx="11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Formata Condensed"/>
                </a:rPr>
                <a:t>Intra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710360" y="6521400"/>
              <a:ext cx="86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Formata Condensed"/>
                </a:rPr>
                <a:t>Edi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Vom Dokument zu Informationseinhei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7188120" cy="50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788760" indent="-30492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arstellung der Dokument anhand der Struktur - z.B. in Überschrift, Unterüberschrift, Absätze, 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8760" indent="-30492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Nutzung von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8760" indent="-30492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Gliederung in Informationseinhei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8760" indent="-30492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arstellung des Dok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13200" indent="-240840">
              <a:buClr>
                <a:srgbClr val="0000c8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Zusammenhäng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13200" indent="-240840">
              <a:buClr>
                <a:srgbClr val="0000c8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Zugriff einzelner Informationsblöc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8760" indent="-30492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urch strukturierte Darstellung könn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13200" indent="-240840">
              <a:buClr>
                <a:srgbClr val="0000c8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ie Dokumente automatisiert verarbeit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13200" indent="-240840">
              <a:buClr>
                <a:srgbClr val="0000c8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gezielt auf Informationsblöcke gegriffen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7381800" y="2100240"/>
            <a:ext cx="711360" cy="888840"/>
            <a:chOff x="7381800" y="2100240"/>
            <a:chExt cx="711360" cy="888840"/>
          </a:xfrm>
        </p:grpSpPr>
        <p:sp>
          <p:nvSpPr>
            <p:cNvPr id="737" name=""/>
            <p:cNvSpPr/>
            <p:nvPr/>
          </p:nvSpPr>
          <p:spPr>
            <a:xfrm>
              <a:off x="7381800" y="2100240"/>
              <a:ext cx="711360" cy="888840"/>
            </a:xfrm>
            <a:prstGeom prst="foldedCorner">
              <a:avLst>
                <a:gd name="adj" fmla="val 125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559640" y="2455920"/>
              <a:ext cx="444600" cy="355320"/>
            </a:xfrm>
            <a:prstGeom prst="rect">
              <a:avLst/>
            </a:prstGeom>
            <a:solidFill>
              <a:srgbClr val="1d4a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de-DE" sz="1900" spc="-1" strike="noStrike">
                  <a:solidFill>
                    <a:srgbClr val="000000"/>
                  </a:solidFill>
                  <a:latin typeface="Arial"/>
                </a:rPr>
                <a:t>do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8353440" y="4346640"/>
            <a:ext cx="711360" cy="888840"/>
            <a:chOff x="8353440" y="4346640"/>
            <a:chExt cx="711360" cy="888840"/>
          </a:xfrm>
        </p:grpSpPr>
        <p:sp>
          <p:nvSpPr>
            <p:cNvPr id="740" name=""/>
            <p:cNvSpPr/>
            <p:nvPr/>
          </p:nvSpPr>
          <p:spPr>
            <a:xfrm>
              <a:off x="8353440" y="4346640"/>
              <a:ext cx="711360" cy="888840"/>
            </a:xfrm>
            <a:prstGeom prst="foldedCorner">
              <a:avLst>
                <a:gd name="adj" fmla="val 125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404200" y="4444920"/>
              <a:ext cx="355680" cy="98280"/>
            </a:xfrm>
            <a:prstGeom prst="rect">
              <a:avLst/>
            </a:prstGeom>
            <a:solidFill>
              <a:srgbClr val="1d4a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505720" y="4593960"/>
              <a:ext cx="355680" cy="9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505720" y="4692600"/>
              <a:ext cx="355680" cy="9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505720" y="4790880"/>
              <a:ext cx="355680" cy="9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404200" y="4938480"/>
              <a:ext cx="35568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404200" y="5038560"/>
              <a:ext cx="355680" cy="9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6946920" y="2997360"/>
            <a:ext cx="158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rstel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m D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883640" y="5249880"/>
            <a:ext cx="165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rstell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m C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8982000" y="2100240"/>
            <a:ext cx="711360" cy="889200"/>
            <a:chOff x="8982000" y="2100240"/>
            <a:chExt cx="711360" cy="889200"/>
          </a:xfrm>
        </p:grpSpPr>
        <p:sp>
          <p:nvSpPr>
            <p:cNvPr id="750" name=""/>
            <p:cNvSpPr/>
            <p:nvPr/>
          </p:nvSpPr>
          <p:spPr>
            <a:xfrm>
              <a:off x="8982000" y="2100240"/>
              <a:ext cx="711360" cy="889200"/>
            </a:xfrm>
            <a:prstGeom prst="foldedCorner">
              <a:avLst>
                <a:gd name="adj" fmla="val 125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9102600" y="2455920"/>
              <a:ext cx="501840" cy="355680"/>
            </a:xfrm>
            <a:prstGeom prst="rect">
              <a:avLst/>
            </a:prstGeom>
            <a:solidFill>
              <a:srgbClr val="1d4a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de-DE" sz="19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8547120" y="2997360"/>
            <a:ext cx="158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rstel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m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444600" y="355680"/>
            <a:ext cx="6781680" cy="6667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571760" y="450720"/>
            <a:ext cx="3975120" cy="6303960"/>
          </a:xfrm>
          <a:custGeom>
            <a:avLst/>
            <a:gdLst/>
            <a:ahLst/>
            <a:rect l="l" t="t" r="r" b="b"/>
            <a:pathLst>
              <a:path w="6665" h="9669">
                <a:moveTo>
                  <a:pt x="1636" y="7612"/>
                </a:moveTo>
                <a:lnTo>
                  <a:pt x="1562" y="7578"/>
                </a:lnTo>
                <a:lnTo>
                  <a:pt x="1508" y="7578"/>
                </a:lnTo>
                <a:lnTo>
                  <a:pt x="1464" y="7578"/>
                </a:lnTo>
                <a:lnTo>
                  <a:pt x="1335" y="7531"/>
                </a:lnTo>
                <a:lnTo>
                  <a:pt x="1239" y="7531"/>
                </a:lnTo>
                <a:lnTo>
                  <a:pt x="1129" y="7509"/>
                </a:lnTo>
                <a:lnTo>
                  <a:pt x="1076" y="7473"/>
                </a:lnTo>
                <a:lnTo>
                  <a:pt x="1055" y="7438"/>
                </a:lnTo>
                <a:lnTo>
                  <a:pt x="1055" y="7408"/>
                </a:lnTo>
                <a:lnTo>
                  <a:pt x="1032" y="7371"/>
                </a:lnTo>
                <a:lnTo>
                  <a:pt x="979" y="7361"/>
                </a:lnTo>
                <a:lnTo>
                  <a:pt x="969" y="7371"/>
                </a:lnTo>
                <a:lnTo>
                  <a:pt x="904" y="7371"/>
                </a:lnTo>
                <a:lnTo>
                  <a:pt x="861" y="7361"/>
                </a:lnTo>
                <a:lnTo>
                  <a:pt x="765" y="7316"/>
                </a:lnTo>
                <a:lnTo>
                  <a:pt x="679" y="7221"/>
                </a:lnTo>
                <a:lnTo>
                  <a:pt x="646" y="7213"/>
                </a:lnTo>
                <a:lnTo>
                  <a:pt x="625" y="7202"/>
                </a:lnTo>
                <a:lnTo>
                  <a:pt x="548" y="7235"/>
                </a:lnTo>
                <a:lnTo>
                  <a:pt x="475" y="7213"/>
                </a:lnTo>
                <a:lnTo>
                  <a:pt x="429" y="7166"/>
                </a:lnTo>
                <a:lnTo>
                  <a:pt x="353" y="7074"/>
                </a:lnTo>
                <a:lnTo>
                  <a:pt x="300" y="6950"/>
                </a:lnTo>
                <a:lnTo>
                  <a:pt x="248" y="6869"/>
                </a:lnTo>
                <a:lnTo>
                  <a:pt x="279" y="6787"/>
                </a:lnTo>
                <a:lnTo>
                  <a:pt x="322" y="6696"/>
                </a:lnTo>
                <a:lnTo>
                  <a:pt x="377" y="6559"/>
                </a:lnTo>
                <a:lnTo>
                  <a:pt x="377" y="6514"/>
                </a:lnTo>
                <a:lnTo>
                  <a:pt x="353" y="6491"/>
                </a:lnTo>
                <a:lnTo>
                  <a:pt x="257" y="6456"/>
                </a:lnTo>
                <a:lnTo>
                  <a:pt x="193" y="6412"/>
                </a:lnTo>
                <a:lnTo>
                  <a:pt x="150" y="6307"/>
                </a:lnTo>
                <a:lnTo>
                  <a:pt x="95" y="6262"/>
                </a:lnTo>
                <a:lnTo>
                  <a:pt x="87" y="6225"/>
                </a:lnTo>
                <a:lnTo>
                  <a:pt x="105" y="6125"/>
                </a:lnTo>
                <a:lnTo>
                  <a:pt x="95" y="6023"/>
                </a:lnTo>
                <a:lnTo>
                  <a:pt x="105" y="5944"/>
                </a:lnTo>
                <a:lnTo>
                  <a:pt x="150" y="5876"/>
                </a:lnTo>
                <a:lnTo>
                  <a:pt x="257" y="5818"/>
                </a:lnTo>
                <a:lnTo>
                  <a:pt x="300" y="5818"/>
                </a:lnTo>
                <a:lnTo>
                  <a:pt x="257" y="5818"/>
                </a:lnTo>
                <a:lnTo>
                  <a:pt x="289" y="5808"/>
                </a:lnTo>
                <a:lnTo>
                  <a:pt x="289" y="5713"/>
                </a:lnTo>
                <a:lnTo>
                  <a:pt x="279" y="5610"/>
                </a:lnTo>
                <a:lnTo>
                  <a:pt x="257" y="5590"/>
                </a:lnTo>
                <a:lnTo>
                  <a:pt x="203" y="5590"/>
                </a:lnTo>
                <a:lnTo>
                  <a:pt x="193" y="5577"/>
                </a:lnTo>
                <a:lnTo>
                  <a:pt x="172" y="5555"/>
                </a:lnTo>
                <a:lnTo>
                  <a:pt x="182" y="5521"/>
                </a:lnTo>
                <a:lnTo>
                  <a:pt x="224" y="5441"/>
                </a:lnTo>
                <a:lnTo>
                  <a:pt x="224" y="5406"/>
                </a:lnTo>
                <a:lnTo>
                  <a:pt x="216" y="5383"/>
                </a:lnTo>
                <a:lnTo>
                  <a:pt x="150" y="5338"/>
                </a:lnTo>
                <a:lnTo>
                  <a:pt x="87" y="5313"/>
                </a:lnTo>
                <a:lnTo>
                  <a:pt x="53" y="5293"/>
                </a:lnTo>
                <a:lnTo>
                  <a:pt x="53" y="5259"/>
                </a:lnTo>
                <a:lnTo>
                  <a:pt x="53" y="5226"/>
                </a:lnTo>
                <a:lnTo>
                  <a:pt x="87" y="5123"/>
                </a:lnTo>
                <a:lnTo>
                  <a:pt x="87" y="5064"/>
                </a:lnTo>
                <a:lnTo>
                  <a:pt x="74" y="5006"/>
                </a:lnTo>
                <a:lnTo>
                  <a:pt x="9" y="4970"/>
                </a:lnTo>
                <a:lnTo>
                  <a:pt x="0" y="4925"/>
                </a:lnTo>
                <a:lnTo>
                  <a:pt x="22" y="4880"/>
                </a:lnTo>
                <a:lnTo>
                  <a:pt x="105" y="4835"/>
                </a:lnTo>
                <a:lnTo>
                  <a:pt x="128" y="4812"/>
                </a:lnTo>
                <a:lnTo>
                  <a:pt x="139" y="4788"/>
                </a:lnTo>
                <a:lnTo>
                  <a:pt x="128" y="4710"/>
                </a:lnTo>
                <a:lnTo>
                  <a:pt x="139" y="4676"/>
                </a:lnTo>
                <a:lnTo>
                  <a:pt x="163" y="4652"/>
                </a:lnTo>
                <a:lnTo>
                  <a:pt x="193" y="4595"/>
                </a:lnTo>
                <a:lnTo>
                  <a:pt x="224" y="4518"/>
                </a:lnTo>
                <a:lnTo>
                  <a:pt x="237" y="4481"/>
                </a:lnTo>
                <a:lnTo>
                  <a:pt x="216" y="4379"/>
                </a:lnTo>
                <a:lnTo>
                  <a:pt x="150" y="4171"/>
                </a:lnTo>
                <a:lnTo>
                  <a:pt x="74" y="4022"/>
                </a:lnTo>
                <a:lnTo>
                  <a:pt x="74" y="3977"/>
                </a:lnTo>
                <a:lnTo>
                  <a:pt x="95" y="3957"/>
                </a:lnTo>
                <a:lnTo>
                  <a:pt x="118" y="3930"/>
                </a:lnTo>
                <a:lnTo>
                  <a:pt x="128" y="3930"/>
                </a:lnTo>
                <a:lnTo>
                  <a:pt x="193" y="3946"/>
                </a:lnTo>
                <a:lnTo>
                  <a:pt x="237" y="3946"/>
                </a:lnTo>
                <a:lnTo>
                  <a:pt x="257" y="3877"/>
                </a:lnTo>
                <a:lnTo>
                  <a:pt x="300" y="3877"/>
                </a:lnTo>
                <a:lnTo>
                  <a:pt x="377" y="3930"/>
                </a:lnTo>
                <a:lnTo>
                  <a:pt x="429" y="3922"/>
                </a:lnTo>
                <a:lnTo>
                  <a:pt x="483" y="3885"/>
                </a:lnTo>
                <a:lnTo>
                  <a:pt x="560" y="3877"/>
                </a:lnTo>
                <a:lnTo>
                  <a:pt x="657" y="3877"/>
                </a:lnTo>
                <a:lnTo>
                  <a:pt x="691" y="3853"/>
                </a:lnTo>
                <a:lnTo>
                  <a:pt x="698" y="3829"/>
                </a:lnTo>
                <a:lnTo>
                  <a:pt x="698" y="3761"/>
                </a:lnTo>
                <a:lnTo>
                  <a:pt x="625" y="3681"/>
                </a:lnTo>
                <a:lnTo>
                  <a:pt x="625" y="3633"/>
                </a:lnTo>
                <a:lnTo>
                  <a:pt x="646" y="3612"/>
                </a:lnTo>
                <a:lnTo>
                  <a:pt x="679" y="3602"/>
                </a:lnTo>
                <a:lnTo>
                  <a:pt x="742" y="3602"/>
                </a:lnTo>
                <a:lnTo>
                  <a:pt x="806" y="3557"/>
                </a:lnTo>
                <a:lnTo>
                  <a:pt x="861" y="3452"/>
                </a:lnTo>
                <a:lnTo>
                  <a:pt x="871" y="3372"/>
                </a:lnTo>
                <a:lnTo>
                  <a:pt x="882" y="3268"/>
                </a:lnTo>
                <a:lnTo>
                  <a:pt x="861" y="3223"/>
                </a:lnTo>
                <a:lnTo>
                  <a:pt x="820" y="3213"/>
                </a:lnTo>
                <a:lnTo>
                  <a:pt x="731" y="3199"/>
                </a:lnTo>
                <a:lnTo>
                  <a:pt x="691" y="3189"/>
                </a:lnTo>
                <a:lnTo>
                  <a:pt x="657" y="3164"/>
                </a:lnTo>
                <a:lnTo>
                  <a:pt x="646" y="3132"/>
                </a:lnTo>
                <a:lnTo>
                  <a:pt x="679" y="3016"/>
                </a:lnTo>
                <a:lnTo>
                  <a:pt x="722" y="2961"/>
                </a:lnTo>
                <a:lnTo>
                  <a:pt x="755" y="2940"/>
                </a:lnTo>
                <a:lnTo>
                  <a:pt x="773" y="2940"/>
                </a:lnTo>
                <a:lnTo>
                  <a:pt x="861" y="2961"/>
                </a:lnTo>
                <a:lnTo>
                  <a:pt x="904" y="2961"/>
                </a:lnTo>
                <a:lnTo>
                  <a:pt x="926" y="2940"/>
                </a:lnTo>
                <a:lnTo>
                  <a:pt x="926" y="2882"/>
                </a:lnTo>
                <a:lnTo>
                  <a:pt x="904" y="2799"/>
                </a:lnTo>
                <a:lnTo>
                  <a:pt x="904" y="2756"/>
                </a:lnTo>
                <a:lnTo>
                  <a:pt x="938" y="2651"/>
                </a:lnTo>
                <a:lnTo>
                  <a:pt x="1001" y="2493"/>
                </a:lnTo>
                <a:lnTo>
                  <a:pt x="1024" y="2400"/>
                </a:lnTo>
                <a:lnTo>
                  <a:pt x="1001" y="2299"/>
                </a:lnTo>
                <a:lnTo>
                  <a:pt x="1013" y="2265"/>
                </a:lnTo>
                <a:lnTo>
                  <a:pt x="1055" y="2240"/>
                </a:lnTo>
                <a:lnTo>
                  <a:pt x="1055" y="2204"/>
                </a:lnTo>
                <a:lnTo>
                  <a:pt x="1099" y="2173"/>
                </a:lnTo>
                <a:lnTo>
                  <a:pt x="1151" y="2160"/>
                </a:lnTo>
                <a:lnTo>
                  <a:pt x="1151" y="2139"/>
                </a:lnTo>
                <a:lnTo>
                  <a:pt x="1129" y="2102"/>
                </a:lnTo>
                <a:lnTo>
                  <a:pt x="1001" y="2057"/>
                </a:lnTo>
                <a:lnTo>
                  <a:pt x="969" y="2022"/>
                </a:lnTo>
                <a:lnTo>
                  <a:pt x="957" y="2002"/>
                </a:lnTo>
                <a:lnTo>
                  <a:pt x="969" y="1944"/>
                </a:lnTo>
                <a:lnTo>
                  <a:pt x="991" y="1910"/>
                </a:lnTo>
                <a:lnTo>
                  <a:pt x="1013" y="1897"/>
                </a:lnTo>
                <a:lnTo>
                  <a:pt x="1088" y="1897"/>
                </a:lnTo>
                <a:lnTo>
                  <a:pt x="1099" y="1885"/>
                </a:lnTo>
                <a:lnTo>
                  <a:pt x="1066" y="1832"/>
                </a:lnTo>
                <a:lnTo>
                  <a:pt x="1076" y="1726"/>
                </a:lnTo>
                <a:lnTo>
                  <a:pt x="1099" y="1704"/>
                </a:lnTo>
                <a:lnTo>
                  <a:pt x="1151" y="1694"/>
                </a:lnTo>
                <a:lnTo>
                  <a:pt x="1217" y="1694"/>
                </a:lnTo>
                <a:lnTo>
                  <a:pt x="1282" y="1716"/>
                </a:lnTo>
                <a:lnTo>
                  <a:pt x="1422" y="1704"/>
                </a:lnTo>
                <a:lnTo>
                  <a:pt x="1529" y="1681"/>
                </a:lnTo>
                <a:lnTo>
                  <a:pt x="1636" y="1681"/>
                </a:lnTo>
                <a:lnTo>
                  <a:pt x="1681" y="1716"/>
                </a:lnTo>
                <a:lnTo>
                  <a:pt x="1767" y="1910"/>
                </a:lnTo>
                <a:lnTo>
                  <a:pt x="1746" y="1920"/>
                </a:lnTo>
                <a:lnTo>
                  <a:pt x="1732" y="1934"/>
                </a:lnTo>
                <a:lnTo>
                  <a:pt x="1732" y="2002"/>
                </a:lnTo>
                <a:lnTo>
                  <a:pt x="1746" y="2015"/>
                </a:lnTo>
                <a:lnTo>
                  <a:pt x="1777" y="2002"/>
                </a:lnTo>
                <a:lnTo>
                  <a:pt x="1789" y="2015"/>
                </a:lnTo>
                <a:lnTo>
                  <a:pt x="1831" y="2057"/>
                </a:lnTo>
                <a:lnTo>
                  <a:pt x="1864" y="2057"/>
                </a:lnTo>
                <a:lnTo>
                  <a:pt x="1886" y="2057"/>
                </a:lnTo>
                <a:lnTo>
                  <a:pt x="1886" y="2002"/>
                </a:lnTo>
                <a:lnTo>
                  <a:pt x="1842" y="1910"/>
                </a:lnTo>
                <a:lnTo>
                  <a:pt x="1831" y="1851"/>
                </a:lnTo>
                <a:lnTo>
                  <a:pt x="1854" y="1817"/>
                </a:lnTo>
                <a:lnTo>
                  <a:pt x="1864" y="1804"/>
                </a:lnTo>
                <a:lnTo>
                  <a:pt x="1896" y="1817"/>
                </a:lnTo>
                <a:lnTo>
                  <a:pt x="1940" y="1839"/>
                </a:lnTo>
                <a:lnTo>
                  <a:pt x="1948" y="1876"/>
                </a:lnTo>
                <a:lnTo>
                  <a:pt x="1980" y="1897"/>
                </a:lnTo>
                <a:lnTo>
                  <a:pt x="1994" y="1910"/>
                </a:lnTo>
                <a:lnTo>
                  <a:pt x="1994" y="1955"/>
                </a:lnTo>
                <a:lnTo>
                  <a:pt x="1980" y="2002"/>
                </a:lnTo>
                <a:lnTo>
                  <a:pt x="1973" y="2185"/>
                </a:lnTo>
                <a:lnTo>
                  <a:pt x="1961" y="2265"/>
                </a:lnTo>
                <a:lnTo>
                  <a:pt x="1973" y="2310"/>
                </a:lnTo>
                <a:lnTo>
                  <a:pt x="1961" y="2310"/>
                </a:lnTo>
                <a:lnTo>
                  <a:pt x="1973" y="2380"/>
                </a:lnTo>
                <a:lnTo>
                  <a:pt x="2036" y="2458"/>
                </a:lnTo>
                <a:lnTo>
                  <a:pt x="2059" y="2517"/>
                </a:lnTo>
                <a:lnTo>
                  <a:pt x="2077" y="2550"/>
                </a:lnTo>
                <a:lnTo>
                  <a:pt x="2110" y="2561"/>
                </a:lnTo>
                <a:lnTo>
                  <a:pt x="2175" y="2517"/>
                </a:lnTo>
                <a:lnTo>
                  <a:pt x="2240" y="2527"/>
                </a:lnTo>
                <a:lnTo>
                  <a:pt x="2273" y="2517"/>
                </a:lnTo>
                <a:lnTo>
                  <a:pt x="2263" y="2446"/>
                </a:lnTo>
                <a:lnTo>
                  <a:pt x="2240" y="2388"/>
                </a:lnTo>
                <a:lnTo>
                  <a:pt x="2220" y="2368"/>
                </a:lnTo>
                <a:lnTo>
                  <a:pt x="2167" y="2354"/>
                </a:lnTo>
                <a:lnTo>
                  <a:pt x="2077" y="2285"/>
                </a:lnTo>
                <a:lnTo>
                  <a:pt x="2046" y="2277"/>
                </a:lnTo>
                <a:lnTo>
                  <a:pt x="2004" y="2277"/>
                </a:lnTo>
                <a:lnTo>
                  <a:pt x="2036" y="1920"/>
                </a:lnTo>
                <a:lnTo>
                  <a:pt x="2036" y="1865"/>
                </a:lnTo>
                <a:lnTo>
                  <a:pt x="1994" y="1726"/>
                </a:lnTo>
                <a:lnTo>
                  <a:pt x="1994" y="1694"/>
                </a:lnTo>
                <a:lnTo>
                  <a:pt x="2014" y="1670"/>
                </a:lnTo>
                <a:lnTo>
                  <a:pt x="2026" y="1623"/>
                </a:lnTo>
                <a:lnTo>
                  <a:pt x="2046" y="1569"/>
                </a:lnTo>
                <a:lnTo>
                  <a:pt x="2090" y="1498"/>
                </a:lnTo>
                <a:lnTo>
                  <a:pt x="2123" y="1474"/>
                </a:lnTo>
                <a:lnTo>
                  <a:pt x="2154" y="1474"/>
                </a:lnTo>
                <a:lnTo>
                  <a:pt x="2208" y="1522"/>
                </a:lnTo>
                <a:lnTo>
                  <a:pt x="2263" y="1542"/>
                </a:lnTo>
                <a:lnTo>
                  <a:pt x="2358" y="1542"/>
                </a:lnTo>
                <a:lnTo>
                  <a:pt x="2423" y="1534"/>
                </a:lnTo>
                <a:lnTo>
                  <a:pt x="2520" y="1522"/>
                </a:lnTo>
                <a:lnTo>
                  <a:pt x="2532" y="1534"/>
                </a:lnTo>
                <a:lnTo>
                  <a:pt x="2403" y="1456"/>
                </a:lnTo>
                <a:lnTo>
                  <a:pt x="2325" y="1456"/>
                </a:lnTo>
                <a:lnTo>
                  <a:pt x="2307" y="1429"/>
                </a:lnTo>
                <a:lnTo>
                  <a:pt x="2307" y="1361"/>
                </a:lnTo>
                <a:lnTo>
                  <a:pt x="2273" y="1306"/>
                </a:lnTo>
                <a:lnTo>
                  <a:pt x="2263" y="1292"/>
                </a:lnTo>
                <a:lnTo>
                  <a:pt x="2263" y="1279"/>
                </a:lnTo>
                <a:lnTo>
                  <a:pt x="2325" y="1316"/>
                </a:lnTo>
                <a:lnTo>
                  <a:pt x="2358" y="1327"/>
                </a:lnTo>
                <a:lnTo>
                  <a:pt x="2382" y="1279"/>
                </a:lnTo>
                <a:lnTo>
                  <a:pt x="2392" y="1203"/>
                </a:lnTo>
                <a:lnTo>
                  <a:pt x="2382" y="1167"/>
                </a:lnTo>
                <a:lnTo>
                  <a:pt x="2284" y="1157"/>
                </a:lnTo>
                <a:lnTo>
                  <a:pt x="2295" y="1133"/>
                </a:lnTo>
                <a:lnTo>
                  <a:pt x="2307" y="1098"/>
                </a:lnTo>
                <a:lnTo>
                  <a:pt x="2295" y="1057"/>
                </a:lnTo>
                <a:lnTo>
                  <a:pt x="2295" y="1029"/>
                </a:lnTo>
                <a:lnTo>
                  <a:pt x="2372" y="983"/>
                </a:lnTo>
                <a:lnTo>
                  <a:pt x="2372" y="973"/>
                </a:lnTo>
                <a:lnTo>
                  <a:pt x="2358" y="962"/>
                </a:lnTo>
                <a:lnTo>
                  <a:pt x="2325" y="938"/>
                </a:lnTo>
                <a:lnTo>
                  <a:pt x="2273" y="938"/>
                </a:lnTo>
                <a:lnTo>
                  <a:pt x="2240" y="973"/>
                </a:lnTo>
                <a:lnTo>
                  <a:pt x="2220" y="962"/>
                </a:lnTo>
                <a:lnTo>
                  <a:pt x="2208" y="983"/>
                </a:lnTo>
                <a:lnTo>
                  <a:pt x="2175" y="983"/>
                </a:lnTo>
                <a:lnTo>
                  <a:pt x="2123" y="951"/>
                </a:lnTo>
                <a:lnTo>
                  <a:pt x="2110" y="915"/>
                </a:lnTo>
                <a:lnTo>
                  <a:pt x="2186" y="882"/>
                </a:lnTo>
                <a:lnTo>
                  <a:pt x="2251" y="870"/>
                </a:lnTo>
                <a:lnTo>
                  <a:pt x="2338" y="836"/>
                </a:lnTo>
                <a:lnTo>
                  <a:pt x="2372" y="801"/>
                </a:lnTo>
                <a:lnTo>
                  <a:pt x="2382" y="744"/>
                </a:lnTo>
                <a:lnTo>
                  <a:pt x="2382" y="709"/>
                </a:lnTo>
                <a:lnTo>
                  <a:pt x="2349" y="628"/>
                </a:lnTo>
                <a:lnTo>
                  <a:pt x="2273" y="526"/>
                </a:lnTo>
                <a:lnTo>
                  <a:pt x="2208" y="457"/>
                </a:lnTo>
                <a:lnTo>
                  <a:pt x="2167" y="367"/>
                </a:lnTo>
                <a:lnTo>
                  <a:pt x="2167" y="255"/>
                </a:lnTo>
                <a:lnTo>
                  <a:pt x="2142" y="243"/>
                </a:lnTo>
                <a:lnTo>
                  <a:pt x="2101" y="243"/>
                </a:lnTo>
                <a:lnTo>
                  <a:pt x="2046" y="255"/>
                </a:lnTo>
                <a:lnTo>
                  <a:pt x="1973" y="243"/>
                </a:lnTo>
                <a:lnTo>
                  <a:pt x="1948" y="367"/>
                </a:lnTo>
                <a:lnTo>
                  <a:pt x="1940" y="378"/>
                </a:lnTo>
                <a:lnTo>
                  <a:pt x="1919" y="392"/>
                </a:lnTo>
                <a:lnTo>
                  <a:pt x="1906" y="378"/>
                </a:lnTo>
                <a:lnTo>
                  <a:pt x="1906" y="311"/>
                </a:lnTo>
                <a:lnTo>
                  <a:pt x="1948" y="69"/>
                </a:lnTo>
                <a:lnTo>
                  <a:pt x="1973" y="24"/>
                </a:lnTo>
                <a:lnTo>
                  <a:pt x="1994" y="14"/>
                </a:lnTo>
                <a:lnTo>
                  <a:pt x="2014" y="0"/>
                </a:lnTo>
                <a:lnTo>
                  <a:pt x="2026" y="14"/>
                </a:lnTo>
                <a:lnTo>
                  <a:pt x="2026" y="24"/>
                </a:lnTo>
                <a:lnTo>
                  <a:pt x="2026" y="48"/>
                </a:lnTo>
                <a:lnTo>
                  <a:pt x="1994" y="126"/>
                </a:lnTo>
                <a:lnTo>
                  <a:pt x="1994" y="161"/>
                </a:lnTo>
                <a:lnTo>
                  <a:pt x="2026" y="195"/>
                </a:lnTo>
                <a:lnTo>
                  <a:pt x="2059" y="208"/>
                </a:lnTo>
                <a:lnTo>
                  <a:pt x="2154" y="208"/>
                </a:lnTo>
                <a:lnTo>
                  <a:pt x="2167" y="195"/>
                </a:lnTo>
                <a:lnTo>
                  <a:pt x="2175" y="139"/>
                </a:lnTo>
                <a:lnTo>
                  <a:pt x="2220" y="161"/>
                </a:lnTo>
                <a:lnTo>
                  <a:pt x="2273" y="171"/>
                </a:lnTo>
                <a:lnTo>
                  <a:pt x="2325" y="185"/>
                </a:lnTo>
                <a:lnTo>
                  <a:pt x="2382" y="195"/>
                </a:lnTo>
                <a:lnTo>
                  <a:pt x="2553" y="262"/>
                </a:lnTo>
                <a:lnTo>
                  <a:pt x="2618" y="297"/>
                </a:lnTo>
                <a:lnTo>
                  <a:pt x="2682" y="297"/>
                </a:lnTo>
                <a:lnTo>
                  <a:pt x="2768" y="255"/>
                </a:lnTo>
                <a:lnTo>
                  <a:pt x="2811" y="255"/>
                </a:lnTo>
                <a:lnTo>
                  <a:pt x="2843" y="287"/>
                </a:lnTo>
                <a:lnTo>
                  <a:pt x="2921" y="311"/>
                </a:lnTo>
                <a:lnTo>
                  <a:pt x="2996" y="378"/>
                </a:lnTo>
                <a:lnTo>
                  <a:pt x="3017" y="344"/>
                </a:lnTo>
                <a:lnTo>
                  <a:pt x="3060" y="415"/>
                </a:lnTo>
                <a:lnTo>
                  <a:pt x="3060" y="457"/>
                </a:lnTo>
                <a:lnTo>
                  <a:pt x="2954" y="596"/>
                </a:lnTo>
                <a:lnTo>
                  <a:pt x="2866" y="652"/>
                </a:lnTo>
                <a:lnTo>
                  <a:pt x="2825" y="675"/>
                </a:lnTo>
                <a:lnTo>
                  <a:pt x="2768" y="664"/>
                </a:lnTo>
                <a:lnTo>
                  <a:pt x="2758" y="675"/>
                </a:lnTo>
                <a:lnTo>
                  <a:pt x="2758" y="699"/>
                </a:lnTo>
                <a:lnTo>
                  <a:pt x="2801" y="732"/>
                </a:lnTo>
                <a:lnTo>
                  <a:pt x="2843" y="732"/>
                </a:lnTo>
                <a:lnTo>
                  <a:pt x="2876" y="722"/>
                </a:lnTo>
                <a:lnTo>
                  <a:pt x="2954" y="664"/>
                </a:lnTo>
                <a:lnTo>
                  <a:pt x="3073" y="539"/>
                </a:lnTo>
                <a:lnTo>
                  <a:pt x="3081" y="550"/>
                </a:lnTo>
                <a:lnTo>
                  <a:pt x="3092" y="584"/>
                </a:lnTo>
                <a:lnTo>
                  <a:pt x="3081" y="640"/>
                </a:lnTo>
                <a:lnTo>
                  <a:pt x="3060" y="689"/>
                </a:lnTo>
                <a:lnTo>
                  <a:pt x="3017" y="732"/>
                </a:lnTo>
                <a:lnTo>
                  <a:pt x="2985" y="767"/>
                </a:lnTo>
                <a:lnTo>
                  <a:pt x="3027" y="767"/>
                </a:lnTo>
                <a:lnTo>
                  <a:pt x="3104" y="744"/>
                </a:lnTo>
                <a:lnTo>
                  <a:pt x="3156" y="732"/>
                </a:lnTo>
                <a:lnTo>
                  <a:pt x="3177" y="744"/>
                </a:lnTo>
                <a:lnTo>
                  <a:pt x="3187" y="792"/>
                </a:lnTo>
                <a:lnTo>
                  <a:pt x="3177" y="857"/>
                </a:lnTo>
                <a:lnTo>
                  <a:pt x="3177" y="882"/>
                </a:lnTo>
                <a:lnTo>
                  <a:pt x="3187" y="882"/>
                </a:lnTo>
                <a:lnTo>
                  <a:pt x="3234" y="857"/>
                </a:lnTo>
                <a:lnTo>
                  <a:pt x="3298" y="836"/>
                </a:lnTo>
                <a:lnTo>
                  <a:pt x="3308" y="801"/>
                </a:lnTo>
                <a:lnTo>
                  <a:pt x="3319" y="792"/>
                </a:lnTo>
                <a:lnTo>
                  <a:pt x="3350" y="801"/>
                </a:lnTo>
                <a:lnTo>
                  <a:pt x="3395" y="849"/>
                </a:lnTo>
                <a:lnTo>
                  <a:pt x="3512" y="904"/>
                </a:lnTo>
                <a:lnTo>
                  <a:pt x="3588" y="962"/>
                </a:lnTo>
                <a:lnTo>
                  <a:pt x="3630" y="962"/>
                </a:lnTo>
                <a:lnTo>
                  <a:pt x="3642" y="951"/>
                </a:lnTo>
                <a:lnTo>
                  <a:pt x="3696" y="882"/>
                </a:lnTo>
                <a:lnTo>
                  <a:pt x="3707" y="882"/>
                </a:lnTo>
                <a:lnTo>
                  <a:pt x="3761" y="904"/>
                </a:lnTo>
                <a:lnTo>
                  <a:pt x="3793" y="904"/>
                </a:lnTo>
                <a:lnTo>
                  <a:pt x="3826" y="915"/>
                </a:lnTo>
                <a:lnTo>
                  <a:pt x="3826" y="951"/>
                </a:lnTo>
                <a:lnTo>
                  <a:pt x="3805" y="1029"/>
                </a:lnTo>
                <a:lnTo>
                  <a:pt x="3826" y="1109"/>
                </a:lnTo>
                <a:lnTo>
                  <a:pt x="3772" y="1157"/>
                </a:lnTo>
                <a:lnTo>
                  <a:pt x="3707" y="1190"/>
                </a:lnTo>
                <a:lnTo>
                  <a:pt x="3684" y="1225"/>
                </a:lnTo>
                <a:lnTo>
                  <a:pt x="3663" y="1225"/>
                </a:lnTo>
                <a:lnTo>
                  <a:pt x="3642" y="1203"/>
                </a:lnTo>
                <a:lnTo>
                  <a:pt x="3630" y="1238"/>
                </a:lnTo>
                <a:lnTo>
                  <a:pt x="3621" y="1292"/>
                </a:lnTo>
                <a:lnTo>
                  <a:pt x="3621" y="1337"/>
                </a:lnTo>
                <a:lnTo>
                  <a:pt x="3707" y="1384"/>
                </a:lnTo>
                <a:lnTo>
                  <a:pt x="3723" y="1399"/>
                </a:lnTo>
                <a:lnTo>
                  <a:pt x="3720" y="1457"/>
                </a:lnTo>
                <a:lnTo>
                  <a:pt x="3764" y="1480"/>
                </a:lnTo>
                <a:lnTo>
                  <a:pt x="3793" y="1480"/>
                </a:lnTo>
                <a:lnTo>
                  <a:pt x="3873" y="1413"/>
                </a:lnTo>
                <a:lnTo>
                  <a:pt x="3969" y="1422"/>
                </a:lnTo>
                <a:lnTo>
                  <a:pt x="4028" y="1447"/>
                </a:lnTo>
                <a:lnTo>
                  <a:pt x="4062" y="1484"/>
                </a:lnTo>
                <a:lnTo>
                  <a:pt x="4096" y="1480"/>
                </a:lnTo>
                <a:lnTo>
                  <a:pt x="4123" y="1447"/>
                </a:lnTo>
                <a:lnTo>
                  <a:pt x="4227" y="1371"/>
                </a:lnTo>
                <a:lnTo>
                  <a:pt x="4290" y="1295"/>
                </a:lnTo>
                <a:lnTo>
                  <a:pt x="4401" y="1227"/>
                </a:lnTo>
                <a:lnTo>
                  <a:pt x="4491" y="1221"/>
                </a:lnTo>
                <a:lnTo>
                  <a:pt x="4590" y="1193"/>
                </a:lnTo>
                <a:lnTo>
                  <a:pt x="4634" y="1145"/>
                </a:lnTo>
                <a:lnTo>
                  <a:pt x="4694" y="1133"/>
                </a:lnTo>
                <a:lnTo>
                  <a:pt x="4742" y="1088"/>
                </a:lnTo>
                <a:lnTo>
                  <a:pt x="4813" y="1071"/>
                </a:lnTo>
                <a:lnTo>
                  <a:pt x="4892" y="1016"/>
                </a:lnTo>
                <a:lnTo>
                  <a:pt x="4943" y="996"/>
                </a:lnTo>
                <a:lnTo>
                  <a:pt x="5060" y="971"/>
                </a:lnTo>
                <a:lnTo>
                  <a:pt x="5121" y="983"/>
                </a:lnTo>
                <a:lnTo>
                  <a:pt x="5169" y="996"/>
                </a:lnTo>
                <a:lnTo>
                  <a:pt x="5192" y="1033"/>
                </a:lnTo>
                <a:lnTo>
                  <a:pt x="5246" y="1033"/>
                </a:lnTo>
                <a:lnTo>
                  <a:pt x="5276" y="1058"/>
                </a:lnTo>
                <a:lnTo>
                  <a:pt x="5321" y="1108"/>
                </a:lnTo>
                <a:lnTo>
                  <a:pt x="5335" y="1145"/>
                </a:lnTo>
                <a:lnTo>
                  <a:pt x="5390" y="1186"/>
                </a:lnTo>
                <a:lnTo>
                  <a:pt x="5458" y="1210"/>
                </a:lnTo>
                <a:lnTo>
                  <a:pt x="5523" y="1235"/>
                </a:lnTo>
                <a:lnTo>
                  <a:pt x="5587" y="1235"/>
                </a:lnTo>
                <a:lnTo>
                  <a:pt x="5664" y="1266"/>
                </a:lnTo>
                <a:lnTo>
                  <a:pt x="5698" y="1371"/>
                </a:lnTo>
                <a:lnTo>
                  <a:pt x="5739" y="1471"/>
                </a:lnTo>
                <a:lnTo>
                  <a:pt x="5746" y="1497"/>
                </a:lnTo>
                <a:lnTo>
                  <a:pt x="5763" y="1522"/>
                </a:lnTo>
                <a:lnTo>
                  <a:pt x="5825" y="1578"/>
                </a:lnTo>
                <a:lnTo>
                  <a:pt x="5872" y="1636"/>
                </a:lnTo>
                <a:lnTo>
                  <a:pt x="5889" y="1671"/>
                </a:lnTo>
                <a:lnTo>
                  <a:pt x="5924" y="1706"/>
                </a:lnTo>
                <a:lnTo>
                  <a:pt x="5976" y="1745"/>
                </a:lnTo>
                <a:lnTo>
                  <a:pt x="6012" y="1797"/>
                </a:lnTo>
                <a:lnTo>
                  <a:pt x="6025" y="1861"/>
                </a:lnTo>
                <a:lnTo>
                  <a:pt x="6061" y="1933"/>
                </a:lnTo>
                <a:lnTo>
                  <a:pt x="6095" y="2063"/>
                </a:lnTo>
                <a:lnTo>
                  <a:pt x="6102" y="2185"/>
                </a:lnTo>
                <a:lnTo>
                  <a:pt x="6088" y="2235"/>
                </a:lnTo>
                <a:lnTo>
                  <a:pt x="6107" y="2339"/>
                </a:lnTo>
                <a:lnTo>
                  <a:pt x="6098" y="2393"/>
                </a:lnTo>
                <a:lnTo>
                  <a:pt x="6064" y="2460"/>
                </a:lnTo>
                <a:lnTo>
                  <a:pt x="6060" y="2564"/>
                </a:lnTo>
                <a:lnTo>
                  <a:pt x="6060" y="2748"/>
                </a:lnTo>
                <a:lnTo>
                  <a:pt x="6061" y="2842"/>
                </a:lnTo>
                <a:lnTo>
                  <a:pt x="6083" y="2940"/>
                </a:lnTo>
                <a:lnTo>
                  <a:pt x="6119" y="3042"/>
                </a:lnTo>
                <a:lnTo>
                  <a:pt x="6168" y="3080"/>
                </a:lnTo>
                <a:lnTo>
                  <a:pt x="6193" y="3116"/>
                </a:lnTo>
                <a:lnTo>
                  <a:pt x="6211" y="3207"/>
                </a:lnTo>
                <a:lnTo>
                  <a:pt x="6243" y="3271"/>
                </a:lnTo>
                <a:lnTo>
                  <a:pt x="6279" y="3328"/>
                </a:lnTo>
                <a:lnTo>
                  <a:pt x="6295" y="3400"/>
                </a:lnTo>
                <a:lnTo>
                  <a:pt x="6295" y="3468"/>
                </a:lnTo>
                <a:lnTo>
                  <a:pt x="6309" y="3530"/>
                </a:lnTo>
                <a:lnTo>
                  <a:pt x="6369" y="3605"/>
                </a:lnTo>
                <a:lnTo>
                  <a:pt x="6441" y="3796"/>
                </a:lnTo>
                <a:lnTo>
                  <a:pt x="6452" y="3868"/>
                </a:lnTo>
                <a:lnTo>
                  <a:pt x="6427" y="3930"/>
                </a:lnTo>
                <a:lnTo>
                  <a:pt x="6427" y="3970"/>
                </a:lnTo>
                <a:lnTo>
                  <a:pt x="6393" y="4020"/>
                </a:lnTo>
                <a:lnTo>
                  <a:pt x="6393" y="4069"/>
                </a:lnTo>
                <a:lnTo>
                  <a:pt x="6427" y="4107"/>
                </a:lnTo>
                <a:lnTo>
                  <a:pt x="6464" y="4158"/>
                </a:lnTo>
                <a:lnTo>
                  <a:pt x="6476" y="4281"/>
                </a:lnTo>
                <a:lnTo>
                  <a:pt x="6439" y="4344"/>
                </a:lnTo>
                <a:lnTo>
                  <a:pt x="6464" y="4423"/>
                </a:lnTo>
                <a:lnTo>
                  <a:pt x="6582" y="4445"/>
                </a:lnTo>
                <a:lnTo>
                  <a:pt x="6643" y="4533"/>
                </a:lnTo>
                <a:lnTo>
                  <a:pt x="6648" y="4617"/>
                </a:lnTo>
                <a:lnTo>
                  <a:pt x="6665" y="4735"/>
                </a:lnTo>
                <a:lnTo>
                  <a:pt x="6633" y="4870"/>
                </a:lnTo>
                <a:lnTo>
                  <a:pt x="6631" y="5038"/>
                </a:lnTo>
                <a:lnTo>
                  <a:pt x="6595" y="5164"/>
                </a:lnTo>
                <a:lnTo>
                  <a:pt x="6571" y="5226"/>
                </a:lnTo>
                <a:lnTo>
                  <a:pt x="6488" y="5238"/>
                </a:lnTo>
                <a:lnTo>
                  <a:pt x="6452" y="5149"/>
                </a:lnTo>
                <a:lnTo>
                  <a:pt x="6393" y="5126"/>
                </a:lnTo>
                <a:lnTo>
                  <a:pt x="6333" y="5137"/>
                </a:lnTo>
                <a:lnTo>
                  <a:pt x="6238" y="5062"/>
                </a:lnTo>
                <a:lnTo>
                  <a:pt x="6178" y="5086"/>
                </a:lnTo>
                <a:lnTo>
                  <a:pt x="6178" y="5137"/>
                </a:lnTo>
                <a:lnTo>
                  <a:pt x="6213" y="5187"/>
                </a:lnTo>
                <a:lnTo>
                  <a:pt x="6119" y="5275"/>
                </a:lnTo>
                <a:lnTo>
                  <a:pt x="6001" y="5311"/>
                </a:lnTo>
                <a:lnTo>
                  <a:pt x="5976" y="5350"/>
                </a:lnTo>
                <a:lnTo>
                  <a:pt x="5930" y="5386"/>
                </a:lnTo>
                <a:lnTo>
                  <a:pt x="5858" y="5386"/>
                </a:lnTo>
                <a:lnTo>
                  <a:pt x="5807" y="5434"/>
                </a:lnTo>
                <a:lnTo>
                  <a:pt x="5716" y="5443"/>
                </a:lnTo>
                <a:lnTo>
                  <a:pt x="5647" y="5529"/>
                </a:lnTo>
                <a:lnTo>
                  <a:pt x="5550" y="5576"/>
                </a:lnTo>
                <a:lnTo>
                  <a:pt x="5513" y="5613"/>
                </a:lnTo>
                <a:lnTo>
                  <a:pt x="5382" y="5640"/>
                </a:lnTo>
                <a:lnTo>
                  <a:pt x="5249" y="5737"/>
                </a:lnTo>
                <a:lnTo>
                  <a:pt x="5157" y="5816"/>
                </a:lnTo>
                <a:lnTo>
                  <a:pt x="5060" y="5840"/>
                </a:lnTo>
                <a:lnTo>
                  <a:pt x="5004" y="5915"/>
                </a:lnTo>
                <a:lnTo>
                  <a:pt x="4824" y="6041"/>
                </a:lnTo>
                <a:lnTo>
                  <a:pt x="4813" y="6153"/>
                </a:lnTo>
                <a:lnTo>
                  <a:pt x="4790" y="6153"/>
                </a:lnTo>
                <a:lnTo>
                  <a:pt x="4745" y="6078"/>
                </a:lnTo>
                <a:lnTo>
                  <a:pt x="4665" y="6172"/>
                </a:lnTo>
                <a:lnTo>
                  <a:pt x="4709" y="6241"/>
                </a:lnTo>
                <a:lnTo>
                  <a:pt x="4794" y="6272"/>
                </a:lnTo>
                <a:lnTo>
                  <a:pt x="4871" y="6331"/>
                </a:lnTo>
                <a:lnTo>
                  <a:pt x="4913" y="6354"/>
                </a:lnTo>
                <a:lnTo>
                  <a:pt x="4946" y="6389"/>
                </a:lnTo>
                <a:lnTo>
                  <a:pt x="4966" y="6456"/>
                </a:lnTo>
                <a:lnTo>
                  <a:pt x="4959" y="6507"/>
                </a:lnTo>
                <a:lnTo>
                  <a:pt x="4881" y="6596"/>
                </a:lnTo>
                <a:lnTo>
                  <a:pt x="4871" y="6689"/>
                </a:lnTo>
                <a:lnTo>
                  <a:pt x="4902" y="6709"/>
                </a:lnTo>
                <a:lnTo>
                  <a:pt x="4934" y="6754"/>
                </a:lnTo>
                <a:lnTo>
                  <a:pt x="4978" y="6856"/>
                </a:lnTo>
                <a:lnTo>
                  <a:pt x="5022" y="6914"/>
                </a:lnTo>
                <a:lnTo>
                  <a:pt x="5053" y="7019"/>
                </a:lnTo>
                <a:lnTo>
                  <a:pt x="5130" y="7098"/>
                </a:lnTo>
                <a:lnTo>
                  <a:pt x="5174" y="7131"/>
                </a:lnTo>
                <a:lnTo>
                  <a:pt x="5281" y="7153"/>
                </a:lnTo>
                <a:lnTo>
                  <a:pt x="5311" y="7166"/>
                </a:lnTo>
                <a:lnTo>
                  <a:pt x="5409" y="7281"/>
                </a:lnTo>
                <a:lnTo>
                  <a:pt x="5464" y="7361"/>
                </a:lnTo>
                <a:lnTo>
                  <a:pt x="5506" y="7408"/>
                </a:lnTo>
                <a:lnTo>
                  <a:pt x="5570" y="7428"/>
                </a:lnTo>
                <a:lnTo>
                  <a:pt x="5615" y="7452"/>
                </a:lnTo>
                <a:lnTo>
                  <a:pt x="5635" y="7497"/>
                </a:lnTo>
                <a:lnTo>
                  <a:pt x="5656" y="7567"/>
                </a:lnTo>
                <a:lnTo>
                  <a:pt x="5689" y="7598"/>
                </a:lnTo>
                <a:lnTo>
                  <a:pt x="5712" y="7598"/>
                </a:lnTo>
                <a:lnTo>
                  <a:pt x="5743" y="7578"/>
                </a:lnTo>
                <a:lnTo>
                  <a:pt x="5764" y="7578"/>
                </a:lnTo>
                <a:lnTo>
                  <a:pt x="5787" y="7598"/>
                </a:lnTo>
                <a:lnTo>
                  <a:pt x="5797" y="7625"/>
                </a:lnTo>
                <a:lnTo>
                  <a:pt x="5841" y="7646"/>
                </a:lnTo>
                <a:lnTo>
                  <a:pt x="5896" y="7646"/>
                </a:lnTo>
                <a:lnTo>
                  <a:pt x="5928" y="7668"/>
                </a:lnTo>
                <a:lnTo>
                  <a:pt x="5938" y="7701"/>
                </a:lnTo>
                <a:lnTo>
                  <a:pt x="5993" y="7807"/>
                </a:lnTo>
                <a:lnTo>
                  <a:pt x="5993" y="7840"/>
                </a:lnTo>
                <a:lnTo>
                  <a:pt x="5948" y="7932"/>
                </a:lnTo>
                <a:lnTo>
                  <a:pt x="5883" y="8014"/>
                </a:lnTo>
                <a:lnTo>
                  <a:pt x="5841" y="8025"/>
                </a:lnTo>
                <a:lnTo>
                  <a:pt x="5797" y="8014"/>
                </a:lnTo>
                <a:lnTo>
                  <a:pt x="5787" y="7998"/>
                </a:lnTo>
                <a:lnTo>
                  <a:pt x="5754" y="8025"/>
                </a:lnTo>
                <a:lnTo>
                  <a:pt x="5722" y="8079"/>
                </a:lnTo>
                <a:lnTo>
                  <a:pt x="5712" y="8148"/>
                </a:lnTo>
                <a:lnTo>
                  <a:pt x="5656" y="8239"/>
                </a:lnTo>
                <a:lnTo>
                  <a:pt x="5627" y="8342"/>
                </a:lnTo>
                <a:lnTo>
                  <a:pt x="5593" y="8401"/>
                </a:lnTo>
                <a:lnTo>
                  <a:pt x="5518" y="8401"/>
                </a:lnTo>
                <a:lnTo>
                  <a:pt x="5399" y="8432"/>
                </a:lnTo>
                <a:lnTo>
                  <a:pt x="5324" y="8481"/>
                </a:lnTo>
                <a:lnTo>
                  <a:pt x="5291" y="8513"/>
                </a:lnTo>
                <a:lnTo>
                  <a:pt x="5225" y="8615"/>
                </a:lnTo>
                <a:lnTo>
                  <a:pt x="5216" y="8639"/>
                </a:lnTo>
                <a:lnTo>
                  <a:pt x="5216" y="8674"/>
                </a:lnTo>
                <a:lnTo>
                  <a:pt x="5291" y="8778"/>
                </a:lnTo>
                <a:lnTo>
                  <a:pt x="5311" y="8820"/>
                </a:lnTo>
                <a:lnTo>
                  <a:pt x="5366" y="8881"/>
                </a:lnTo>
                <a:lnTo>
                  <a:pt x="5420" y="8960"/>
                </a:lnTo>
                <a:lnTo>
                  <a:pt x="5366" y="9005"/>
                </a:lnTo>
                <a:lnTo>
                  <a:pt x="5366" y="9051"/>
                </a:lnTo>
                <a:lnTo>
                  <a:pt x="5409" y="9119"/>
                </a:lnTo>
                <a:lnTo>
                  <a:pt x="5441" y="9164"/>
                </a:lnTo>
                <a:lnTo>
                  <a:pt x="5441" y="9269"/>
                </a:lnTo>
                <a:lnTo>
                  <a:pt x="5420" y="9370"/>
                </a:lnTo>
                <a:lnTo>
                  <a:pt x="5409" y="9382"/>
                </a:lnTo>
                <a:lnTo>
                  <a:pt x="5366" y="9361"/>
                </a:lnTo>
                <a:lnTo>
                  <a:pt x="5304" y="9336"/>
                </a:lnTo>
                <a:lnTo>
                  <a:pt x="5216" y="9269"/>
                </a:lnTo>
                <a:lnTo>
                  <a:pt x="5130" y="9164"/>
                </a:lnTo>
                <a:lnTo>
                  <a:pt x="5097" y="9164"/>
                </a:lnTo>
                <a:lnTo>
                  <a:pt x="5053" y="9164"/>
                </a:lnTo>
                <a:lnTo>
                  <a:pt x="4978" y="9222"/>
                </a:lnTo>
                <a:lnTo>
                  <a:pt x="4946" y="9212"/>
                </a:lnTo>
                <a:lnTo>
                  <a:pt x="4902" y="9119"/>
                </a:lnTo>
                <a:lnTo>
                  <a:pt x="4861" y="9073"/>
                </a:lnTo>
                <a:lnTo>
                  <a:pt x="4774" y="9031"/>
                </a:lnTo>
                <a:lnTo>
                  <a:pt x="4740" y="9015"/>
                </a:lnTo>
                <a:lnTo>
                  <a:pt x="4709" y="9039"/>
                </a:lnTo>
                <a:lnTo>
                  <a:pt x="4699" y="9073"/>
                </a:lnTo>
                <a:lnTo>
                  <a:pt x="4719" y="9154"/>
                </a:lnTo>
                <a:lnTo>
                  <a:pt x="4719" y="9164"/>
                </a:lnTo>
                <a:lnTo>
                  <a:pt x="4665" y="9235"/>
                </a:lnTo>
                <a:lnTo>
                  <a:pt x="4580" y="9280"/>
                </a:lnTo>
                <a:lnTo>
                  <a:pt x="4568" y="9291"/>
                </a:lnTo>
                <a:lnTo>
                  <a:pt x="4440" y="9336"/>
                </a:lnTo>
                <a:lnTo>
                  <a:pt x="4375" y="9336"/>
                </a:lnTo>
                <a:lnTo>
                  <a:pt x="4321" y="9304"/>
                </a:lnTo>
                <a:lnTo>
                  <a:pt x="4280" y="9304"/>
                </a:lnTo>
                <a:lnTo>
                  <a:pt x="4256" y="9325"/>
                </a:lnTo>
                <a:lnTo>
                  <a:pt x="4212" y="9370"/>
                </a:lnTo>
                <a:lnTo>
                  <a:pt x="4159" y="9382"/>
                </a:lnTo>
                <a:lnTo>
                  <a:pt x="4113" y="9406"/>
                </a:lnTo>
                <a:lnTo>
                  <a:pt x="4040" y="9486"/>
                </a:lnTo>
                <a:lnTo>
                  <a:pt x="3999" y="9498"/>
                </a:lnTo>
                <a:lnTo>
                  <a:pt x="3955" y="9475"/>
                </a:lnTo>
                <a:lnTo>
                  <a:pt x="3911" y="9475"/>
                </a:lnTo>
                <a:lnTo>
                  <a:pt x="3836" y="9509"/>
                </a:lnTo>
                <a:lnTo>
                  <a:pt x="3782" y="9509"/>
                </a:lnTo>
                <a:lnTo>
                  <a:pt x="3739" y="9486"/>
                </a:lnTo>
                <a:lnTo>
                  <a:pt x="3707" y="9427"/>
                </a:lnTo>
                <a:lnTo>
                  <a:pt x="3696" y="9349"/>
                </a:lnTo>
                <a:lnTo>
                  <a:pt x="3684" y="9349"/>
                </a:lnTo>
                <a:lnTo>
                  <a:pt x="3663" y="9349"/>
                </a:lnTo>
                <a:lnTo>
                  <a:pt x="3598" y="9370"/>
                </a:lnTo>
                <a:lnTo>
                  <a:pt x="3555" y="9349"/>
                </a:lnTo>
                <a:lnTo>
                  <a:pt x="3523" y="9349"/>
                </a:lnTo>
                <a:lnTo>
                  <a:pt x="3482" y="9361"/>
                </a:lnTo>
                <a:lnTo>
                  <a:pt x="3428" y="9361"/>
                </a:lnTo>
                <a:lnTo>
                  <a:pt x="3395" y="9336"/>
                </a:lnTo>
                <a:lnTo>
                  <a:pt x="3360" y="9291"/>
                </a:lnTo>
                <a:lnTo>
                  <a:pt x="3340" y="9291"/>
                </a:lnTo>
                <a:lnTo>
                  <a:pt x="3330" y="9304"/>
                </a:lnTo>
                <a:lnTo>
                  <a:pt x="3330" y="9336"/>
                </a:lnTo>
                <a:lnTo>
                  <a:pt x="3340" y="9451"/>
                </a:lnTo>
                <a:lnTo>
                  <a:pt x="3330" y="9519"/>
                </a:lnTo>
                <a:lnTo>
                  <a:pt x="3298" y="9577"/>
                </a:lnTo>
                <a:lnTo>
                  <a:pt x="3234" y="9635"/>
                </a:lnTo>
                <a:lnTo>
                  <a:pt x="3177" y="9669"/>
                </a:lnTo>
                <a:lnTo>
                  <a:pt x="3112" y="9669"/>
                </a:lnTo>
                <a:lnTo>
                  <a:pt x="3125" y="9621"/>
                </a:lnTo>
                <a:lnTo>
                  <a:pt x="3146" y="9544"/>
                </a:lnTo>
                <a:lnTo>
                  <a:pt x="3136" y="9532"/>
                </a:lnTo>
                <a:lnTo>
                  <a:pt x="3050" y="9519"/>
                </a:lnTo>
                <a:lnTo>
                  <a:pt x="3017" y="9451"/>
                </a:lnTo>
                <a:lnTo>
                  <a:pt x="2962" y="9349"/>
                </a:lnTo>
                <a:lnTo>
                  <a:pt x="2899" y="9336"/>
                </a:lnTo>
                <a:lnTo>
                  <a:pt x="2856" y="9291"/>
                </a:lnTo>
                <a:lnTo>
                  <a:pt x="2811" y="9280"/>
                </a:lnTo>
                <a:lnTo>
                  <a:pt x="2758" y="9336"/>
                </a:lnTo>
                <a:lnTo>
                  <a:pt x="2695" y="9304"/>
                </a:lnTo>
                <a:lnTo>
                  <a:pt x="2479" y="9212"/>
                </a:lnTo>
                <a:lnTo>
                  <a:pt x="2392" y="9154"/>
                </a:lnTo>
                <a:lnTo>
                  <a:pt x="2349" y="9109"/>
                </a:lnTo>
                <a:lnTo>
                  <a:pt x="2295" y="9073"/>
                </a:lnTo>
                <a:lnTo>
                  <a:pt x="2284" y="9086"/>
                </a:lnTo>
                <a:lnTo>
                  <a:pt x="2295" y="9119"/>
                </a:lnTo>
                <a:lnTo>
                  <a:pt x="2307" y="9164"/>
                </a:lnTo>
                <a:lnTo>
                  <a:pt x="2251" y="9164"/>
                </a:lnTo>
                <a:lnTo>
                  <a:pt x="2240" y="9164"/>
                </a:lnTo>
                <a:lnTo>
                  <a:pt x="2230" y="9199"/>
                </a:lnTo>
                <a:lnTo>
                  <a:pt x="2175" y="9235"/>
                </a:lnTo>
                <a:lnTo>
                  <a:pt x="2110" y="9235"/>
                </a:lnTo>
                <a:lnTo>
                  <a:pt x="2036" y="9199"/>
                </a:lnTo>
                <a:lnTo>
                  <a:pt x="1994" y="9134"/>
                </a:lnTo>
                <a:lnTo>
                  <a:pt x="1940" y="9097"/>
                </a:lnTo>
                <a:lnTo>
                  <a:pt x="1896" y="9051"/>
                </a:lnTo>
                <a:lnTo>
                  <a:pt x="1864" y="9063"/>
                </a:lnTo>
                <a:lnTo>
                  <a:pt x="1800" y="9097"/>
                </a:lnTo>
                <a:lnTo>
                  <a:pt x="1767" y="9134"/>
                </a:lnTo>
                <a:lnTo>
                  <a:pt x="1767" y="9212"/>
                </a:lnTo>
                <a:lnTo>
                  <a:pt x="1800" y="9315"/>
                </a:lnTo>
                <a:lnTo>
                  <a:pt x="1800" y="9336"/>
                </a:lnTo>
                <a:lnTo>
                  <a:pt x="1723" y="9336"/>
                </a:lnTo>
                <a:lnTo>
                  <a:pt x="1668" y="9304"/>
                </a:lnTo>
                <a:lnTo>
                  <a:pt x="1595" y="9291"/>
                </a:lnTo>
                <a:lnTo>
                  <a:pt x="1551" y="9291"/>
                </a:lnTo>
                <a:lnTo>
                  <a:pt x="1454" y="9325"/>
                </a:lnTo>
                <a:lnTo>
                  <a:pt x="1378" y="9315"/>
                </a:lnTo>
                <a:lnTo>
                  <a:pt x="1324" y="9280"/>
                </a:lnTo>
                <a:lnTo>
                  <a:pt x="1272" y="9269"/>
                </a:lnTo>
                <a:lnTo>
                  <a:pt x="1217" y="9349"/>
                </a:lnTo>
                <a:lnTo>
                  <a:pt x="1184" y="9361"/>
                </a:lnTo>
                <a:lnTo>
                  <a:pt x="1151" y="9349"/>
                </a:lnTo>
                <a:lnTo>
                  <a:pt x="1109" y="9325"/>
                </a:lnTo>
                <a:lnTo>
                  <a:pt x="1066" y="9254"/>
                </a:lnTo>
                <a:lnTo>
                  <a:pt x="1044" y="9212"/>
                </a:lnTo>
                <a:lnTo>
                  <a:pt x="1032" y="9109"/>
                </a:lnTo>
                <a:lnTo>
                  <a:pt x="1055" y="9015"/>
                </a:lnTo>
                <a:lnTo>
                  <a:pt x="1066" y="8960"/>
                </a:lnTo>
                <a:lnTo>
                  <a:pt x="1109" y="8915"/>
                </a:lnTo>
                <a:lnTo>
                  <a:pt x="1129" y="8799"/>
                </a:lnTo>
                <a:lnTo>
                  <a:pt x="1109" y="8663"/>
                </a:lnTo>
                <a:lnTo>
                  <a:pt x="1129" y="8574"/>
                </a:lnTo>
                <a:lnTo>
                  <a:pt x="1239" y="8422"/>
                </a:lnTo>
                <a:lnTo>
                  <a:pt x="1259" y="8367"/>
                </a:lnTo>
                <a:lnTo>
                  <a:pt x="1249" y="8287"/>
                </a:lnTo>
                <a:lnTo>
                  <a:pt x="1272" y="8216"/>
                </a:lnTo>
                <a:lnTo>
                  <a:pt x="1282" y="8127"/>
                </a:lnTo>
                <a:lnTo>
                  <a:pt x="1324" y="8025"/>
                </a:lnTo>
                <a:lnTo>
                  <a:pt x="1410" y="7943"/>
                </a:lnTo>
                <a:lnTo>
                  <a:pt x="1476" y="7851"/>
                </a:lnTo>
                <a:lnTo>
                  <a:pt x="1520" y="7807"/>
                </a:lnTo>
                <a:lnTo>
                  <a:pt x="1562" y="7773"/>
                </a:lnTo>
                <a:lnTo>
                  <a:pt x="1572" y="7762"/>
                </a:lnTo>
                <a:lnTo>
                  <a:pt x="1583" y="7715"/>
                </a:lnTo>
                <a:lnTo>
                  <a:pt x="1627" y="7657"/>
                </a:lnTo>
                <a:lnTo>
                  <a:pt x="1636" y="761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88960" y="434880"/>
            <a:ext cx="3973680" cy="6307200"/>
          </a:xfrm>
          <a:custGeom>
            <a:avLst/>
            <a:gdLst/>
            <a:ahLst/>
            <a:rect l="l" t="t" r="r" b="b"/>
            <a:pathLst>
              <a:path w="6665" h="9669">
                <a:moveTo>
                  <a:pt x="1636" y="7612"/>
                </a:moveTo>
                <a:lnTo>
                  <a:pt x="1562" y="7578"/>
                </a:lnTo>
                <a:lnTo>
                  <a:pt x="1508" y="7578"/>
                </a:lnTo>
                <a:lnTo>
                  <a:pt x="1464" y="7578"/>
                </a:lnTo>
                <a:lnTo>
                  <a:pt x="1335" y="7531"/>
                </a:lnTo>
                <a:lnTo>
                  <a:pt x="1239" y="7531"/>
                </a:lnTo>
                <a:lnTo>
                  <a:pt x="1129" y="7509"/>
                </a:lnTo>
                <a:lnTo>
                  <a:pt x="1076" y="7473"/>
                </a:lnTo>
                <a:lnTo>
                  <a:pt x="1055" y="7438"/>
                </a:lnTo>
                <a:lnTo>
                  <a:pt x="1055" y="7408"/>
                </a:lnTo>
                <a:lnTo>
                  <a:pt x="1032" y="7371"/>
                </a:lnTo>
                <a:lnTo>
                  <a:pt x="979" y="7361"/>
                </a:lnTo>
                <a:lnTo>
                  <a:pt x="969" y="7371"/>
                </a:lnTo>
                <a:lnTo>
                  <a:pt x="904" y="7371"/>
                </a:lnTo>
                <a:lnTo>
                  <a:pt x="861" y="7361"/>
                </a:lnTo>
                <a:lnTo>
                  <a:pt x="765" y="7316"/>
                </a:lnTo>
                <a:lnTo>
                  <a:pt x="679" y="7221"/>
                </a:lnTo>
                <a:lnTo>
                  <a:pt x="646" y="7213"/>
                </a:lnTo>
                <a:lnTo>
                  <a:pt x="625" y="7202"/>
                </a:lnTo>
                <a:lnTo>
                  <a:pt x="548" y="7236"/>
                </a:lnTo>
                <a:lnTo>
                  <a:pt x="475" y="7213"/>
                </a:lnTo>
                <a:lnTo>
                  <a:pt x="429" y="7166"/>
                </a:lnTo>
                <a:lnTo>
                  <a:pt x="353" y="7074"/>
                </a:lnTo>
                <a:lnTo>
                  <a:pt x="301" y="6950"/>
                </a:lnTo>
                <a:lnTo>
                  <a:pt x="248" y="6869"/>
                </a:lnTo>
                <a:lnTo>
                  <a:pt x="279" y="6787"/>
                </a:lnTo>
                <a:lnTo>
                  <a:pt x="322" y="6697"/>
                </a:lnTo>
                <a:lnTo>
                  <a:pt x="377" y="6559"/>
                </a:lnTo>
                <a:lnTo>
                  <a:pt x="377" y="6514"/>
                </a:lnTo>
                <a:lnTo>
                  <a:pt x="353" y="6491"/>
                </a:lnTo>
                <a:lnTo>
                  <a:pt x="257" y="6456"/>
                </a:lnTo>
                <a:lnTo>
                  <a:pt x="193" y="6412"/>
                </a:lnTo>
                <a:lnTo>
                  <a:pt x="150" y="6307"/>
                </a:lnTo>
                <a:lnTo>
                  <a:pt x="95" y="6262"/>
                </a:lnTo>
                <a:lnTo>
                  <a:pt x="87" y="6225"/>
                </a:lnTo>
                <a:lnTo>
                  <a:pt x="105" y="6125"/>
                </a:lnTo>
                <a:lnTo>
                  <a:pt x="95" y="6023"/>
                </a:lnTo>
                <a:lnTo>
                  <a:pt x="105" y="5944"/>
                </a:lnTo>
                <a:lnTo>
                  <a:pt x="150" y="5876"/>
                </a:lnTo>
                <a:lnTo>
                  <a:pt x="257" y="5818"/>
                </a:lnTo>
                <a:lnTo>
                  <a:pt x="301" y="5818"/>
                </a:lnTo>
                <a:lnTo>
                  <a:pt x="257" y="5818"/>
                </a:lnTo>
                <a:lnTo>
                  <a:pt x="289" y="5808"/>
                </a:lnTo>
                <a:lnTo>
                  <a:pt x="289" y="5713"/>
                </a:lnTo>
                <a:lnTo>
                  <a:pt x="279" y="5610"/>
                </a:lnTo>
                <a:lnTo>
                  <a:pt x="257" y="5590"/>
                </a:lnTo>
                <a:lnTo>
                  <a:pt x="203" y="5590"/>
                </a:lnTo>
                <a:lnTo>
                  <a:pt x="193" y="5577"/>
                </a:lnTo>
                <a:lnTo>
                  <a:pt x="172" y="5555"/>
                </a:lnTo>
                <a:lnTo>
                  <a:pt x="182" y="5521"/>
                </a:lnTo>
                <a:lnTo>
                  <a:pt x="224" y="5442"/>
                </a:lnTo>
                <a:lnTo>
                  <a:pt x="224" y="5406"/>
                </a:lnTo>
                <a:lnTo>
                  <a:pt x="216" y="5384"/>
                </a:lnTo>
                <a:lnTo>
                  <a:pt x="150" y="5338"/>
                </a:lnTo>
                <a:lnTo>
                  <a:pt x="87" y="5313"/>
                </a:lnTo>
                <a:lnTo>
                  <a:pt x="53" y="5293"/>
                </a:lnTo>
                <a:lnTo>
                  <a:pt x="53" y="5259"/>
                </a:lnTo>
                <a:lnTo>
                  <a:pt x="53" y="5227"/>
                </a:lnTo>
                <a:lnTo>
                  <a:pt x="87" y="5123"/>
                </a:lnTo>
                <a:lnTo>
                  <a:pt x="87" y="5064"/>
                </a:lnTo>
                <a:lnTo>
                  <a:pt x="74" y="5006"/>
                </a:lnTo>
                <a:lnTo>
                  <a:pt x="9" y="4970"/>
                </a:lnTo>
                <a:lnTo>
                  <a:pt x="0" y="4925"/>
                </a:lnTo>
                <a:lnTo>
                  <a:pt x="22" y="4880"/>
                </a:lnTo>
                <a:lnTo>
                  <a:pt x="105" y="4835"/>
                </a:lnTo>
                <a:lnTo>
                  <a:pt x="128" y="4812"/>
                </a:lnTo>
                <a:lnTo>
                  <a:pt x="139" y="4788"/>
                </a:lnTo>
                <a:lnTo>
                  <a:pt x="128" y="4710"/>
                </a:lnTo>
                <a:lnTo>
                  <a:pt x="139" y="4676"/>
                </a:lnTo>
                <a:lnTo>
                  <a:pt x="163" y="4652"/>
                </a:lnTo>
                <a:lnTo>
                  <a:pt x="193" y="4596"/>
                </a:lnTo>
                <a:lnTo>
                  <a:pt x="224" y="4518"/>
                </a:lnTo>
                <a:lnTo>
                  <a:pt x="237" y="4481"/>
                </a:lnTo>
                <a:lnTo>
                  <a:pt x="216" y="4379"/>
                </a:lnTo>
                <a:lnTo>
                  <a:pt x="150" y="4171"/>
                </a:lnTo>
                <a:lnTo>
                  <a:pt x="74" y="4023"/>
                </a:lnTo>
                <a:lnTo>
                  <a:pt x="74" y="3977"/>
                </a:lnTo>
                <a:lnTo>
                  <a:pt x="95" y="3957"/>
                </a:lnTo>
                <a:lnTo>
                  <a:pt x="118" y="3931"/>
                </a:lnTo>
                <a:lnTo>
                  <a:pt x="128" y="3931"/>
                </a:lnTo>
                <a:lnTo>
                  <a:pt x="193" y="3946"/>
                </a:lnTo>
                <a:lnTo>
                  <a:pt x="237" y="3946"/>
                </a:lnTo>
                <a:lnTo>
                  <a:pt x="257" y="3877"/>
                </a:lnTo>
                <a:lnTo>
                  <a:pt x="301" y="3877"/>
                </a:lnTo>
                <a:lnTo>
                  <a:pt x="377" y="3931"/>
                </a:lnTo>
                <a:lnTo>
                  <a:pt x="429" y="3922"/>
                </a:lnTo>
                <a:lnTo>
                  <a:pt x="483" y="3885"/>
                </a:lnTo>
                <a:lnTo>
                  <a:pt x="560" y="3877"/>
                </a:lnTo>
                <a:lnTo>
                  <a:pt x="657" y="3877"/>
                </a:lnTo>
                <a:lnTo>
                  <a:pt x="691" y="3853"/>
                </a:lnTo>
                <a:lnTo>
                  <a:pt x="698" y="3829"/>
                </a:lnTo>
                <a:lnTo>
                  <a:pt x="698" y="3761"/>
                </a:lnTo>
                <a:lnTo>
                  <a:pt x="625" y="3682"/>
                </a:lnTo>
                <a:lnTo>
                  <a:pt x="625" y="3633"/>
                </a:lnTo>
                <a:lnTo>
                  <a:pt x="646" y="3612"/>
                </a:lnTo>
                <a:lnTo>
                  <a:pt x="679" y="3602"/>
                </a:lnTo>
                <a:lnTo>
                  <a:pt x="742" y="3602"/>
                </a:lnTo>
                <a:lnTo>
                  <a:pt x="806" y="3557"/>
                </a:lnTo>
                <a:lnTo>
                  <a:pt x="861" y="3452"/>
                </a:lnTo>
                <a:lnTo>
                  <a:pt x="871" y="3372"/>
                </a:lnTo>
                <a:lnTo>
                  <a:pt x="882" y="3268"/>
                </a:lnTo>
                <a:lnTo>
                  <a:pt x="861" y="3223"/>
                </a:lnTo>
                <a:lnTo>
                  <a:pt x="820" y="3213"/>
                </a:lnTo>
                <a:lnTo>
                  <a:pt x="731" y="3199"/>
                </a:lnTo>
                <a:lnTo>
                  <a:pt x="691" y="3189"/>
                </a:lnTo>
                <a:lnTo>
                  <a:pt x="657" y="3164"/>
                </a:lnTo>
                <a:lnTo>
                  <a:pt x="646" y="3133"/>
                </a:lnTo>
                <a:lnTo>
                  <a:pt x="679" y="3017"/>
                </a:lnTo>
                <a:lnTo>
                  <a:pt x="722" y="2961"/>
                </a:lnTo>
                <a:lnTo>
                  <a:pt x="755" y="2940"/>
                </a:lnTo>
                <a:lnTo>
                  <a:pt x="773" y="2940"/>
                </a:lnTo>
                <a:lnTo>
                  <a:pt x="861" y="2961"/>
                </a:lnTo>
                <a:lnTo>
                  <a:pt x="904" y="2961"/>
                </a:lnTo>
                <a:lnTo>
                  <a:pt x="926" y="2940"/>
                </a:lnTo>
                <a:lnTo>
                  <a:pt x="926" y="2882"/>
                </a:lnTo>
                <a:lnTo>
                  <a:pt x="904" y="2799"/>
                </a:lnTo>
                <a:lnTo>
                  <a:pt x="904" y="2756"/>
                </a:lnTo>
                <a:lnTo>
                  <a:pt x="938" y="2652"/>
                </a:lnTo>
                <a:lnTo>
                  <a:pt x="1001" y="2493"/>
                </a:lnTo>
                <a:lnTo>
                  <a:pt x="1024" y="2400"/>
                </a:lnTo>
                <a:lnTo>
                  <a:pt x="1001" y="2299"/>
                </a:lnTo>
                <a:lnTo>
                  <a:pt x="1013" y="2265"/>
                </a:lnTo>
                <a:lnTo>
                  <a:pt x="1055" y="2240"/>
                </a:lnTo>
                <a:lnTo>
                  <a:pt x="1055" y="2204"/>
                </a:lnTo>
                <a:lnTo>
                  <a:pt x="1099" y="2173"/>
                </a:lnTo>
                <a:lnTo>
                  <a:pt x="1151" y="2161"/>
                </a:lnTo>
                <a:lnTo>
                  <a:pt x="1151" y="2139"/>
                </a:lnTo>
                <a:lnTo>
                  <a:pt x="1129" y="2103"/>
                </a:lnTo>
                <a:lnTo>
                  <a:pt x="1001" y="2057"/>
                </a:lnTo>
                <a:lnTo>
                  <a:pt x="969" y="2022"/>
                </a:lnTo>
                <a:lnTo>
                  <a:pt x="957" y="2002"/>
                </a:lnTo>
                <a:lnTo>
                  <a:pt x="969" y="1944"/>
                </a:lnTo>
                <a:lnTo>
                  <a:pt x="991" y="1910"/>
                </a:lnTo>
                <a:lnTo>
                  <a:pt x="1013" y="1897"/>
                </a:lnTo>
                <a:lnTo>
                  <a:pt x="1088" y="1897"/>
                </a:lnTo>
                <a:lnTo>
                  <a:pt x="1099" y="1885"/>
                </a:lnTo>
                <a:lnTo>
                  <a:pt x="1066" y="1832"/>
                </a:lnTo>
                <a:lnTo>
                  <a:pt x="1076" y="1726"/>
                </a:lnTo>
                <a:lnTo>
                  <a:pt x="1099" y="1704"/>
                </a:lnTo>
                <a:lnTo>
                  <a:pt x="1151" y="1694"/>
                </a:lnTo>
                <a:lnTo>
                  <a:pt x="1217" y="1694"/>
                </a:lnTo>
                <a:lnTo>
                  <a:pt x="1282" y="1716"/>
                </a:lnTo>
                <a:lnTo>
                  <a:pt x="1422" y="1704"/>
                </a:lnTo>
                <a:lnTo>
                  <a:pt x="1529" y="1681"/>
                </a:lnTo>
                <a:lnTo>
                  <a:pt x="1636" y="1681"/>
                </a:lnTo>
                <a:lnTo>
                  <a:pt x="1681" y="1716"/>
                </a:lnTo>
                <a:lnTo>
                  <a:pt x="1767" y="1910"/>
                </a:lnTo>
                <a:lnTo>
                  <a:pt x="1746" y="1920"/>
                </a:lnTo>
                <a:lnTo>
                  <a:pt x="1732" y="1934"/>
                </a:lnTo>
                <a:lnTo>
                  <a:pt x="1732" y="2002"/>
                </a:lnTo>
                <a:lnTo>
                  <a:pt x="1746" y="2015"/>
                </a:lnTo>
                <a:lnTo>
                  <a:pt x="1777" y="2002"/>
                </a:lnTo>
                <a:lnTo>
                  <a:pt x="1789" y="2015"/>
                </a:lnTo>
                <a:lnTo>
                  <a:pt x="1831" y="2057"/>
                </a:lnTo>
                <a:lnTo>
                  <a:pt x="1864" y="2057"/>
                </a:lnTo>
                <a:lnTo>
                  <a:pt x="1886" y="2057"/>
                </a:lnTo>
                <a:lnTo>
                  <a:pt x="1886" y="2002"/>
                </a:lnTo>
                <a:lnTo>
                  <a:pt x="1842" y="1910"/>
                </a:lnTo>
                <a:lnTo>
                  <a:pt x="1831" y="1851"/>
                </a:lnTo>
                <a:lnTo>
                  <a:pt x="1854" y="1817"/>
                </a:lnTo>
                <a:lnTo>
                  <a:pt x="1864" y="1804"/>
                </a:lnTo>
                <a:lnTo>
                  <a:pt x="1896" y="1817"/>
                </a:lnTo>
                <a:lnTo>
                  <a:pt x="1940" y="1839"/>
                </a:lnTo>
                <a:lnTo>
                  <a:pt x="1949" y="1876"/>
                </a:lnTo>
                <a:lnTo>
                  <a:pt x="1980" y="1897"/>
                </a:lnTo>
                <a:lnTo>
                  <a:pt x="1994" y="1910"/>
                </a:lnTo>
                <a:lnTo>
                  <a:pt x="1994" y="1955"/>
                </a:lnTo>
                <a:lnTo>
                  <a:pt x="1980" y="2002"/>
                </a:lnTo>
                <a:lnTo>
                  <a:pt x="1973" y="2185"/>
                </a:lnTo>
                <a:lnTo>
                  <a:pt x="1961" y="2265"/>
                </a:lnTo>
                <a:lnTo>
                  <a:pt x="1973" y="2311"/>
                </a:lnTo>
                <a:lnTo>
                  <a:pt x="1961" y="2311"/>
                </a:lnTo>
                <a:lnTo>
                  <a:pt x="1973" y="2380"/>
                </a:lnTo>
                <a:lnTo>
                  <a:pt x="2036" y="2458"/>
                </a:lnTo>
                <a:lnTo>
                  <a:pt x="2059" y="2517"/>
                </a:lnTo>
                <a:lnTo>
                  <a:pt x="2077" y="2550"/>
                </a:lnTo>
                <a:lnTo>
                  <a:pt x="2110" y="2561"/>
                </a:lnTo>
                <a:lnTo>
                  <a:pt x="2175" y="2517"/>
                </a:lnTo>
                <a:lnTo>
                  <a:pt x="2240" y="2527"/>
                </a:lnTo>
                <a:lnTo>
                  <a:pt x="2273" y="2517"/>
                </a:lnTo>
                <a:lnTo>
                  <a:pt x="2263" y="2446"/>
                </a:lnTo>
                <a:lnTo>
                  <a:pt x="2240" y="2388"/>
                </a:lnTo>
                <a:lnTo>
                  <a:pt x="2220" y="2369"/>
                </a:lnTo>
                <a:lnTo>
                  <a:pt x="2167" y="2354"/>
                </a:lnTo>
                <a:lnTo>
                  <a:pt x="2077" y="2285"/>
                </a:lnTo>
                <a:lnTo>
                  <a:pt x="2046" y="2277"/>
                </a:lnTo>
                <a:lnTo>
                  <a:pt x="2004" y="2277"/>
                </a:lnTo>
                <a:lnTo>
                  <a:pt x="2036" y="1920"/>
                </a:lnTo>
                <a:lnTo>
                  <a:pt x="2036" y="1865"/>
                </a:lnTo>
                <a:lnTo>
                  <a:pt x="1994" y="1726"/>
                </a:lnTo>
                <a:lnTo>
                  <a:pt x="1994" y="1694"/>
                </a:lnTo>
                <a:lnTo>
                  <a:pt x="2014" y="1670"/>
                </a:lnTo>
                <a:lnTo>
                  <a:pt x="2026" y="1623"/>
                </a:lnTo>
                <a:lnTo>
                  <a:pt x="2046" y="1569"/>
                </a:lnTo>
                <a:lnTo>
                  <a:pt x="2090" y="1498"/>
                </a:lnTo>
                <a:lnTo>
                  <a:pt x="2123" y="1474"/>
                </a:lnTo>
                <a:lnTo>
                  <a:pt x="2154" y="1474"/>
                </a:lnTo>
                <a:lnTo>
                  <a:pt x="2208" y="1523"/>
                </a:lnTo>
                <a:lnTo>
                  <a:pt x="2263" y="1542"/>
                </a:lnTo>
                <a:lnTo>
                  <a:pt x="2358" y="1542"/>
                </a:lnTo>
                <a:lnTo>
                  <a:pt x="2423" y="1534"/>
                </a:lnTo>
                <a:lnTo>
                  <a:pt x="2520" y="1523"/>
                </a:lnTo>
                <a:lnTo>
                  <a:pt x="2532" y="1534"/>
                </a:lnTo>
                <a:lnTo>
                  <a:pt x="2403" y="1456"/>
                </a:lnTo>
                <a:lnTo>
                  <a:pt x="2325" y="1456"/>
                </a:lnTo>
                <a:lnTo>
                  <a:pt x="2307" y="1429"/>
                </a:lnTo>
                <a:lnTo>
                  <a:pt x="2307" y="1361"/>
                </a:lnTo>
                <a:lnTo>
                  <a:pt x="2273" y="1306"/>
                </a:lnTo>
                <a:lnTo>
                  <a:pt x="2263" y="1292"/>
                </a:lnTo>
                <a:lnTo>
                  <a:pt x="2263" y="1279"/>
                </a:lnTo>
                <a:lnTo>
                  <a:pt x="2325" y="1316"/>
                </a:lnTo>
                <a:lnTo>
                  <a:pt x="2358" y="1327"/>
                </a:lnTo>
                <a:lnTo>
                  <a:pt x="2382" y="1279"/>
                </a:lnTo>
                <a:lnTo>
                  <a:pt x="2392" y="1203"/>
                </a:lnTo>
                <a:lnTo>
                  <a:pt x="2382" y="1167"/>
                </a:lnTo>
                <a:lnTo>
                  <a:pt x="2284" y="1157"/>
                </a:lnTo>
                <a:lnTo>
                  <a:pt x="2295" y="1133"/>
                </a:lnTo>
                <a:lnTo>
                  <a:pt x="2307" y="1098"/>
                </a:lnTo>
                <a:lnTo>
                  <a:pt x="2295" y="1057"/>
                </a:lnTo>
                <a:lnTo>
                  <a:pt x="2295" y="1029"/>
                </a:lnTo>
                <a:lnTo>
                  <a:pt x="2372" y="983"/>
                </a:lnTo>
                <a:lnTo>
                  <a:pt x="2372" y="974"/>
                </a:lnTo>
                <a:lnTo>
                  <a:pt x="2358" y="962"/>
                </a:lnTo>
                <a:lnTo>
                  <a:pt x="2325" y="938"/>
                </a:lnTo>
                <a:lnTo>
                  <a:pt x="2273" y="938"/>
                </a:lnTo>
                <a:lnTo>
                  <a:pt x="2240" y="974"/>
                </a:lnTo>
                <a:lnTo>
                  <a:pt x="2220" y="962"/>
                </a:lnTo>
                <a:lnTo>
                  <a:pt x="2208" y="983"/>
                </a:lnTo>
                <a:lnTo>
                  <a:pt x="2175" y="983"/>
                </a:lnTo>
                <a:lnTo>
                  <a:pt x="2123" y="951"/>
                </a:lnTo>
                <a:lnTo>
                  <a:pt x="2110" y="916"/>
                </a:lnTo>
                <a:lnTo>
                  <a:pt x="2186" y="882"/>
                </a:lnTo>
                <a:lnTo>
                  <a:pt x="2251" y="870"/>
                </a:lnTo>
                <a:lnTo>
                  <a:pt x="2338" y="836"/>
                </a:lnTo>
                <a:lnTo>
                  <a:pt x="2372" y="801"/>
                </a:lnTo>
                <a:lnTo>
                  <a:pt x="2382" y="744"/>
                </a:lnTo>
                <a:lnTo>
                  <a:pt x="2382" y="709"/>
                </a:lnTo>
                <a:lnTo>
                  <a:pt x="2349" y="628"/>
                </a:lnTo>
                <a:lnTo>
                  <a:pt x="2273" y="526"/>
                </a:lnTo>
                <a:lnTo>
                  <a:pt x="2208" y="457"/>
                </a:lnTo>
                <a:lnTo>
                  <a:pt x="2167" y="367"/>
                </a:lnTo>
                <a:lnTo>
                  <a:pt x="2167" y="255"/>
                </a:lnTo>
                <a:lnTo>
                  <a:pt x="2142" y="244"/>
                </a:lnTo>
                <a:lnTo>
                  <a:pt x="2101" y="244"/>
                </a:lnTo>
                <a:lnTo>
                  <a:pt x="2046" y="255"/>
                </a:lnTo>
                <a:lnTo>
                  <a:pt x="1973" y="244"/>
                </a:lnTo>
                <a:lnTo>
                  <a:pt x="1949" y="367"/>
                </a:lnTo>
                <a:lnTo>
                  <a:pt x="1940" y="378"/>
                </a:lnTo>
                <a:lnTo>
                  <a:pt x="1919" y="392"/>
                </a:lnTo>
                <a:lnTo>
                  <a:pt x="1906" y="378"/>
                </a:lnTo>
                <a:lnTo>
                  <a:pt x="1906" y="311"/>
                </a:lnTo>
                <a:lnTo>
                  <a:pt x="1949" y="69"/>
                </a:lnTo>
                <a:lnTo>
                  <a:pt x="1973" y="24"/>
                </a:lnTo>
                <a:lnTo>
                  <a:pt x="1994" y="14"/>
                </a:lnTo>
                <a:lnTo>
                  <a:pt x="2014" y="0"/>
                </a:lnTo>
                <a:lnTo>
                  <a:pt x="2026" y="14"/>
                </a:lnTo>
                <a:lnTo>
                  <a:pt x="2026" y="24"/>
                </a:lnTo>
                <a:lnTo>
                  <a:pt x="2026" y="48"/>
                </a:lnTo>
                <a:lnTo>
                  <a:pt x="1994" y="126"/>
                </a:lnTo>
                <a:lnTo>
                  <a:pt x="1994" y="161"/>
                </a:lnTo>
                <a:lnTo>
                  <a:pt x="2026" y="195"/>
                </a:lnTo>
                <a:lnTo>
                  <a:pt x="2059" y="208"/>
                </a:lnTo>
                <a:lnTo>
                  <a:pt x="2154" y="208"/>
                </a:lnTo>
                <a:lnTo>
                  <a:pt x="2167" y="195"/>
                </a:lnTo>
                <a:lnTo>
                  <a:pt x="2175" y="139"/>
                </a:lnTo>
                <a:lnTo>
                  <a:pt x="2220" y="161"/>
                </a:lnTo>
                <a:lnTo>
                  <a:pt x="2273" y="171"/>
                </a:lnTo>
                <a:lnTo>
                  <a:pt x="2325" y="186"/>
                </a:lnTo>
                <a:lnTo>
                  <a:pt x="2382" y="195"/>
                </a:lnTo>
                <a:lnTo>
                  <a:pt x="2553" y="262"/>
                </a:lnTo>
                <a:lnTo>
                  <a:pt x="2618" y="297"/>
                </a:lnTo>
                <a:lnTo>
                  <a:pt x="2682" y="297"/>
                </a:lnTo>
                <a:lnTo>
                  <a:pt x="2768" y="255"/>
                </a:lnTo>
                <a:lnTo>
                  <a:pt x="2811" y="255"/>
                </a:lnTo>
                <a:lnTo>
                  <a:pt x="2843" y="287"/>
                </a:lnTo>
                <a:lnTo>
                  <a:pt x="2921" y="311"/>
                </a:lnTo>
                <a:lnTo>
                  <a:pt x="2996" y="378"/>
                </a:lnTo>
                <a:lnTo>
                  <a:pt x="3017" y="344"/>
                </a:lnTo>
                <a:lnTo>
                  <a:pt x="3060" y="415"/>
                </a:lnTo>
                <a:lnTo>
                  <a:pt x="3060" y="457"/>
                </a:lnTo>
                <a:lnTo>
                  <a:pt x="2954" y="596"/>
                </a:lnTo>
                <a:lnTo>
                  <a:pt x="2866" y="652"/>
                </a:lnTo>
                <a:lnTo>
                  <a:pt x="2825" y="675"/>
                </a:lnTo>
                <a:lnTo>
                  <a:pt x="2768" y="664"/>
                </a:lnTo>
                <a:lnTo>
                  <a:pt x="2758" y="675"/>
                </a:lnTo>
                <a:lnTo>
                  <a:pt x="2758" y="699"/>
                </a:lnTo>
                <a:lnTo>
                  <a:pt x="2801" y="732"/>
                </a:lnTo>
                <a:lnTo>
                  <a:pt x="2843" y="732"/>
                </a:lnTo>
                <a:lnTo>
                  <a:pt x="2876" y="722"/>
                </a:lnTo>
                <a:lnTo>
                  <a:pt x="2954" y="664"/>
                </a:lnTo>
                <a:lnTo>
                  <a:pt x="3073" y="539"/>
                </a:lnTo>
                <a:lnTo>
                  <a:pt x="3081" y="551"/>
                </a:lnTo>
                <a:lnTo>
                  <a:pt x="3092" y="584"/>
                </a:lnTo>
                <a:lnTo>
                  <a:pt x="3081" y="640"/>
                </a:lnTo>
                <a:lnTo>
                  <a:pt x="3060" y="689"/>
                </a:lnTo>
                <a:lnTo>
                  <a:pt x="3017" y="732"/>
                </a:lnTo>
                <a:lnTo>
                  <a:pt x="2985" y="767"/>
                </a:lnTo>
                <a:lnTo>
                  <a:pt x="3027" y="767"/>
                </a:lnTo>
                <a:lnTo>
                  <a:pt x="3104" y="744"/>
                </a:lnTo>
                <a:lnTo>
                  <a:pt x="3156" y="732"/>
                </a:lnTo>
                <a:lnTo>
                  <a:pt x="3177" y="744"/>
                </a:lnTo>
                <a:lnTo>
                  <a:pt x="3187" y="792"/>
                </a:lnTo>
                <a:lnTo>
                  <a:pt x="3177" y="858"/>
                </a:lnTo>
                <a:lnTo>
                  <a:pt x="3177" y="882"/>
                </a:lnTo>
                <a:lnTo>
                  <a:pt x="3187" y="882"/>
                </a:lnTo>
                <a:lnTo>
                  <a:pt x="3234" y="858"/>
                </a:lnTo>
                <a:lnTo>
                  <a:pt x="3298" y="836"/>
                </a:lnTo>
                <a:lnTo>
                  <a:pt x="3308" y="801"/>
                </a:lnTo>
                <a:lnTo>
                  <a:pt x="3319" y="792"/>
                </a:lnTo>
                <a:lnTo>
                  <a:pt x="3350" y="801"/>
                </a:lnTo>
                <a:lnTo>
                  <a:pt x="3395" y="849"/>
                </a:lnTo>
                <a:lnTo>
                  <a:pt x="3512" y="904"/>
                </a:lnTo>
                <a:lnTo>
                  <a:pt x="3588" y="962"/>
                </a:lnTo>
                <a:lnTo>
                  <a:pt x="3630" y="962"/>
                </a:lnTo>
                <a:lnTo>
                  <a:pt x="3642" y="951"/>
                </a:lnTo>
                <a:lnTo>
                  <a:pt x="3696" y="882"/>
                </a:lnTo>
                <a:lnTo>
                  <a:pt x="3707" y="882"/>
                </a:lnTo>
                <a:lnTo>
                  <a:pt x="3761" y="904"/>
                </a:lnTo>
                <a:lnTo>
                  <a:pt x="3793" y="904"/>
                </a:lnTo>
                <a:lnTo>
                  <a:pt x="3826" y="916"/>
                </a:lnTo>
                <a:lnTo>
                  <a:pt x="3826" y="951"/>
                </a:lnTo>
                <a:lnTo>
                  <a:pt x="3805" y="1029"/>
                </a:lnTo>
                <a:lnTo>
                  <a:pt x="3826" y="1109"/>
                </a:lnTo>
                <a:lnTo>
                  <a:pt x="3772" y="1157"/>
                </a:lnTo>
                <a:lnTo>
                  <a:pt x="3707" y="1190"/>
                </a:lnTo>
                <a:lnTo>
                  <a:pt x="3684" y="1225"/>
                </a:lnTo>
                <a:lnTo>
                  <a:pt x="3663" y="1225"/>
                </a:lnTo>
                <a:lnTo>
                  <a:pt x="3642" y="1203"/>
                </a:lnTo>
                <a:lnTo>
                  <a:pt x="3630" y="1238"/>
                </a:lnTo>
                <a:lnTo>
                  <a:pt x="3621" y="1292"/>
                </a:lnTo>
                <a:lnTo>
                  <a:pt x="3621" y="1337"/>
                </a:lnTo>
                <a:lnTo>
                  <a:pt x="3707" y="1384"/>
                </a:lnTo>
                <a:lnTo>
                  <a:pt x="3723" y="1399"/>
                </a:lnTo>
                <a:lnTo>
                  <a:pt x="3720" y="1457"/>
                </a:lnTo>
                <a:lnTo>
                  <a:pt x="3764" y="1480"/>
                </a:lnTo>
                <a:lnTo>
                  <a:pt x="3793" y="1480"/>
                </a:lnTo>
                <a:lnTo>
                  <a:pt x="3873" y="1414"/>
                </a:lnTo>
                <a:lnTo>
                  <a:pt x="3969" y="1422"/>
                </a:lnTo>
                <a:lnTo>
                  <a:pt x="4028" y="1448"/>
                </a:lnTo>
                <a:lnTo>
                  <a:pt x="4062" y="1484"/>
                </a:lnTo>
                <a:lnTo>
                  <a:pt x="4096" y="1480"/>
                </a:lnTo>
                <a:lnTo>
                  <a:pt x="4123" y="1448"/>
                </a:lnTo>
                <a:lnTo>
                  <a:pt x="4227" y="1371"/>
                </a:lnTo>
                <a:lnTo>
                  <a:pt x="4290" y="1295"/>
                </a:lnTo>
                <a:lnTo>
                  <a:pt x="4401" y="1227"/>
                </a:lnTo>
                <a:lnTo>
                  <a:pt x="4491" y="1221"/>
                </a:lnTo>
                <a:lnTo>
                  <a:pt x="4590" y="1193"/>
                </a:lnTo>
                <a:lnTo>
                  <a:pt x="4634" y="1145"/>
                </a:lnTo>
                <a:lnTo>
                  <a:pt x="4694" y="1133"/>
                </a:lnTo>
                <a:lnTo>
                  <a:pt x="4742" y="1088"/>
                </a:lnTo>
                <a:lnTo>
                  <a:pt x="4813" y="1071"/>
                </a:lnTo>
                <a:lnTo>
                  <a:pt x="4892" y="1016"/>
                </a:lnTo>
                <a:lnTo>
                  <a:pt x="4943" y="996"/>
                </a:lnTo>
                <a:lnTo>
                  <a:pt x="5060" y="971"/>
                </a:lnTo>
                <a:lnTo>
                  <a:pt x="5121" y="983"/>
                </a:lnTo>
                <a:lnTo>
                  <a:pt x="5169" y="996"/>
                </a:lnTo>
                <a:lnTo>
                  <a:pt x="5192" y="1033"/>
                </a:lnTo>
                <a:lnTo>
                  <a:pt x="5246" y="1033"/>
                </a:lnTo>
                <a:lnTo>
                  <a:pt x="5276" y="1058"/>
                </a:lnTo>
                <a:lnTo>
                  <a:pt x="5321" y="1108"/>
                </a:lnTo>
                <a:lnTo>
                  <a:pt x="5335" y="1145"/>
                </a:lnTo>
                <a:lnTo>
                  <a:pt x="5390" y="1186"/>
                </a:lnTo>
                <a:lnTo>
                  <a:pt x="5458" y="1210"/>
                </a:lnTo>
                <a:lnTo>
                  <a:pt x="5523" y="1235"/>
                </a:lnTo>
                <a:lnTo>
                  <a:pt x="5587" y="1235"/>
                </a:lnTo>
                <a:lnTo>
                  <a:pt x="5664" y="1266"/>
                </a:lnTo>
                <a:lnTo>
                  <a:pt x="5698" y="1371"/>
                </a:lnTo>
                <a:lnTo>
                  <a:pt x="5739" y="1472"/>
                </a:lnTo>
                <a:lnTo>
                  <a:pt x="5746" y="1497"/>
                </a:lnTo>
                <a:lnTo>
                  <a:pt x="5763" y="1523"/>
                </a:lnTo>
                <a:lnTo>
                  <a:pt x="5825" y="1578"/>
                </a:lnTo>
                <a:lnTo>
                  <a:pt x="5872" y="1636"/>
                </a:lnTo>
                <a:lnTo>
                  <a:pt x="5889" y="1671"/>
                </a:lnTo>
                <a:lnTo>
                  <a:pt x="5924" y="1706"/>
                </a:lnTo>
                <a:lnTo>
                  <a:pt x="5976" y="1745"/>
                </a:lnTo>
                <a:lnTo>
                  <a:pt x="6012" y="1797"/>
                </a:lnTo>
                <a:lnTo>
                  <a:pt x="6025" y="1861"/>
                </a:lnTo>
                <a:lnTo>
                  <a:pt x="6061" y="1933"/>
                </a:lnTo>
                <a:lnTo>
                  <a:pt x="6095" y="2063"/>
                </a:lnTo>
                <a:lnTo>
                  <a:pt x="6102" y="2185"/>
                </a:lnTo>
                <a:lnTo>
                  <a:pt x="6088" y="2236"/>
                </a:lnTo>
                <a:lnTo>
                  <a:pt x="6107" y="2339"/>
                </a:lnTo>
                <a:lnTo>
                  <a:pt x="6098" y="2393"/>
                </a:lnTo>
                <a:lnTo>
                  <a:pt x="6064" y="2461"/>
                </a:lnTo>
                <a:lnTo>
                  <a:pt x="6060" y="2564"/>
                </a:lnTo>
                <a:lnTo>
                  <a:pt x="6060" y="2748"/>
                </a:lnTo>
                <a:lnTo>
                  <a:pt x="6061" y="2843"/>
                </a:lnTo>
                <a:lnTo>
                  <a:pt x="6083" y="2940"/>
                </a:lnTo>
                <a:lnTo>
                  <a:pt x="6119" y="3042"/>
                </a:lnTo>
                <a:lnTo>
                  <a:pt x="6168" y="3080"/>
                </a:lnTo>
                <a:lnTo>
                  <a:pt x="6193" y="3116"/>
                </a:lnTo>
                <a:lnTo>
                  <a:pt x="6211" y="3208"/>
                </a:lnTo>
                <a:lnTo>
                  <a:pt x="6243" y="3271"/>
                </a:lnTo>
                <a:lnTo>
                  <a:pt x="6279" y="3328"/>
                </a:lnTo>
                <a:lnTo>
                  <a:pt x="6295" y="3400"/>
                </a:lnTo>
                <a:lnTo>
                  <a:pt x="6295" y="3468"/>
                </a:lnTo>
                <a:lnTo>
                  <a:pt x="6309" y="3530"/>
                </a:lnTo>
                <a:lnTo>
                  <a:pt x="6369" y="3605"/>
                </a:lnTo>
                <a:lnTo>
                  <a:pt x="6441" y="3796"/>
                </a:lnTo>
                <a:lnTo>
                  <a:pt x="6452" y="3868"/>
                </a:lnTo>
                <a:lnTo>
                  <a:pt x="6427" y="3931"/>
                </a:lnTo>
                <a:lnTo>
                  <a:pt x="6427" y="3970"/>
                </a:lnTo>
                <a:lnTo>
                  <a:pt x="6393" y="4020"/>
                </a:lnTo>
                <a:lnTo>
                  <a:pt x="6393" y="4069"/>
                </a:lnTo>
                <a:lnTo>
                  <a:pt x="6427" y="4107"/>
                </a:lnTo>
                <a:lnTo>
                  <a:pt x="6464" y="4158"/>
                </a:lnTo>
                <a:lnTo>
                  <a:pt x="6476" y="4281"/>
                </a:lnTo>
                <a:lnTo>
                  <a:pt x="6439" y="4344"/>
                </a:lnTo>
                <a:lnTo>
                  <a:pt x="6464" y="4423"/>
                </a:lnTo>
                <a:lnTo>
                  <a:pt x="6582" y="4446"/>
                </a:lnTo>
                <a:lnTo>
                  <a:pt x="6643" y="4533"/>
                </a:lnTo>
                <a:lnTo>
                  <a:pt x="6648" y="4617"/>
                </a:lnTo>
                <a:lnTo>
                  <a:pt x="6665" y="4736"/>
                </a:lnTo>
                <a:lnTo>
                  <a:pt x="6633" y="4870"/>
                </a:lnTo>
                <a:lnTo>
                  <a:pt x="6631" y="5038"/>
                </a:lnTo>
                <a:lnTo>
                  <a:pt x="6595" y="5164"/>
                </a:lnTo>
                <a:lnTo>
                  <a:pt x="6571" y="5227"/>
                </a:lnTo>
                <a:lnTo>
                  <a:pt x="6488" y="5238"/>
                </a:lnTo>
                <a:lnTo>
                  <a:pt x="6452" y="5149"/>
                </a:lnTo>
                <a:lnTo>
                  <a:pt x="6393" y="5126"/>
                </a:lnTo>
                <a:lnTo>
                  <a:pt x="6333" y="5137"/>
                </a:lnTo>
                <a:lnTo>
                  <a:pt x="6238" y="5062"/>
                </a:lnTo>
                <a:lnTo>
                  <a:pt x="6178" y="5086"/>
                </a:lnTo>
                <a:lnTo>
                  <a:pt x="6178" y="5137"/>
                </a:lnTo>
                <a:lnTo>
                  <a:pt x="6213" y="5187"/>
                </a:lnTo>
                <a:lnTo>
                  <a:pt x="6119" y="5275"/>
                </a:lnTo>
                <a:lnTo>
                  <a:pt x="6001" y="5311"/>
                </a:lnTo>
                <a:lnTo>
                  <a:pt x="5976" y="5350"/>
                </a:lnTo>
                <a:lnTo>
                  <a:pt x="5930" y="5386"/>
                </a:lnTo>
                <a:lnTo>
                  <a:pt x="5858" y="5386"/>
                </a:lnTo>
                <a:lnTo>
                  <a:pt x="5807" y="5434"/>
                </a:lnTo>
                <a:lnTo>
                  <a:pt x="5716" y="5443"/>
                </a:lnTo>
                <a:lnTo>
                  <a:pt x="5647" y="5529"/>
                </a:lnTo>
                <a:lnTo>
                  <a:pt x="5550" y="5576"/>
                </a:lnTo>
                <a:lnTo>
                  <a:pt x="5513" y="5613"/>
                </a:lnTo>
                <a:lnTo>
                  <a:pt x="5382" y="5640"/>
                </a:lnTo>
                <a:lnTo>
                  <a:pt x="5249" y="5737"/>
                </a:lnTo>
                <a:lnTo>
                  <a:pt x="5157" y="5817"/>
                </a:lnTo>
                <a:lnTo>
                  <a:pt x="5060" y="5841"/>
                </a:lnTo>
                <a:lnTo>
                  <a:pt x="5004" y="5916"/>
                </a:lnTo>
                <a:lnTo>
                  <a:pt x="4824" y="6041"/>
                </a:lnTo>
                <a:lnTo>
                  <a:pt x="4813" y="6153"/>
                </a:lnTo>
                <a:lnTo>
                  <a:pt x="4790" y="6153"/>
                </a:lnTo>
                <a:lnTo>
                  <a:pt x="4745" y="6078"/>
                </a:lnTo>
                <a:lnTo>
                  <a:pt x="4665" y="6172"/>
                </a:lnTo>
                <a:lnTo>
                  <a:pt x="4709" y="6241"/>
                </a:lnTo>
                <a:lnTo>
                  <a:pt x="4794" y="6272"/>
                </a:lnTo>
                <a:lnTo>
                  <a:pt x="4871" y="6331"/>
                </a:lnTo>
                <a:lnTo>
                  <a:pt x="4913" y="6354"/>
                </a:lnTo>
                <a:lnTo>
                  <a:pt x="4946" y="6390"/>
                </a:lnTo>
                <a:lnTo>
                  <a:pt x="4966" y="6456"/>
                </a:lnTo>
                <a:lnTo>
                  <a:pt x="4959" y="6507"/>
                </a:lnTo>
                <a:lnTo>
                  <a:pt x="4881" y="6596"/>
                </a:lnTo>
                <a:lnTo>
                  <a:pt x="4871" y="6689"/>
                </a:lnTo>
                <a:lnTo>
                  <a:pt x="4902" y="6709"/>
                </a:lnTo>
                <a:lnTo>
                  <a:pt x="4934" y="6755"/>
                </a:lnTo>
                <a:lnTo>
                  <a:pt x="4978" y="6856"/>
                </a:lnTo>
                <a:lnTo>
                  <a:pt x="5022" y="6914"/>
                </a:lnTo>
                <a:lnTo>
                  <a:pt x="5053" y="7019"/>
                </a:lnTo>
                <a:lnTo>
                  <a:pt x="5130" y="7098"/>
                </a:lnTo>
                <a:lnTo>
                  <a:pt x="5174" y="7131"/>
                </a:lnTo>
                <a:lnTo>
                  <a:pt x="5281" y="7154"/>
                </a:lnTo>
                <a:lnTo>
                  <a:pt x="5311" y="7166"/>
                </a:lnTo>
                <a:lnTo>
                  <a:pt x="5409" y="7281"/>
                </a:lnTo>
                <a:lnTo>
                  <a:pt x="5464" y="7361"/>
                </a:lnTo>
                <a:lnTo>
                  <a:pt x="5506" y="7408"/>
                </a:lnTo>
                <a:lnTo>
                  <a:pt x="5570" y="7428"/>
                </a:lnTo>
                <a:lnTo>
                  <a:pt x="5615" y="7452"/>
                </a:lnTo>
                <a:lnTo>
                  <a:pt x="5635" y="7497"/>
                </a:lnTo>
                <a:lnTo>
                  <a:pt x="5656" y="7567"/>
                </a:lnTo>
                <a:lnTo>
                  <a:pt x="5689" y="7598"/>
                </a:lnTo>
                <a:lnTo>
                  <a:pt x="5712" y="7598"/>
                </a:lnTo>
                <a:lnTo>
                  <a:pt x="5743" y="7578"/>
                </a:lnTo>
                <a:lnTo>
                  <a:pt x="5764" y="7578"/>
                </a:lnTo>
                <a:lnTo>
                  <a:pt x="5787" y="7598"/>
                </a:lnTo>
                <a:lnTo>
                  <a:pt x="5797" y="7625"/>
                </a:lnTo>
                <a:lnTo>
                  <a:pt x="5841" y="7646"/>
                </a:lnTo>
                <a:lnTo>
                  <a:pt x="5896" y="7646"/>
                </a:lnTo>
                <a:lnTo>
                  <a:pt x="5928" y="7669"/>
                </a:lnTo>
                <a:lnTo>
                  <a:pt x="5938" y="7701"/>
                </a:lnTo>
                <a:lnTo>
                  <a:pt x="5993" y="7807"/>
                </a:lnTo>
                <a:lnTo>
                  <a:pt x="5993" y="7840"/>
                </a:lnTo>
                <a:lnTo>
                  <a:pt x="5948" y="7932"/>
                </a:lnTo>
                <a:lnTo>
                  <a:pt x="5883" y="8014"/>
                </a:lnTo>
                <a:lnTo>
                  <a:pt x="5841" y="8025"/>
                </a:lnTo>
                <a:lnTo>
                  <a:pt x="5797" y="8014"/>
                </a:lnTo>
                <a:lnTo>
                  <a:pt x="5787" y="7998"/>
                </a:lnTo>
                <a:lnTo>
                  <a:pt x="5754" y="8025"/>
                </a:lnTo>
                <a:lnTo>
                  <a:pt x="5722" y="8079"/>
                </a:lnTo>
                <a:lnTo>
                  <a:pt x="5712" y="8148"/>
                </a:lnTo>
                <a:lnTo>
                  <a:pt x="5656" y="8239"/>
                </a:lnTo>
                <a:lnTo>
                  <a:pt x="5627" y="8342"/>
                </a:lnTo>
                <a:lnTo>
                  <a:pt x="5593" y="8401"/>
                </a:lnTo>
                <a:lnTo>
                  <a:pt x="5518" y="8401"/>
                </a:lnTo>
                <a:lnTo>
                  <a:pt x="5399" y="8433"/>
                </a:lnTo>
                <a:lnTo>
                  <a:pt x="5324" y="8481"/>
                </a:lnTo>
                <a:lnTo>
                  <a:pt x="5291" y="8513"/>
                </a:lnTo>
                <a:lnTo>
                  <a:pt x="5225" y="8615"/>
                </a:lnTo>
                <a:lnTo>
                  <a:pt x="5216" y="8639"/>
                </a:lnTo>
                <a:lnTo>
                  <a:pt x="5216" y="8674"/>
                </a:lnTo>
                <a:lnTo>
                  <a:pt x="5291" y="8778"/>
                </a:lnTo>
                <a:lnTo>
                  <a:pt x="5311" y="8820"/>
                </a:lnTo>
                <a:lnTo>
                  <a:pt x="5366" y="8881"/>
                </a:lnTo>
                <a:lnTo>
                  <a:pt x="5420" y="8960"/>
                </a:lnTo>
                <a:lnTo>
                  <a:pt x="5366" y="9006"/>
                </a:lnTo>
                <a:lnTo>
                  <a:pt x="5366" y="9051"/>
                </a:lnTo>
                <a:lnTo>
                  <a:pt x="5409" y="9119"/>
                </a:lnTo>
                <a:lnTo>
                  <a:pt x="5441" y="9164"/>
                </a:lnTo>
                <a:lnTo>
                  <a:pt x="5441" y="9269"/>
                </a:lnTo>
                <a:lnTo>
                  <a:pt x="5420" y="9371"/>
                </a:lnTo>
                <a:lnTo>
                  <a:pt x="5409" y="9382"/>
                </a:lnTo>
                <a:lnTo>
                  <a:pt x="5366" y="9361"/>
                </a:lnTo>
                <a:lnTo>
                  <a:pt x="5304" y="9337"/>
                </a:lnTo>
                <a:lnTo>
                  <a:pt x="5216" y="9269"/>
                </a:lnTo>
                <a:lnTo>
                  <a:pt x="5130" y="9164"/>
                </a:lnTo>
                <a:lnTo>
                  <a:pt x="5097" y="9164"/>
                </a:lnTo>
                <a:lnTo>
                  <a:pt x="5053" y="9164"/>
                </a:lnTo>
                <a:lnTo>
                  <a:pt x="4978" y="9222"/>
                </a:lnTo>
                <a:lnTo>
                  <a:pt x="4946" y="9212"/>
                </a:lnTo>
                <a:lnTo>
                  <a:pt x="4902" y="9119"/>
                </a:lnTo>
                <a:lnTo>
                  <a:pt x="4861" y="9073"/>
                </a:lnTo>
                <a:lnTo>
                  <a:pt x="4774" y="9031"/>
                </a:lnTo>
                <a:lnTo>
                  <a:pt x="4740" y="9015"/>
                </a:lnTo>
                <a:lnTo>
                  <a:pt x="4709" y="9039"/>
                </a:lnTo>
                <a:lnTo>
                  <a:pt x="4699" y="9073"/>
                </a:lnTo>
                <a:lnTo>
                  <a:pt x="4719" y="9154"/>
                </a:lnTo>
                <a:lnTo>
                  <a:pt x="4719" y="9164"/>
                </a:lnTo>
                <a:lnTo>
                  <a:pt x="4665" y="9235"/>
                </a:lnTo>
                <a:lnTo>
                  <a:pt x="4580" y="9280"/>
                </a:lnTo>
                <a:lnTo>
                  <a:pt x="4568" y="9291"/>
                </a:lnTo>
                <a:lnTo>
                  <a:pt x="4440" y="9337"/>
                </a:lnTo>
                <a:lnTo>
                  <a:pt x="4375" y="9337"/>
                </a:lnTo>
                <a:lnTo>
                  <a:pt x="4321" y="9304"/>
                </a:lnTo>
                <a:lnTo>
                  <a:pt x="4280" y="9304"/>
                </a:lnTo>
                <a:lnTo>
                  <a:pt x="4256" y="9325"/>
                </a:lnTo>
                <a:lnTo>
                  <a:pt x="4212" y="9371"/>
                </a:lnTo>
                <a:lnTo>
                  <a:pt x="4159" y="9382"/>
                </a:lnTo>
                <a:lnTo>
                  <a:pt x="4113" y="9406"/>
                </a:lnTo>
                <a:lnTo>
                  <a:pt x="4040" y="9487"/>
                </a:lnTo>
                <a:lnTo>
                  <a:pt x="3999" y="9498"/>
                </a:lnTo>
                <a:lnTo>
                  <a:pt x="3955" y="9475"/>
                </a:lnTo>
                <a:lnTo>
                  <a:pt x="3911" y="9475"/>
                </a:lnTo>
                <a:lnTo>
                  <a:pt x="3836" y="9509"/>
                </a:lnTo>
                <a:lnTo>
                  <a:pt x="3782" y="9509"/>
                </a:lnTo>
                <a:lnTo>
                  <a:pt x="3739" y="9487"/>
                </a:lnTo>
                <a:lnTo>
                  <a:pt x="3707" y="9427"/>
                </a:lnTo>
                <a:lnTo>
                  <a:pt x="3696" y="9349"/>
                </a:lnTo>
                <a:lnTo>
                  <a:pt x="3684" y="9349"/>
                </a:lnTo>
                <a:lnTo>
                  <a:pt x="3663" y="9349"/>
                </a:lnTo>
                <a:lnTo>
                  <a:pt x="3598" y="9371"/>
                </a:lnTo>
                <a:lnTo>
                  <a:pt x="3555" y="9349"/>
                </a:lnTo>
                <a:lnTo>
                  <a:pt x="3523" y="9349"/>
                </a:lnTo>
                <a:lnTo>
                  <a:pt x="3482" y="9361"/>
                </a:lnTo>
                <a:lnTo>
                  <a:pt x="3428" y="9361"/>
                </a:lnTo>
                <a:lnTo>
                  <a:pt x="3395" y="9337"/>
                </a:lnTo>
                <a:lnTo>
                  <a:pt x="3360" y="9291"/>
                </a:lnTo>
                <a:lnTo>
                  <a:pt x="3340" y="9291"/>
                </a:lnTo>
                <a:lnTo>
                  <a:pt x="3330" y="9304"/>
                </a:lnTo>
                <a:lnTo>
                  <a:pt x="3330" y="9337"/>
                </a:lnTo>
                <a:lnTo>
                  <a:pt x="3340" y="9451"/>
                </a:lnTo>
                <a:lnTo>
                  <a:pt x="3330" y="9519"/>
                </a:lnTo>
                <a:lnTo>
                  <a:pt x="3298" y="9577"/>
                </a:lnTo>
                <a:lnTo>
                  <a:pt x="3234" y="9635"/>
                </a:lnTo>
                <a:lnTo>
                  <a:pt x="3177" y="9669"/>
                </a:lnTo>
                <a:lnTo>
                  <a:pt x="3112" y="9669"/>
                </a:lnTo>
                <a:lnTo>
                  <a:pt x="3125" y="9621"/>
                </a:lnTo>
                <a:lnTo>
                  <a:pt x="3146" y="9545"/>
                </a:lnTo>
                <a:lnTo>
                  <a:pt x="3136" y="9532"/>
                </a:lnTo>
                <a:lnTo>
                  <a:pt x="3050" y="9519"/>
                </a:lnTo>
                <a:lnTo>
                  <a:pt x="3017" y="9451"/>
                </a:lnTo>
                <a:lnTo>
                  <a:pt x="2962" y="9349"/>
                </a:lnTo>
                <a:lnTo>
                  <a:pt x="2899" y="9337"/>
                </a:lnTo>
                <a:lnTo>
                  <a:pt x="2856" y="9291"/>
                </a:lnTo>
                <a:lnTo>
                  <a:pt x="2811" y="9280"/>
                </a:lnTo>
                <a:lnTo>
                  <a:pt x="2758" y="9337"/>
                </a:lnTo>
                <a:lnTo>
                  <a:pt x="2695" y="9304"/>
                </a:lnTo>
                <a:lnTo>
                  <a:pt x="2479" y="9212"/>
                </a:lnTo>
                <a:lnTo>
                  <a:pt x="2392" y="9154"/>
                </a:lnTo>
                <a:lnTo>
                  <a:pt x="2349" y="9109"/>
                </a:lnTo>
                <a:lnTo>
                  <a:pt x="2295" y="9073"/>
                </a:lnTo>
                <a:lnTo>
                  <a:pt x="2284" y="9086"/>
                </a:lnTo>
                <a:lnTo>
                  <a:pt x="2295" y="9119"/>
                </a:lnTo>
                <a:lnTo>
                  <a:pt x="2307" y="9164"/>
                </a:lnTo>
                <a:lnTo>
                  <a:pt x="2251" y="9164"/>
                </a:lnTo>
                <a:lnTo>
                  <a:pt x="2240" y="9164"/>
                </a:lnTo>
                <a:lnTo>
                  <a:pt x="2230" y="9199"/>
                </a:lnTo>
                <a:lnTo>
                  <a:pt x="2175" y="9235"/>
                </a:lnTo>
                <a:lnTo>
                  <a:pt x="2110" y="9235"/>
                </a:lnTo>
                <a:lnTo>
                  <a:pt x="2036" y="9199"/>
                </a:lnTo>
                <a:lnTo>
                  <a:pt x="1994" y="9134"/>
                </a:lnTo>
                <a:lnTo>
                  <a:pt x="1940" y="9097"/>
                </a:lnTo>
                <a:lnTo>
                  <a:pt x="1896" y="9051"/>
                </a:lnTo>
                <a:lnTo>
                  <a:pt x="1864" y="9064"/>
                </a:lnTo>
                <a:lnTo>
                  <a:pt x="1800" y="9097"/>
                </a:lnTo>
                <a:lnTo>
                  <a:pt x="1767" y="9134"/>
                </a:lnTo>
                <a:lnTo>
                  <a:pt x="1767" y="9212"/>
                </a:lnTo>
                <a:lnTo>
                  <a:pt x="1800" y="9315"/>
                </a:lnTo>
                <a:lnTo>
                  <a:pt x="1800" y="9337"/>
                </a:lnTo>
                <a:lnTo>
                  <a:pt x="1723" y="9337"/>
                </a:lnTo>
                <a:lnTo>
                  <a:pt x="1668" y="9304"/>
                </a:lnTo>
                <a:lnTo>
                  <a:pt x="1595" y="9291"/>
                </a:lnTo>
                <a:lnTo>
                  <a:pt x="1551" y="9291"/>
                </a:lnTo>
                <a:lnTo>
                  <a:pt x="1454" y="9325"/>
                </a:lnTo>
                <a:lnTo>
                  <a:pt x="1378" y="9315"/>
                </a:lnTo>
                <a:lnTo>
                  <a:pt x="1324" y="9280"/>
                </a:lnTo>
                <a:lnTo>
                  <a:pt x="1272" y="9269"/>
                </a:lnTo>
                <a:lnTo>
                  <a:pt x="1217" y="9349"/>
                </a:lnTo>
                <a:lnTo>
                  <a:pt x="1184" y="9361"/>
                </a:lnTo>
                <a:lnTo>
                  <a:pt x="1151" y="9349"/>
                </a:lnTo>
                <a:lnTo>
                  <a:pt x="1109" y="9325"/>
                </a:lnTo>
                <a:lnTo>
                  <a:pt x="1066" y="9255"/>
                </a:lnTo>
                <a:lnTo>
                  <a:pt x="1044" y="9212"/>
                </a:lnTo>
                <a:lnTo>
                  <a:pt x="1032" y="9109"/>
                </a:lnTo>
                <a:lnTo>
                  <a:pt x="1055" y="9015"/>
                </a:lnTo>
                <a:lnTo>
                  <a:pt x="1066" y="8960"/>
                </a:lnTo>
                <a:lnTo>
                  <a:pt x="1109" y="8915"/>
                </a:lnTo>
                <a:lnTo>
                  <a:pt x="1129" y="8799"/>
                </a:lnTo>
                <a:lnTo>
                  <a:pt x="1109" y="8663"/>
                </a:lnTo>
                <a:lnTo>
                  <a:pt x="1129" y="8574"/>
                </a:lnTo>
                <a:lnTo>
                  <a:pt x="1239" y="8423"/>
                </a:lnTo>
                <a:lnTo>
                  <a:pt x="1259" y="8367"/>
                </a:lnTo>
                <a:lnTo>
                  <a:pt x="1249" y="8287"/>
                </a:lnTo>
                <a:lnTo>
                  <a:pt x="1272" y="8216"/>
                </a:lnTo>
                <a:lnTo>
                  <a:pt x="1282" y="8127"/>
                </a:lnTo>
                <a:lnTo>
                  <a:pt x="1324" y="8025"/>
                </a:lnTo>
                <a:lnTo>
                  <a:pt x="1410" y="7943"/>
                </a:lnTo>
                <a:lnTo>
                  <a:pt x="1476" y="7851"/>
                </a:lnTo>
                <a:lnTo>
                  <a:pt x="1520" y="7807"/>
                </a:lnTo>
                <a:lnTo>
                  <a:pt x="1562" y="7773"/>
                </a:lnTo>
                <a:lnTo>
                  <a:pt x="1572" y="7762"/>
                </a:lnTo>
                <a:lnTo>
                  <a:pt x="1583" y="7715"/>
                </a:lnTo>
                <a:lnTo>
                  <a:pt x="1627" y="7657"/>
                </a:lnTo>
                <a:lnTo>
                  <a:pt x="1636" y="7612"/>
                </a:lnTo>
                <a:close/>
              </a:path>
            </a:pathLst>
          </a:custGeom>
          <a:solidFill>
            <a:srgbClr val="fbd128"/>
          </a:soli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406760" y="977760"/>
            <a:ext cx="168480" cy="96840"/>
          </a:xfrm>
          <a:custGeom>
            <a:avLst/>
            <a:gdLst/>
            <a:ahLst/>
            <a:rect l="l" t="t" r="r" b="b"/>
            <a:pathLst>
              <a:path w="280" h="147">
                <a:moveTo>
                  <a:pt x="11" y="69"/>
                </a:moveTo>
                <a:lnTo>
                  <a:pt x="68" y="28"/>
                </a:lnTo>
                <a:lnTo>
                  <a:pt x="238" y="0"/>
                </a:lnTo>
                <a:lnTo>
                  <a:pt x="280" y="35"/>
                </a:lnTo>
                <a:lnTo>
                  <a:pt x="270" y="75"/>
                </a:lnTo>
                <a:lnTo>
                  <a:pt x="219" y="87"/>
                </a:lnTo>
                <a:lnTo>
                  <a:pt x="143" y="121"/>
                </a:lnTo>
                <a:lnTo>
                  <a:pt x="49" y="147"/>
                </a:lnTo>
                <a:lnTo>
                  <a:pt x="0" y="140"/>
                </a:lnTo>
                <a:lnTo>
                  <a:pt x="11" y="6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22880" y="884160"/>
            <a:ext cx="164880" cy="95400"/>
          </a:xfrm>
          <a:custGeom>
            <a:avLst/>
            <a:gdLst/>
            <a:ahLst/>
            <a:rect l="l" t="t" r="r" b="b"/>
            <a:pathLst>
              <a:path w="280" h="147">
                <a:moveTo>
                  <a:pt x="11" y="69"/>
                </a:moveTo>
                <a:lnTo>
                  <a:pt x="68" y="28"/>
                </a:lnTo>
                <a:lnTo>
                  <a:pt x="238" y="0"/>
                </a:lnTo>
                <a:lnTo>
                  <a:pt x="280" y="35"/>
                </a:lnTo>
                <a:lnTo>
                  <a:pt x="270" y="75"/>
                </a:lnTo>
                <a:lnTo>
                  <a:pt x="219" y="87"/>
                </a:lnTo>
                <a:lnTo>
                  <a:pt x="143" y="121"/>
                </a:lnTo>
                <a:lnTo>
                  <a:pt x="49" y="147"/>
                </a:lnTo>
                <a:lnTo>
                  <a:pt x="0" y="140"/>
                </a:lnTo>
                <a:lnTo>
                  <a:pt x="11" y="69"/>
                </a:lnTo>
                <a:close/>
              </a:path>
            </a:pathLst>
          </a:custGeom>
          <a:solidFill>
            <a:srgbClr val="fbd128"/>
          </a:soli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708440" y="861840"/>
            <a:ext cx="179640" cy="263520"/>
          </a:xfrm>
          <a:custGeom>
            <a:avLst/>
            <a:gdLst/>
            <a:ahLst/>
            <a:rect l="l" t="t" r="r" b="b"/>
            <a:pathLst>
              <a:path w="300" h="410">
                <a:moveTo>
                  <a:pt x="133" y="410"/>
                </a:moveTo>
                <a:lnTo>
                  <a:pt x="283" y="378"/>
                </a:lnTo>
                <a:lnTo>
                  <a:pt x="300" y="335"/>
                </a:lnTo>
                <a:lnTo>
                  <a:pt x="283" y="300"/>
                </a:lnTo>
                <a:lnTo>
                  <a:pt x="261" y="236"/>
                </a:lnTo>
                <a:lnTo>
                  <a:pt x="283" y="207"/>
                </a:lnTo>
                <a:lnTo>
                  <a:pt x="295" y="105"/>
                </a:lnTo>
                <a:lnTo>
                  <a:pt x="153" y="0"/>
                </a:lnTo>
                <a:lnTo>
                  <a:pt x="130" y="57"/>
                </a:lnTo>
                <a:lnTo>
                  <a:pt x="140" y="127"/>
                </a:lnTo>
                <a:lnTo>
                  <a:pt x="94" y="170"/>
                </a:lnTo>
                <a:lnTo>
                  <a:pt x="41" y="214"/>
                </a:lnTo>
                <a:lnTo>
                  <a:pt x="0" y="306"/>
                </a:lnTo>
                <a:lnTo>
                  <a:pt x="24" y="366"/>
                </a:lnTo>
                <a:lnTo>
                  <a:pt x="133" y="41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622760" y="766800"/>
            <a:ext cx="177840" cy="268200"/>
          </a:xfrm>
          <a:custGeom>
            <a:avLst/>
            <a:gdLst/>
            <a:ahLst/>
            <a:rect l="l" t="t" r="r" b="b"/>
            <a:pathLst>
              <a:path w="300" h="410">
                <a:moveTo>
                  <a:pt x="133" y="410"/>
                </a:moveTo>
                <a:lnTo>
                  <a:pt x="283" y="378"/>
                </a:lnTo>
                <a:lnTo>
                  <a:pt x="300" y="335"/>
                </a:lnTo>
                <a:lnTo>
                  <a:pt x="283" y="300"/>
                </a:lnTo>
                <a:lnTo>
                  <a:pt x="261" y="236"/>
                </a:lnTo>
                <a:lnTo>
                  <a:pt x="283" y="207"/>
                </a:lnTo>
                <a:lnTo>
                  <a:pt x="295" y="105"/>
                </a:lnTo>
                <a:lnTo>
                  <a:pt x="153" y="0"/>
                </a:lnTo>
                <a:lnTo>
                  <a:pt x="130" y="57"/>
                </a:lnTo>
                <a:lnTo>
                  <a:pt x="140" y="127"/>
                </a:lnTo>
                <a:lnTo>
                  <a:pt x="94" y="170"/>
                </a:lnTo>
                <a:lnTo>
                  <a:pt x="41" y="214"/>
                </a:lnTo>
                <a:lnTo>
                  <a:pt x="0" y="306"/>
                </a:lnTo>
                <a:lnTo>
                  <a:pt x="24" y="366"/>
                </a:lnTo>
                <a:lnTo>
                  <a:pt x="133" y="410"/>
                </a:lnTo>
                <a:close/>
              </a:path>
            </a:pathLst>
          </a:custGeom>
          <a:solidFill>
            <a:srgbClr val="fbd128"/>
          </a:soli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63840" y="5764320"/>
            <a:ext cx="422280" cy="561960"/>
          </a:xfrm>
          <a:prstGeom prst="rect">
            <a:avLst/>
          </a:prstGeom>
          <a:solidFill>
            <a:srgbClr val="da0030"/>
          </a:solidFill>
          <a:ln w="0">
            <a:solidFill>
              <a:srgbClr val="da003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84400" y="5821200"/>
            <a:ext cx="1171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Münc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7880" y="5348160"/>
            <a:ext cx="120600" cy="131760"/>
          </a:xfrm>
          <a:prstGeom prst="ellipse">
            <a:avLst/>
          </a:prstGeom>
          <a:solidFill>
            <a:srgbClr val="da0030"/>
          </a:solidFill>
          <a:ln w="0">
            <a:solidFill>
              <a:srgbClr val="da003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902680" y="5240160"/>
            <a:ext cx="1006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80"/>
                </a:solidFill>
                <a:latin typeface="Arial"/>
              </a:rPr>
              <a:t>Stuttga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44840" y="4413240"/>
            <a:ext cx="119160" cy="131760"/>
          </a:xfrm>
          <a:prstGeom prst="ellipse">
            <a:avLst/>
          </a:prstGeom>
          <a:solidFill>
            <a:srgbClr val="da0030"/>
          </a:solidFill>
          <a:ln w="0">
            <a:solidFill>
              <a:srgbClr val="da003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98200" y="4300560"/>
            <a:ext cx="1059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80"/>
                </a:solidFill>
                <a:latin typeface="Arial"/>
              </a:rPr>
              <a:t>Frankfu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36800" y="3606840"/>
            <a:ext cx="120600" cy="128520"/>
          </a:xfrm>
          <a:prstGeom prst="ellipse">
            <a:avLst/>
          </a:prstGeom>
          <a:solidFill>
            <a:srgbClr val="da0030"/>
          </a:solidFill>
          <a:ln w="0">
            <a:solidFill>
              <a:srgbClr val="da003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94480" y="347508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80"/>
                </a:solidFill>
                <a:latin typeface="Arial"/>
              </a:rPr>
              <a:t>Köl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97400" y="2620800"/>
            <a:ext cx="120600" cy="131760"/>
          </a:xfrm>
          <a:prstGeom prst="ellipse">
            <a:avLst/>
          </a:prstGeom>
          <a:solidFill>
            <a:srgbClr val="da0030"/>
          </a:solidFill>
          <a:ln w="0">
            <a:solidFill>
              <a:srgbClr val="da003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56520" y="2514600"/>
            <a:ext cx="683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80"/>
                </a:solidFill>
                <a:latin typeface="Arial"/>
              </a:rPr>
              <a:t>Berli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32440" y="3381480"/>
            <a:ext cx="120600" cy="131760"/>
          </a:xfrm>
          <a:prstGeom prst="ellipse">
            <a:avLst/>
          </a:prstGeom>
          <a:solidFill>
            <a:srgbClr val="da0030"/>
          </a:solidFill>
          <a:ln w="0">
            <a:solidFill>
              <a:srgbClr val="da003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289040" y="3267000"/>
            <a:ext cx="832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80"/>
                </a:solidFill>
                <a:latin typeface="Arial"/>
              </a:rPr>
              <a:t>Leipzi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803680" y="2043000"/>
            <a:ext cx="118800" cy="130320"/>
          </a:xfrm>
          <a:prstGeom prst="ellipse">
            <a:avLst/>
          </a:prstGeom>
          <a:solidFill>
            <a:srgbClr val="da0030"/>
          </a:solidFill>
          <a:ln w="0">
            <a:solidFill>
              <a:srgbClr val="da003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957760" y="1878120"/>
            <a:ext cx="1058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80"/>
                </a:solidFill>
                <a:latin typeface="Arial"/>
              </a:rPr>
              <a:t>Hambur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914560" y="2836800"/>
            <a:ext cx="119160" cy="131760"/>
          </a:xfrm>
          <a:prstGeom prst="ellipse">
            <a:avLst/>
          </a:prstGeom>
          <a:solidFill>
            <a:srgbClr val="da0030"/>
          </a:solidFill>
          <a:ln w="0">
            <a:solidFill>
              <a:srgbClr val="da003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66840" y="2722680"/>
            <a:ext cx="1113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80"/>
                </a:solidFill>
                <a:latin typeface="Arial"/>
              </a:rPr>
              <a:t>Hannov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226840" y="6386400"/>
            <a:ext cx="1959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Hauptverwaltu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235840" y="6667560"/>
            <a:ext cx="120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Allianz A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0640" y="5257800"/>
            <a:ext cx="1959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Hauptverwaltu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11920" y="5727600"/>
            <a:ext cx="177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Allianz Lebens-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19480" y="6026040"/>
            <a:ext cx="1515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versicheru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90800" y="6176880"/>
            <a:ext cx="3086280" cy="149400"/>
          </a:xfrm>
          <a:custGeom>
            <a:avLst/>
            <a:gdLst/>
            <a:ahLst/>
            <a:rect l="l" t="t" r="r" b="b"/>
            <a:pathLst>
              <a:path w="5173" h="229">
                <a:moveTo>
                  <a:pt x="0" y="0"/>
                </a:moveTo>
                <a:lnTo>
                  <a:pt x="352" y="229"/>
                </a:lnTo>
                <a:lnTo>
                  <a:pt x="5173" y="229"/>
                </a:lnTo>
                <a:lnTo>
                  <a:pt x="5155" y="229"/>
                </a:lnTo>
              </a:path>
            </a:pathLst>
          </a:custGeom>
          <a:noFill/>
          <a:ln w="7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76280" y="5423040"/>
            <a:ext cx="2255760" cy="218880"/>
          </a:xfrm>
          <a:custGeom>
            <a:avLst/>
            <a:gdLst/>
            <a:ahLst/>
            <a:rect l="l" t="t" r="r" b="b"/>
            <a:pathLst>
              <a:path w="3783" h="336">
                <a:moveTo>
                  <a:pt x="0" y="336"/>
                </a:moveTo>
                <a:lnTo>
                  <a:pt x="2622" y="336"/>
                </a:lnTo>
                <a:lnTo>
                  <a:pt x="3783" y="0"/>
                </a:lnTo>
              </a:path>
            </a:pathLst>
          </a:custGeom>
          <a:noFill/>
          <a:ln w="7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89040" y="5087880"/>
            <a:ext cx="120960" cy="131760"/>
          </a:xfrm>
          <a:prstGeom prst="ellipse">
            <a:avLst/>
          </a:prstGeom>
          <a:solidFill>
            <a:srgbClr val="da0030"/>
          </a:solidFill>
          <a:ln w="0">
            <a:solidFill>
              <a:srgbClr val="da003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644200" y="4957920"/>
            <a:ext cx="1125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80"/>
                </a:solidFill>
                <a:latin typeface="Arial"/>
              </a:rPr>
              <a:t>Karlsruh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84680" y="5778360"/>
            <a:ext cx="3235320" cy="147600"/>
          </a:xfrm>
          <a:custGeom>
            <a:avLst/>
            <a:gdLst/>
            <a:ahLst/>
            <a:rect l="l" t="t" r="r" b="b"/>
            <a:pathLst>
              <a:path w="5426" h="230">
                <a:moveTo>
                  <a:pt x="0" y="230"/>
                </a:moveTo>
                <a:lnTo>
                  <a:pt x="368" y="0"/>
                </a:lnTo>
                <a:lnTo>
                  <a:pt x="5426" y="0"/>
                </a:lnTo>
                <a:lnTo>
                  <a:pt x="5409" y="0"/>
                </a:lnTo>
              </a:path>
            </a:pathLst>
          </a:custGeom>
          <a:noFill/>
          <a:ln w="7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703400" y="5048280"/>
            <a:ext cx="1018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Vereint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688280" y="5353200"/>
            <a:ext cx="2480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Krankenversicheru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137560" y="5802480"/>
            <a:ext cx="2117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Allianz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Versicherungs-A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636000" y="6453360"/>
            <a:ext cx="1591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AGIS Gmb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5156280" y="1955880"/>
            <a:ext cx="5067000" cy="2577600"/>
            <a:chOff x="5156280" y="1955880"/>
            <a:chExt cx="5067000" cy="2577600"/>
          </a:xfrm>
        </p:grpSpPr>
        <p:sp>
          <p:nvSpPr>
            <p:cNvPr id="374" name=""/>
            <p:cNvSpPr/>
            <p:nvPr/>
          </p:nvSpPr>
          <p:spPr>
            <a:xfrm>
              <a:off x="5156280" y="1955880"/>
              <a:ext cx="5067000" cy="257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242320" y="2133360"/>
              <a:ext cx="4840560" cy="22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de-DE" sz="2800" spc="-1" strike="noStrike">
                  <a:solidFill>
                    <a:srgbClr val="000066"/>
                  </a:solidFill>
                  <a:latin typeface="Arial"/>
                </a:rPr>
                <a:t>Unser aktueller Bedar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de-DE" sz="2800" spc="-1" strike="noStrike">
                  <a:solidFill>
                    <a:srgbClr val="000066"/>
                  </a:solidFill>
                  <a:latin typeface="Arial"/>
                </a:rPr>
                <a:t>im IT-Bereich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de-DE" sz="2800" spc="-1" strike="noStrike">
                  <a:solidFill>
                    <a:srgbClr val="000066"/>
                  </a:solidFill>
                  <a:latin typeface="Arial"/>
                </a:rPr>
                <a:t>in Deutschlan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de-DE" sz="2800" spc="-1" strike="noStrike">
                  <a:solidFill>
                    <a:srgbClr val="000066"/>
                  </a:solidFill>
                  <a:latin typeface="Arial"/>
                </a:rPr>
                <a:t>bei über 2.000 Mitarbeiter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de-DE" sz="2800" spc="-1" strike="noStrike">
                  <a:solidFill>
                    <a:srgbClr val="000066"/>
                  </a:solidFill>
                  <a:latin typeface="Arial"/>
                </a:rPr>
                <a:t>&gt; 250 neue Mitarbei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Vom Dokument zu Informationseinhei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9067680" cy="334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Aus verschiedenen Informationsblöcken können neue Dokumente generiert werd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Beispiel Such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590920" y="3544920"/>
            <a:ext cx="1567800" cy="1574640"/>
            <a:chOff x="2590920" y="3544920"/>
            <a:chExt cx="1567800" cy="1574640"/>
          </a:xfrm>
        </p:grpSpPr>
        <p:grpSp>
          <p:nvGrpSpPr>
            <p:cNvPr id="756" name=""/>
            <p:cNvGrpSpPr/>
            <p:nvPr/>
          </p:nvGrpSpPr>
          <p:grpSpPr>
            <a:xfrm>
              <a:off x="2971800" y="3544920"/>
              <a:ext cx="710640" cy="888840"/>
              <a:chOff x="2971800" y="3544920"/>
              <a:chExt cx="710640" cy="888840"/>
            </a:xfrm>
          </p:grpSpPr>
          <p:sp>
            <p:nvSpPr>
              <p:cNvPr id="757" name=""/>
              <p:cNvSpPr/>
              <p:nvPr/>
            </p:nvSpPr>
            <p:spPr>
              <a:xfrm>
                <a:off x="2971800" y="3544920"/>
                <a:ext cx="710640" cy="88884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148920" y="3900600"/>
                <a:ext cx="444240" cy="355320"/>
              </a:xfrm>
              <a:prstGeom prst="rect">
                <a:avLst/>
              </a:prstGeom>
              <a:solidFill>
                <a:srgbClr val="1d4a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6560" rIns="106560" tIns="53280" bIns="53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doc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3447720" y="4135320"/>
              <a:ext cx="711000" cy="889200"/>
              <a:chOff x="3447720" y="4135320"/>
              <a:chExt cx="711000" cy="889200"/>
            </a:xfrm>
          </p:grpSpPr>
          <p:sp>
            <p:nvSpPr>
              <p:cNvPr id="760" name=""/>
              <p:cNvSpPr/>
              <p:nvPr/>
            </p:nvSpPr>
            <p:spPr>
              <a:xfrm>
                <a:off x="3447720" y="4135320"/>
                <a:ext cx="711000" cy="88920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625200" y="4491000"/>
                <a:ext cx="444240" cy="355680"/>
              </a:xfrm>
              <a:prstGeom prst="rect">
                <a:avLst/>
              </a:prstGeom>
              <a:solidFill>
                <a:srgbClr val="1d4a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6560" rIns="106560" tIns="53280" bIns="53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doc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2590920" y="4230720"/>
              <a:ext cx="711000" cy="888840"/>
              <a:chOff x="2590920" y="4230720"/>
              <a:chExt cx="711000" cy="888840"/>
            </a:xfrm>
          </p:grpSpPr>
          <p:sp>
            <p:nvSpPr>
              <p:cNvPr id="763" name=""/>
              <p:cNvSpPr/>
              <p:nvPr/>
            </p:nvSpPr>
            <p:spPr>
              <a:xfrm>
                <a:off x="2590920" y="4230720"/>
                <a:ext cx="711000" cy="88884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768400" y="4586400"/>
                <a:ext cx="444240" cy="355320"/>
              </a:xfrm>
              <a:prstGeom prst="rect">
                <a:avLst/>
              </a:prstGeom>
              <a:solidFill>
                <a:srgbClr val="1d4a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6560" rIns="106560" tIns="53280" bIns="53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doc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5" name=""/>
          <p:cNvGrpSpPr/>
          <p:nvPr/>
        </p:nvGrpSpPr>
        <p:grpSpPr>
          <a:xfrm>
            <a:off x="5226120" y="3621240"/>
            <a:ext cx="1320840" cy="1422000"/>
            <a:chOff x="5226120" y="3621240"/>
            <a:chExt cx="1320840" cy="1422000"/>
          </a:xfrm>
        </p:grpSpPr>
        <p:sp>
          <p:nvSpPr>
            <p:cNvPr id="766" name=""/>
            <p:cNvSpPr/>
            <p:nvPr/>
          </p:nvSpPr>
          <p:spPr>
            <a:xfrm>
              <a:off x="5226120" y="3621240"/>
              <a:ext cx="711000" cy="888840"/>
            </a:xfrm>
            <a:prstGeom prst="foldedCorner">
              <a:avLst>
                <a:gd name="adj" fmla="val 125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403960" y="3976560"/>
              <a:ext cx="444600" cy="355320"/>
            </a:xfrm>
            <a:prstGeom prst="rect">
              <a:avLst/>
            </a:prstGeom>
            <a:solidFill>
              <a:srgbClr val="1d4a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de-DE" sz="1900" spc="-1" strike="noStrike">
                  <a:solidFill>
                    <a:srgbClr val="000000"/>
                  </a:solidFill>
                  <a:latin typeface="Arial"/>
                </a:rPr>
                <a:t>do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531040" y="3849480"/>
              <a:ext cx="711000" cy="888840"/>
            </a:xfrm>
            <a:prstGeom prst="foldedCorner">
              <a:avLst>
                <a:gd name="adj" fmla="val 125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708520" y="4205160"/>
              <a:ext cx="444600" cy="355320"/>
            </a:xfrm>
            <a:prstGeom prst="rect">
              <a:avLst/>
            </a:prstGeom>
            <a:solidFill>
              <a:srgbClr val="1d4a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de-DE" sz="1900" spc="-1" strike="noStrike">
                  <a:solidFill>
                    <a:srgbClr val="000000"/>
                  </a:solidFill>
                  <a:latin typeface="Arial"/>
                </a:rPr>
                <a:t>do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835600" y="4154400"/>
              <a:ext cx="711360" cy="888840"/>
            </a:xfrm>
            <a:prstGeom prst="foldedCorner">
              <a:avLst>
                <a:gd name="adj" fmla="val 125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013440" y="4510080"/>
              <a:ext cx="444600" cy="355320"/>
            </a:xfrm>
            <a:prstGeom prst="rect">
              <a:avLst/>
            </a:prstGeom>
            <a:solidFill>
              <a:srgbClr val="1d4a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de-DE" sz="1900" spc="-1" strike="noStrike">
                  <a:solidFill>
                    <a:srgbClr val="000000"/>
                  </a:solidFill>
                  <a:latin typeface="Arial"/>
                </a:rPr>
                <a:t>do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6629400" y="3828960"/>
            <a:ext cx="335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c8"/>
                </a:solidFill>
                <a:latin typeface="Arial"/>
              </a:rPr>
              <a:t>Ergebn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c8"/>
                </a:solidFill>
                <a:latin typeface="Arial"/>
              </a:rPr>
              <a:t>Dokumente, die relevante Informationen enthal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2610000" y="5238720"/>
            <a:ext cx="1530360" cy="1384200"/>
            <a:chOff x="2610000" y="5238720"/>
            <a:chExt cx="1530360" cy="1384200"/>
          </a:xfrm>
        </p:grpSpPr>
        <p:grpSp>
          <p:nvGrpSpPr>
            <p:cNvPr id="774" name=""/>
            <p:cNvGrpSpPr/>
            <p:nvPr/>
          </p:nvGrpSpPr>
          <p:grpSpPr>
            <a:xfrm>
              <a:off x="3429360" y="5238720"/>
              <a:ext cx="711000" cy="889200"/>
              <a:chOff x="3429360" y="5238720"/>
              <a:chExt cx="711000" cy="889200"/>
            </a:xfrm>
          </p:grpSpPr>
          <p:sp>
            <p:nvSpPr>
              <p:cNvPr id="775" name=""/>
              <p:cNvSpPr/>
              <p:nvPr/>
            </p:nvSpPr>
            <p:spPr>
              <a:xfrm>
                <a:off x="3429360" y="5238720"/>
                <a:ext cx="711000" cy="88920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480120" y="5337360"/>
                <a:ext cx="355320" cy="98280"/>
              </a:xfrm>
              <a:prstGeom prst="rect">
                <a:avLst/>
              </a:prstGeom>
              <a:solidFill>
                <a:srgbClr val="1d4a6e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581640" y="5486400"/>
                <a:ext cx="355680" cy="9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581640" y="5584680"/>
                <a:ext cx="355680" cy="98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581640" y="5683320"/>
                <a:ext cx="355680" cy="9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480120" y="5830920"/>
                <a:ext cx="355320" cy="100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480120" y="5931000"/>
                <a:ext cx="355320" cy="9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3086280" y="5734080"/>
              <a:ext cx="711360" cy="888840"/>
              <a:chOff x="3086280" y="5734080"/>
              <a:chExt cx="711360" cy="888840"/>
            </a:xfrm>
          </p:grpSpPr>
          <p:sp>
            <p:nvSpPr>
              <p:cNvPr id="783" name=""/>
              <p:cNvSpPr/>
              <p:nvPr/>
            </p:nvSpPr>
            <p:spPr>
              <a:xfrm>
                <a:off x="3086280" y="5734080"/>
                <a:ext cx="711360" cy="88884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137040" y="5832360"/>
                <a:ext cx="355680" cy="98640"/>
              </a:xfrm>
              <a:prstGeom prst="rect">
                <a:avLst/>
              </a:prstGeom>
              <a:solidFill>
                <a:srgbClr val="1d4a6e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238560" y="5981760"/>
                <a:ext cx="355680" cy="9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238560" y="6080040"/>
                <a:ext cx="355680" cy="98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238560" y="6178680"/>
                <a:ext cx="355680" cy="9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137040" y="6326280"/>
                <a:ext cx="355680" cy="100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137040" y="6426360"/>
                <a:ext cx="355680" cy="9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2610000" y="5372280"/>
              <a:ext cx="711360" cy="888840"/>
              <a:chOff x="2610000" y="5372280"/>
              <a:chExt cx="711360" cy="888840"/>
            </a:xfrm>
          </p:grpSpPr>
          <p:sp>
            <p:nvSpPr>
              <p:cNvPr id="791" name=""/>
              <p:cNvSpPr/>
              <p:nvPr/>
            </p:nvSpPr>
            <p:spPr>
              <a:xfrm>
                <a:off x="2610000" y="5372280"/>
                <a:ext cx="711360" cy="88884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2660760" y="5470560"/>
                <a:ext cx="355680" cy="98280"/>
              </a:xfrm>
              <a:prstGeom prst="rect">
                <a:avLst/>
              </a:prstGeom>
              <a:solidFill>
                <a:srgbClr val="1d4a6e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762280" y="5619600"/>
                <a:ext cx="355680" cy="98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762280" y="5718240"/>
                <a:ext cx="355680" cy="9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762280" y="5816520"/>
                <a:ext cx="355680" cy="98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2660760" y="5964120"/>
                <a:ext cx="355680" cy="100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660760" y="6064200"/>
                <a:ext cx="355680" cy="98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8" name=""/>
          <p:cNvGrpSpPr/>
          <p:nvPr/>
        </p:nvGrpSpPr>
        <p:grpSpPr>
          <a:xfrm>
            <a:off x="5530680" y="5486400"/>
            <a:ext cx="711000" cy="888840"/>
            <a:chOff x="5530680" y="5486400"/>
            <a:chExt cx="711000" cy="888840"/>
          </a:xfrm>
        </p:grpSpPr>
        <p:sp>
          <p:nvSpPr>
            <p:cNvPr id="799" name=""/>
            <p:cNvSpPr/>
            <p:nvPr/>
          </p:nvSpPr>
          <p:spPr>
            <a:xfrm>
              <a:off x="5530680" y="5486400"/>
              <a:ext cx="711000" cy="888840"/>
            </a:xfrm>
            <a:prstGeom prst="foldedCorner">
              <a:avLst>
                <a:gd name="adj" fmla="val 12500"/>
              </a:avLst>
            </a:prstGeom>
            <a:solidFill>
              <a:srgbClr val="80808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606640" y="5638320"/>
              <a:ext cx="355680" cy="98280"/>
            </a:xfrm>
            <a:prstGeom prst="rect">
              <a:avLst/>
            </a:prstGeom>
            <a:solidFill>
              <a:srgbClr val="1d4a6e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606640" y="5790960"/>
              <a:ext cx="355680" cy="97920"/>
            </a:xfrm>
            <a:prstGeom prst="rect">
              <a:avLst/>
            </a:prstGeom>
            <a:solidFill>
              <a:srgbClr val="1d4a6e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606640" y="5943240"/>
              <a:ext cx="355680" cy="97920"/>
            </a:xfrm>
            <a:prstGeom prst="rect">
              <a:avLst/>
            </a:prstGeom>
            <a:solidFill>
              <a:srgbClr val="1d4a6e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06640" y="6095520"/>
              <a:ext cx="355680" cy="98280"/>
            </a:xfrm>
            <a:prstGeom prst="rect">
              <a:avLst/>
            </a:prstGeom>
            <a:solidFill>
              <a:srgbClr val="1d4a6e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4" name=""/>
          <p:cNvSpPr/>
          <p:nvPr/>
        </p:nvSpPr>
        <p:spPr>
          <a:xfrm>
            <a:off x="1239480" y="5580000"/>
            <a:ext cx="111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c8"/>
                </a:solidFill>
                <a:latin typeface="Arial"/>
              </a:rPr>
              <a:t>Su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c8"/>
                </a:solidFill>
                <a:latin typeface="Arial"/>
              </a:rPr>
              <a:t>im C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629400" y="5275440"/>
            <a:ext cx="3772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c8"/>
                </a:solidFill>
                <a:latin typeface="Arial"/>
              </a:rPr>
              <a:t>Ergebn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c8"/>
                </a:solidFill>
                <a:latin typeface="Arial"/>
              </a:rPr>
              <a:t>Alle relevanten Informa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c8"/>
                </a:solidFill>
                <a:latin typeface="Arial"/>
              </a:rPr>
              <a:t>werden kompakt als eigenes, neues Dokument dargestel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239480" y="3981600"/>
            <a:ext cx="111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c8"/>
                </a:solidFill>
                <a:latin typeface="Arial"/>
              </a:rPr>
              <a:t>Su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c8"/>
                </a:solidFill>
                <a:latin typeface="Arial"/>
              </a:rPr>
              <a:t>im D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4221000" y="4164120"/>
            <a:ext cx="1009800" cy="337320"/>
            <a:chOff x="4221000" y="4164120"/>
            <a:chExt cx="1009800" cy="337320"/>
          </a:xfrm>
        </p:grpSpPr>
        <p:sp>
          <p:nvSpPr>
            <p:cNvPr id="808" name=""/>
            <p:cNvSpPr/>
            <p:nvPr/>
          </p:nvSpPr>
          <p:spPr>
            <a:xfrm>
              <a:off x="4355280" y="416412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uc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221000" y="4419720"/>
              <a:ext cx="1009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4221000" y="5762520"/>
            <a:ext cx="1009800" cy="337320"/>
            <a:chOff x="4221000" y="5762520"/>
            <a:chExt cx="1009800" cy="337320"/>
          </a:xfrm>
        </p:grpSpPr>
        <p:sp>
          <p:nvSpPr>
            <p:cNvPr id="811" name=""/>
            <p:cNvSpPr/>
            <p:nvPr/>
          </p:nvSpPr>
          <p:spPr>
            <a:xfrm>
              <a:off x="4355640" y="576252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uc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221000" y="6018120"/>
              <a:ext cx="100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Lernplat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702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Angebot über Intr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Eingesetzt für die Erstausbildung und die Weiterbildu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Benutzer sind Lerner und Trai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virtuelle Zusammenarb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Funktionalitäten - Terminkalender, Chat, Diskussionsforen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Funktionalitäten verbindende Work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64960">
              <a:buClr>
                <a:srgbClr val="0000c8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Unterstützung des Lernproz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64960">
              <a:buClr>
                <a:srgbClr val="0000c8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Z.B. Erstellen eines Lernplan oder Vereinbaren von Chat-Termine über den Terminkalen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Didaktisch aufbereitete Material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Unterteilung in einzelne Lernschrit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Lernerfolgskontrolle nach dem Erarbeiten einer Le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Lernplattformen - Kategori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744120" y="4545000"/>
            <a:ext cx="258696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0000c8"/>
                </a:solidFill>
                <a:latin typeface="Arial"/>
              </a:rPr>
              <a:t>Trainer- un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0000c8"/>
                </a:solidFill>
                <a:latin typeface="Arial"/>
              </a:rPr>
              <a:t>Tool-Bereich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3338640" y="1905120"/>
            <a:ext cx="4512960" cy="4515840"/>
            <a:chOff x="3338640" y="1905120"/>
            <a:chExt cx="4512960" cy="4515840"/>
          </a:xfrm>
        </p:grpSpPr>
        <p:sp>
          <p:nvSpPr>
            <p:cNvPr id="818" name=""/>
            <p:cNvSpPr/>
            <p:nvPr/>
          </p:nvSpPr>
          <p:spPr>
            <a:xfrm>
              <a:off x="4780080" y="3566880"/>
              <a:ext cx="16315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600" spc="-1" strike="noStrike">
                  <a:solidFill>
                    <a:srgbClr val="0000c8"/>
                  </a:solidFill>
                  <a:latin typeface="Arial"/>
                </a:rPr>
                <a:t>Media-</a:t>
              </a:r>
              <a:br>
                <a:rPr sz="3600"/>
              </a:br>
              <a:r>
                <a:rPr b="1" lang="de-DE" sz="3600" spc="-1" strike="noStrike">
                  <a:solidFill>
                    <a:srgbClr val="0000c8"/>
                  </a:solidFill>
                  <a:latin typeface="Arial"/>
                </a:rPr>
                <a:t>thek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3338640" y="1905120"/>
              <a:ext cx="4512960" cy="4515840"/>
              <a:chOff x="3338640" y="1905120"/>
              <a:chExt cx="4512960" cy="4515840"/>
            </a:xfrm>
          </p:grpSpPr>
          <p:sp>
            <p:nvSpPr>
              <p:cNvPr id="820" name=""/>
              <p:cNvSpPr/>
              <p:nvPr/>
            </p:nvSpPr>
            <p:spPr>
              <a:xfrm>
                <a:off x="5602320" y="4171680"/>
                <a:ext cx="2249280" cy="2249280"/>
              </a:xfrm>
              <a:custGeom>
                <a:avLst/>
                <a:gdLst/>
                <a:ahLst/>
                <a:rect l="l" t="t" r="r" b="b"/>
                <a:pathLst>
                  <a:path w="1417" h="1417">
                    <a:moveTo>
                      <a:pt x="1417" y="0"/>
                    </a:moveTo>
                    <a:lnTo>
                      <a:pt x="1417" y="24"/>
                    </a:lnTo>
                    <a:lnTo>
                      <a:pt x="1417" y="49"/>
                    </a:lnTo>
                    <a:lnTo>
                      <a:pt x="1411" y="73"/>
                    </a:lnTo>
                    <a:lnTo>
                      <a:pt x="1411" y="97"/>
                    </a:lnTo>
                    <a:lnTo>
                      <a:pt x="1411" y="121"/>
                    </a:lnTo>
                    <a:lnTo>
                      <a:pt x="1405" y="145"/>
                    </a:lnTo>
                    <a:lnTo>
                      <a:pt x="1405" y="175"/>
                    </a:lnTo>
                    <a:lnTo>
                      <a:pt x="1399" y="199"/>
                    </a:lnTo>
                    <a:lnTo>
                      <a:pt x="1399" y="223"/>
                    </a:lnTo>
                    <a:lnTo>
                      <a:pt x="1393" y="247"/>
                    </a:lnTo>
                    <a:lnTo>
                      <a:pt x="1387" y="271"/>
                    </a:lnTo>
                    <a:lnTo>
                      <a:pt x="1387" y="295"/>
                    </a:lnTo>
                    <a:lnTo>
                      <a:pt x="1381" y="319"/>
                    </a:lnTo>
                    <a:lnTo>
                      <a:pt x="1375" y="343"/>
                    </a:lnTo>
                    <a:lnTo>
                      <a:pt x="1369" y="367"/>
                    </a:lnTo>
                    <a:lnTo>
                      <a:pt x="1363" y="391"/>
                    </a:lnTo>
                    <a:lnTo>
                      <a:pt x="1351" y="415"/>
                    </a:lnTo>
                    <a:lnTo>
                      <a:pt x="1345" y="439"/>
                    </a:lnTo>
                    <a:lnTo>
                      <a:pt x="1339" y="463"/>
                    </a:lnTo>
                    <a:lnTo>
                      <a:pt x="1333" y="481"/>
                    </a:lnTo>
                    <a:lnTo>
                      <a:pt x="1321" y="505"/>
                    </a:lnTo>
                    <a:lnTo>
                      <a:pt x="1315" y="529"/>
                    </a:lnTo>
                    <a:lnTo>
                      <a:pt x="1303" y="553"/>
                    </a:lnTo>
                    <a:lnTo>
                      <a:pt x="1291" y="577"/>
                    </a:lnTo>
                    <a:lnTo>
                      <a:pt x="1285" y="595"/>
                    </a:lnTo>
                    <a:lnTo>
                      <a:pt x="1273" y="619"/>
                    </a:lnTo>
                    <a:lnTo>
                      <a:pt x="1261" y="643"/>
                    </a:lnTo>
                    <a:lnTo>
                      <a:pt x="1249" y="667"/>
                    </a:lnTo>
                    <a:lnTo>
                      <a:pt x="1237" y="685"/>
                    </a:lnTo>
                    <a:lnTo>
                      <a:pt x="1225" y="709"/>
                    </a:lnTo>
                    <a:lnTo>
                      <a:pt x="1213" y="727"/>
                    </a:lnTo>
                    <a:lnTo>
                      <a:pt x="1201" y="751"/>
                    </a:lnTo>
                    <a:lnTo>
                      <a:pt x="1189" y="769"/>
                    </a:lnTo>
                    <a:lnTo>
                      <a:pt x="1171" y="793"/>
                    </a:lnTo>
                    <a:lnTo>
                      <a:pt x="1159" y="811"/>
                    </a:lnTo>
                    <a:lnTo>
                      <a:pt x="1147" y="829"/>
                    </a:lnTo>
                    <a:lnTo>
                      <a:pt x="1129" y="853"/>
                    </a:lnTo>
                    <a:lnTo>
                      <a:pt x="1117" y="871"/>
                    </a:lnTo>
                    <a:lnTo>
                      <a:pt x="1099" y="889"/>
                    </a:lnTo>
                    <a:lnTo>
                      <a:pt x="1087" y="907"/>
                    </a:lnTo>
                    <a:lnTo>
                      <a:pt x="1069" y="931"/>
                    </a:lnTo>
                    <a:lnTo>
                      <a:pt x="1051" y="949"/>
                    </a:lnTo>
                    <a:lnTo>
                      <a:pt x="1032" y="967"/>
                    </a:lnTo>
                    <a:lnTo>
                      <a:pt x="1020" y="985"/>
                    </a:lnTo>
                    <a:lnTo>
                      <a:pt x="1002" y="1003"/>
                    </a:lnTo>
                    <a:lnTo>
                      <a:pt x="984" y="1021"/>
                    </a:lnTo>
                    <a:lnTo>
                      <a:pt x="966" y="1033"/>
                    </a:lnTo>
                    <a:lnTo>
                      <a:pt x="948" y="1051"/>
                    </a:lnTo>
                    <a:lnTo>
                      <a:pt x="930" y="1069"/>
                    </a:lnTo>
                    <a:lnTo>
                      <a:pt x="912" y="1087"/>
                    </a:lnTo>
                    <a:lnTo>
                      <a:pt x="888" y="1099"/>
                    </a:lnTo>
                    <a:lnTo>
                      <a:pt x="870" y="1117"/>
                    </a:lnTo>
                    <a:lnTo>
                      <a:pt x="852" y="1129"/>
                    </a:lnTo>
                    <a:lnTo>
                      <a:pt x="834" y="1147"/>
                    </a:lnTo>
                    <a:lnTo>
                      <a:pt x="810" y="1159"/>
                    </a:lnTo>
                    <a:lnTo>
                      <a:pt x="792" y="1171"/>
                    </a:lnTo>
                    <a:lnTo>
                      <a:pt x="774" y="1189"/>
                    </a:lnTo>
                    <a:lnTo>
                      <a:pt x="750" y="1201"/>
                    </a:lnTo>
                    <a:lnTo>
                      <a:pt x="732" y="1213"/>
                    </a:lnTo>
                    <a:lnTo>
                      <a:pt x="708" y="1225"/>
                    </a:lnTo>
                    <a:lnTo>
                      <a:pt x="684" y="1237"/>
                    </a:lnTo>
                    <a:lnTo>
                      <a:pt x="666" y="1249"/>
                    </a:lnTo>
                    <a:lnTo>
                      <a:pt x="642" y="1261"/>
                    </a:lnTo>
                    <a:lnTo>
                      <a:pt x="618" y="1273"/>
                    </a:lnTo>
                    <a:lnTo>
                      <a:pt x="600" y="1285"/>
                    </a:lnTo>
                    <a:lnTo>
                      <a:pt x="576" y="1291"/>
                    </a:lnTo>
                    <a:lnTo>
                      <a:pt x="552" y="1303"/>
                    </a:lnTo>
                    <a:lnTo>
                      <a:pt x="528" y="1315"/>
                    </a:lnTo>
                    <a:lnTo>
                      <a:pt x="510" y="1321"/>
                    </a:lnTo>
                    <a:lnTo>
                      <a:pt x="486" y="1333"/>
                    </a:lnTo>
                    <a:lnTo>
                      <a:pt x="462" y="1339"/>
                    </a:lnTo>
                    <a:lnTo>
                      <a:pt x="438" y="1345"/>
                    </a:lnTo>
                    <a:lnTo>
                      <a:pt x="414" y="1351"/>
                    </a:lnTo>
                    <a:lnTo>
                      <a:pt x="390" y="1363"/>
                    </a:lnTo>
                    <a:lnTo>
                      <a:pt x="366" y="1369"/>
                    </a:lnTo>
                    <a:lnTo>
                      <a:pt x="342" y="1375"/>
                    </a:lnTo>
                    <a:lnTo>
                      <a:pt x="318" y="1381"/>
                    </a:lnTo>
                    <a:lnTo>
                      <a:pt x="294" y="1387"/>
                    </a:lnTo>
                    <a:lnTo>
                      <a:pt x="270" y="1387"/>
                    </a:lnTo>
                    <a:lnTo>
                      <a:pt x="246" y="1393"/>
                    </a:lnTo>
                    <a:lnTo>
                      <a:pt x="222" y="1399"/>
                    </a:lnTo>
                    <a:lnTo>
                      <a:pt x="198" y="1399"/>
                    </a:lnTo>
                    <a:lnTo>
                      <a:pt x="174" y="1405"/>
                    </a:lnTo>
                    <a:lnTo>
                      <a:pt x="150" y="1405"/>
                    </a:lnTo>
                    <a:lnTo>
                      <a:pt x="126" y="1411"/>
                    </a:lnTo>
                    <a:lnTo>
                      <a:pt x="102" y="1411"/>
                    </a:lnTo>
                    <a:lnTo>
                      <a:pt x="78" y="1411"/>
                    </a:lnTo>
                    <a:lnTo>
                      <a:pt x="48" y="1417"/>
                    </a:lnTo>
                    <a:lnTo>
                      <a:pt x="24" y="1417"/>
                    </a:lnTo>
                    <a:lnTo>
                      <a:pt x="0" y="1417"/>
                    </a:lnTo>
                    <a:lnTo>
                      <a:pt x="0" y="565"/>
                    </a:lnTo>
                    <a:lnTo>
                      <a:pt x="12" y="565"/>
                    </a:lnTo>
                    <a:lnTo>
                      <a:pt x="24" y="565"/>
                    </a:lnTo>
                    <a:lnTo>
                      <a:pt x="30" y="565"/>
                    </a:lnTo>
                    <a:lnTo>
                      <a:pt x="42" y="565"/>
                    </a:lnTo>
                    <a:lnTo>
                      <a:pt x="48" y="559"/>
                    </a:lnTo>
                    <a:lnTo>
                      <a:pt x="60" y="559"/>
                    </a:lnTo>
                    <a:lnTo>
                      <a:pt x="72" y="559"/>
                    </a:lnTo>
                    <a:lnTo>
                      <a:pt x="78" y="559"/>
                    </a:lnTo>
                    <a:lnTo>
                      <a:pt x="90" y="559"/>
                    </a:lnTo>
                    <a:lnTo>
                      <a:pt x="102" y="553"/>
                    </a:lnTo>
                    <a:lnTo>
                      <a:pt x="108" y="553"/>
                    </a:lnTo>
                    <a:lnTo>
                      <a:pt x="120" y="553"/>
                    </a:lnTo>
                    <a:lnTo>
                      <a:pt x="132" y="547"/>
                    </a:lnTo>
                    <a:lnTo>
                      <a:pt x="138" y="547"/>
                    </a:lnTo>
                    <a:lnTo>
                      <a:pt x="150" y="547"/>
                    </a:lnTo>
                    <a:lnTo>
                      <a:pt x="156" y="541"/>
                    </a:lnTo>
                    <a:lnTo>
                      <a:pt x="168" y="541"/>
                    </a:lnTo>
                    <a:lnTo>
                      <a:pt x="174" y="535"/>
                    </a:lnTo>
                    <a:lnTo>
                      <a:pt x="186" y="535"/>
                    </a:lnTo>
                    <a:lnTo>
                      <a:pt x="198" y="529"/>
                    </a:lnTo>
                    <a:lnTo>
                      <a:pt x="204" y="529"/>
                    </a:lnTo>
                    <a:lnTo>
                      <a:pt x="216" y="523"/>
                    </a:lnTo>
                    <a:lnTo>
                      <a:pt x="222" y="517"/>
                    </a:lnTo>
                    <a:lnTo>
                      <a:pt x="234" y="517"/>
                    </a:lnTo>
                    <a:lnTo>
                      <a:pt x="240" y="511"/>
                    </a:lnTo>
                    <a:lnTo>
                      <a:pt x="252" y="505"/>
                    </a:lnTo>
                    <a:lnTo>
                      <a:pt x="258" y="505"/>
                    </a:lnTo>
                    <a:lnTo>
                      <a:pt x="270" y="499"/>
                    </a:lnTo>
                    <a:lnTo>
                      <a:pt x="276" y="493"/>
                    </a:lnTo>
                    <a:lnTo>
                      <a:pt x="288" y="487"/>
                    </a:lnTo>
                    <a:lnTo>
                      <a:pt x="294" y="481"/>
                    </a:lnTo>
                    <a:lnTo>
                      <a:pt x="300" y="475"/>
                    </a:lnTo>
                    <a:lnTo>
                      <a:pt x="312" y="475"/>
                    </a:lnTo>
                    <a:lnTo>
                      <a:pt x="318" y="469"/>
                    </a:lnTo>
                    <a:lnTo>
                      <a:pt x="324" y="463"/>
                    </a:lnTo>
                    <a:lnTo>
                      <a:pt x="336" y="457"/>
                    </a:lnTo>
                    <a:lnTo>
                      <a:pt x="342" y="451"/>
                    </a:lnTo>
                    <a:lnTo>
                      <a:pt x="348" y="445"/>
                    </a:lnTo>
                    <a:lnTo>
                      <a:pt x="360" y="439"/>
                    </a:lnTo>
                    <a:lnTo>
                      <a:pt x="366" y="433"/>
                    </a:lnTo>
                    <a:lnTo>
                      <a:pt x="372" y="427"/>
                    </a:lnTo>
                    <a:lnTo>
                      <a:pt x="378" y="421"/>
                    </a:lnTo>
                    <a:lnTo>
                      <a:pt x="390" y="409"/>
                    </a:lnTo>
                    <a:lnTo>
                      <a:pt x="396" y="403"/>
                    </a:lnTo>
                    <a:lnTo>
                      <a:pt x="402" y="397"/>
                    </a:lnTo>
                    <a:lnTo>
                      <a:pt x="408" y="391"/>
                    </a:lnTo>
                    <a:lnTo>
                      <a:pt x="414" y="385"/>
                    </a:lnTo>
                    <a:lnTo>
                      <a:pt x="420" y="379"/>
                    </a:lnTo>
                    <a:lnTo>
                      <a:pt x="432" y="367"/>
                    </a:lnTo>
                    <a:lnTo>
                      <a:pt x="438" y="361"/>
                    </a:lnTo>
                    <a:lnTo>
                      <a:pt x="444" y="355"/>
                    </a:lnTo>
                    <a:lnTo>
                      <a:pt x="450" y="349"/>
                    </a:lnTo>
                    <a:lnTo>
                      <a:pt x="456" y="337"/>
                    </a:lnTo>
                    <a:lnTo>
                      <a:pt x="462" y="331"/>
                    </a:lnTo>
                    <a:lnTo>
                      <a:pt x="468" y="325"/>
                    </a:lnTo>
                    <a:lnTo>
                      <a:pt x="474" y="313"/>
                    </a:lnTo>
                    <a:lnTo>
                      <a:pt x="480" y="307"/>
                    </a:lnTo>
                    <a:lnTo>
                      <a:pt x="480" y="301"/>
                    </a:lnTo>
                    <a:lnTo>
                      <a:pt x="486" y="289"/>
                    </a:lnTo>
                    <a:lnTo>
                      <a:pt x="492" y="283"/>
                    </a:lnTo>
                    <a:lnTo>
                      <a:pt x="498" y="271"/>
                    </a:lnTo>
                    <a:lnTo>
                      <a:pt x="504" y="265"/>
                    </a:lnTo>
                    <a:lnTo>
                      <a:pt x="504" y="253"/>
                    </a:lnTo>
                    <a:lnTo>
                      <a:pt x="510" y="247"/>
                    </a:lnTo>
                    <a:lnTo>
                      <a:pt x="516" y="235"/>
                    </a:lnTo>
                    <a:lnTo>
                      <a:pt x="522" y="229"/>
                    </a:lnTo>
                    <a:lnTo>
                      <a:pt x="522" y="217"/>
                    </a:lnTo>
                    <a:lnTo>
                      <a:pt x="528" y="211"/>
                    </a:lnTo>
                    <a:lnTo>
                      <a:pt x="528" y="199"/>
                    </a:lnTo>
                    <a:lnTo>
                      <a:pt x="534" y="193"/>
                    </a:lnTo>
                    <a:lnTo>
                      <a:pt x="540" y="181"/>
                    </a:lnTo>
                    <a:lnTo>
                      <a:pt x="540" y="175"/>
                    </a:lnTo>
                    <a:lnTo>
                      <a:pt x="546" y="163"/>
                    </a:lnTo>
                    <a:lnTo>
                      <a:pt x="546" y="157"/>
                    </a:lnTo>
                    <a:lnTo>
                      <a:pt x="552" y="145"/>
                    </a:lnTo>
                    <a:lnTo>
                      <a:pt x="552" y="133"/>
                    </a:lnTo>
                    <a:lnTo>
                      <a:pt x="552" y="127"/>
                    </a:lnTo>
                    <a:lnTo>
                      <a:pt x="558" y="115"/>
                    </a:lnTo>
                    <a:lnTo>
                      <a:pt x="558" y="109"/>
                    </a:lnTo>
                    <a:lnTo>
                      <a:pt x="558" y="97"/>
                    </a:lnTo>
                    <a:lnTo>
                      <a:pt x="564" y="85"/>
                    </a:lnTo>
                    <a:lnTo>
                      <a:pt x="564" y="79"/>
                    </a:lnTo>
                    <a:lnTo>
                      <a:pt x="564" y="67"/>
                    </a:lnTo>
                    <a:lnTo>
                      <a:pt x="564" y="61"/>
                    </a:lnTo>
                    <a:lnTo>
                      <a:pt x="564" y="49"/>
                    </a:lnTo>
                    <a:lnTo>
                      <a:pt x="570" y="37"/>
                    </a:lnTo>
                    <a:lnTo>
                      <a:pt x="570" y="31"/>
                    </a:lnTo>
                    <a:lnTo>
                      <a:pt x="570" y="18"/>
                    </a:lnTo>
                    <a:lnTo>
                      <a:pt x="570" y="6"/>
                    </a:lnTo>
                    <a:lnTo>
                      <a:pt x="570" y="0"/>
                    </a:lnTo>
                    <a:lnTo>
                      <a:pt x="141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4c"/>
                  </a:gs>
                  <a:gs pos="100000">
                    <a:srgbClr val="eb3e2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343320" y="4171680"/>
                <a:ext cx="2239920" cy="2249280"/>
              </a:xfrm>
              <a:custGeom>
                <a:avLst/>
                <a:gdLst/>
                <a:ahLst/>
                <a:rect l="l" t="t" r="r" b="b"/>
                <a:pathLst>
                  <a:path w="1411" h="1417">
                    <a:moveTo>
                      <a:pt x="1411" y="1417"/>
                    </a:moveTo>
                    <a:lnTo>
                      <a:pt x="1387" y="1417"/>
                    </a:lnTo>
                    <a:lnTo>
                      <a:pt x="1363" y="1417"/>
                    </a:lnTo>
                    <a:lnTo>
                      <a:pt x="1339" y="1411"/>
                    </a:lnTo>
                    <a:lnTo>
                      <a:pt x="1315" y="1411"/>
                    </a:lnTo>
                    <a:lnTo>
                      <a:pt x="1291" y="1411"/>
                    </a:lnTo>
                    <a:lnTo>
                      <a:pt x="1267" y="1405"/>
                    </a:lnTo>
                    <a:lnTo>
                      <a:pt x="1243" y="1405"/>
                    </a:lnTo>
                    <a:lnTo>
                      <a:pt x="1213" y="1399"/>
                    </a:lnTo>
                    <a:lnTo>
                      <a:pt x="1189" y="1399"/>
                    </a:lnTo>
                    <a:lnTo>
                      <a:pt x="1165" y="1393"/>
                    </a:lnTo>
                    <a:lnTo>
                      <a:pt x="1141" y="1387"/>
                    </a:lnTo>
                    <a:lnTo>
                      <a:pt x="1117" y="1387"/>
                    </a:lnTo>
                    <a:lnTo>
                      <a:pt x="1093" y="1381"/>
                    </a:lnTo>
                    <a:lnTo>
                      <a:pt x="1069" y="1375"/>
                    </a:lnTo>
                    <a:lnTo>
                      <a:pt x="1045" y="1369"/>
                    </a:lnTo>
                    <a:lnTo>
                      <a:pt x="1021" y="1363"/>
                    </a:lnTo>
                    <a:lnTo>
                      <a:pt x="997" y="1351"/>
                    </a:lnTo>
                    <a:lnTo>
                      <a:pt x="973" y="1345"/>
                    </a:lnTo>
                    <a:lnTo>
                      <a:pt x="955" y="1339"/>
                    </a:lnTo>
                    <a:lnTo>
                      <a:pt x="931" y="1333"/>
                    </a:lnTo>
                    <a:lnTo>
                      <a:pt x="907" y="1321"/>
                    </a:lnTo>
                    <a:lnTo>
                      <a:pt x="883" y="1315"/>
                    </a:lnTo>
                    <a:lnTo>
                      <a:pt x="859" y="1303"/>
                    </a:lnTo>
                    <a:lnTo>
                      <a:pt x="835" y="1291"/>
                    </a:lnTo>
                    <a:lnTo>
                      <a:pt x="817" y="1285"/>
                    </a:lnTo>
                    <a:lnTo>
                      <a:pt x="793" y="1273"/>
                    </a:lnTo>
                    <a:lnTo>
                      <a:pt x="769" y="1261"/>
                    </a:lnTo>
                    <a:lnTo>
                      <a:pt x="751" y="1249"/>
                    </a:lnTo>
                    <a:lnTo>
                      <a:pt x="727" y="1237"/>
                    </a:lnTo>
                    <a:lnTo>
                      <a:pt x="703" y="1225"/>
                    </a:lnTo>
                    <a:lnTo>
                      <a:pt x="685" y="1213"/>
                    </a:lnTo>
                    <a:lnTo>
                      <a:pt x="661" y="1201"/>
                    </a:lnTo>
                    <a:lnTo>
                      <a:pt x="643" y="1189"/>
                    </a:lnTo>
                    <a:lnTo>
                      <a:pt x="625" y="1171"/>
                    </a:lnTo>
                    <a:lnTo>
                      <a:pt x="601" y="1159"/>
                    </a:lnTo>
                    <a:lnTo>
                      <a:pt x="583" y="1147"/>
                    </a:lnTo>
                    <a:lnTo>
                      <a:pt x="565" y="1129"/>
                    </a:lnTo>
                    <a:lnTo>
                      <a:pt x="541" y="1117"/>
                    </a:lnTo>
                    <a:lnTo>
                      <a:pt x="523" y="1099"/>
                    </a:lnTo>
                    <a:lnTo>
                      <a:pt x="505" y="1087"/>
                    </a:lnTo>
                    <a:lnTo>
                      <a:pt x="487" y="1069"/>
                    </a:lnTo>
                    <a:lnTo>
                      <a:pt x="469" y="1051"/>
                    </a:lnTo>
                    <a:lnTo>
                      <a:pt x="451" y="1033"/>
                    </a:lnTo>
                    <a:lnTo>
                      <a:pt x="433" y="1021"/>
                    </a:lnTo>
                    <a:lnTo>
                      <a:pt x="415" y="1003"/>
                    </a:lnTo>
                    <a:lnTo>
                      <a:pt x="397" y="985"/>
                    </a:lnTo>
                    <a:lnTo>
                      <a:pt x="379" y="967"/>
                    </a:lnTo>
                    <a:lnTo>
                      <a:pt x="361" y="949"/>
                    </a:lnTo>
                    <a:lnTo>
                      <a:pt x="349" y="931"/>
                    </a:lnTo>
                    <a:lnTo>
                      <a:pt x="331" y="907"/>
                    </a:lnTo>
                    <a:lnTo>
                      <a:pt x="313" y="889"/>
                    </a:lnTo>
                    <a:lnTo>
                      <a:pt x="301" y="871"/>
                    </a:lnTo>
                    <a:lnTo>
                      <a:pt x="283" y="853"/>
                    </a:lnTo>
                    <a:lnTo>
                      <a:pt x="271" y="829"/>
                    </a:lnTo>
                    <a:lnTo>
                      <a:pt x="253" y="811"/>
                    </a:lnTo>
                    <a:lnTo>
                      <a:pt x="241" y="793"/>
                    </a:lnTo>
                    <a:lnTo>
                      <a:pt x="229" y="769"/>
                    </a:lnTo>
                    <a:lnTo>
                      <a:pt x="217" y="751"/>
                    </a:lnTo>
                    <a:lnTo>
                      <a:pt x="198" y="727"/>
                    </a:lnTo>
                    <a:lnTo>
                      <a:pt x="186" y="709"/>
                    </a:lnTo>
                    <a:lnTo>
                      <a:pt x="174" y="685"/>
                    </a:lnTo>
                    <a:lnTo>
                      <a:pt x="162" y="667"/>
                    </a:lnTo>
                    <a:lnTo>
                      <a:pt x="150" y="643"/>
                    </a:lnTo>
                    <a:lnTo>
                      <a:pt x="144" y="619"/>
                    </a:lnTo>
                    <a:lnTo>
                      <a:pt x="132" y="595"/>
                    </a:lnTo>
                    <a:lnTo>
                      <a:pt x="120" y="577"/>
                    </a:lnTo>
                    <a:lnTo>
                      <a:pt x="108" y="553"/>
                    </a:lnTo>
                    <a:lnTo>
                      <a:pt x="102" y="529"/>
                    </a:lnTo>
                    <a:lnTo>
                      <a:pt x="90" y="505"/>
                    </a:lnTo>
                    <a:lnTo>
                      <a:pt x="84" y="481"/>
                    </a:lnTo>
                    <a:lnTo>
                      <a:pt x="78" y="463"/>
                    </a:lnTo>
                    <a:lnTo>
                      <a:pt x="66" y="439"/>
                    </a:lnTo>
                    <a:lnTo>
                      <a:pt x="60" y="415"/>
                    </a:lnTo>
                    <a:lnTo>
                      <a:pt x="54" y="391"/>
                    </a:lnTo>
                    <a:lnTo>
                      <a:pt x="48" y="367"/>
                    </a:lnTo>
                    <a:lnTo>
                      <a:pt x="42" y="343"/>
                    </a:lnTo>
                    <a:lnTo>
                      <a:pt x="36" y="319"/>
                    </a:lnTo>
                    <a:lnTo>
                      <a:pt x="30" y="295"/>
                    </a:lnTo>
                    <a:lnTo>
                      <a:pt x="24" y="271"/>
                    </a:lnTo>
                    <a:lnTo>
                      <a:pt x="18" y="247"/>
                    </a:lnTo>
                    <a:lnTo>
                      <a:pt x="18" y="223"/>
                    </a:lnTo>
                    <a:lnTo>
                      <a:pt x="12" y="199"/>
                    </a:lnTo>
                    <a:lnTo>
                      <a:pt x="12" y="175"/>
                    </a:lnTo>
                    <a:lnTo>
                      <a:pt x="6" y="145"/>
                    </a:lnTo>
                    <a:lnTo>
                      <a:pt x="6" y="121"/>
                    </a:lnTo>
                    <a:lnTo>
                      <a:pt x="0" y="97"/>
                    </a:lnTo>
                    <a:lnTo>
                      <a:pt x="0" y="73"/>
                    </a:lnTo>
                    <a:lnTo>
                      <a:pt x="0" y="49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847" y="0"/>
                    </a:lnTo>
                    <a:lnTo>
                      <a:pt x="847" y="6"/>
                    </a:lnTo>
                    <a:lnTo>
                      <a:pt x="847" y="18"/>
                    </a:lnTo>
                    <a:lnTo>
                      <a:pt x="847" y="31"/>
                    </a:lnTo>
                    <a:lnTo>
                      <a:pt x="847" y="37"/>
                    </a:lnTo>
                    <a:lnTo>
                      <a:pt x="847" y="49"/>
                    </a:lnTo>
                    <a:lnTo>
                      <a:pt x="847" y="61"/>
                    </a:lnTo>
                    <a:lnTo>
                      <a:pt x="847" y="67"/>
                    </a:lnTo>
                    <a:lnTo>
                      <a:pt x="853" y="79"/>
                    </a:lnTo>
                    <a:lnTo>
                      <a:pt x="853" y="85"/>
                    </a:lnTo>
                    <a:lnTo>
                      <a:pt x="853" y="97"/>
                    </a:lnTo>
                    <a:lnTo>
                      <a:pt x="853" y="109"/>
                    </a:lnTo>
                    <a:lnTo>
                      <a:pt x="859" y="115"/>
                    </a:lnTo>
                    <a:lnTo>
                      <a:pt x="859" y="127"/>
                    </a:lnTo>
                    <a:lnTo>
                      <a:pt x="865" y="133"/>
                    </a:lnTo>
                    <a:lnTo>
                      <a:pt x="865" y="145"/>
                    </a:lnTo>
                    <a:lnTo>
                      <a:pt x="865" y="157"/>
                    </a:lnTo>
                    <a:lnTo>
                      <a:pt x="871" y="163"/>
                    </a:lnTo>
                    <a:lnTo>
                      <a:pt x="871" y="175"/>
                    </a:lnTo>
                    <a:lnTo>
                      <a:pt x="877" y="181"/>
                    </a:lnTo>
                    <a:lnTo>
                      <a:pt x="877" y="193"/>
                    </a:lnTo>
                    <a:lnTo>
                      <a:pt x="883" y="199"/>
                    </a:lnTo>
                    <a:lnTo>
                      <a:pt x="889" y="211"/>
                    </a:lnTo>
                    <a:lnTo>
                      <a:pt x="889" y="217"/>
                    </a:lnTo>
                    <a:lnTo>
                      <a:pt x="895" y="229"/>
                    </a:lnTo>
                    <a:lnTo>
                      <a:pt x="901" y="235"/>
                    </a:lnTo>
                    <a:lnTo>
                      <a:pt x="901" y="247"/>
                    </a:lnTo>
                    <a:lnTo>
                      <a:pt x="907" y="253"/>
                    </a:lnTo>
                    <a:lnTo>
                      <a:pt x="913" y="265"/>
                    </a:lnTo>
                    <a:lnTo>
                      <a:pt x="919" y="271"/>
                    </a:lnTo>
                    <a:lnTo>
                      <a:pt x="919" y="283"/>
                    </a:lnTo>
                    <a:lnTo>
                      <a:pt x="925" y="289"/>
                    </a:lnTo>
                    <a:lnTo>
                      <a:pt x="931" y="301"/>
                    </a:lnTo>
                    <a:lnTo>
                      <a:pt x="937" y="307"/>
                    </a:lnTo>
                    <a:lnTo>
                      <a:pt x="943" y="313"/>
                    </a:lnTo>
                    <a:lnTo>
                      <a:pt x="949" y="325"/>
                    </a:lnTo>
                    <a:lnTo>
                      <a:pt x="955" y="331"/>
                    </a:lnTo>
                    <a:lnTo>
                      <a:pt x="961" y="337"/>
                    </a:lnTo>
                    <a:lnTo>
                      <a:pt x="967" y="349"/>
                    </a:lnTo>
                    <a:lnTo>
                      <a:pt x="973" y="355"/>
                    </a:lnTo>
                    <a:lnTo>
                      <a:pt x="979" y="361"/>
                    </a:lnTo>
                    <a:lnTo>
                      <a:pt x="985" y="367"/>
                    </a:lnTo>
                    <a:lnTo>
                      <a:pt x="991" y="379"/>
                    </a:lnTo>
                    <a:lnTo>
                      <a:pt x="997" y="385"/>
                    </a:lnTo>
                    <a:lnTo>
                      <a:pt x="1003" y="391"/>
                    </a:lnTo>
                    <a:lnTo>
                      <a:pt x="1009" y="397"/>
                    </a:lnTo>
                    <a:lnTo>
                      <a:pt x="1021" y="403"/>
                    </a:lnTo>
                    <a:lnTo>
                      <a:pt x="1027" y="409"/>
                    </a:lnTo>
                    <a:lnTo>
                      <a:pt x="1033" y="421"/>
                    </a:lnTo>
                    <a:lnTo>
                      <a:pt x="1039" y="427"/>
                    </a:lnTo>
                    <a:lnTo>
                      <a:pt x="1051" y="433"/>
                    </a:lnTo>
                    <a:lnTo>
                      <a:pt x="1057" y="439"/>
                    </a:lnTo>
                    <a:lnTo>
                      <a:pt x="1063" y="445"/>
                    </a:lnTo>
                    <a:lnTo>
                      <a:pt x="1069" y="451"/>
                    </a:lnTo>
                    <a:lnTo>
                      <a:pt x="1081" y="457"/>
                    </a:lnTo>
                    <a:lnTo>
                      <a:pt x="1087" y="463"/>
                    </a:lnTo>
                    <a:lnTo>
                      <a:pt x="1093" y="469"/>
                    </a:lnTo>
                    <a:lnTo>
                      <a:pt x="1105" y="475"/>
                    </a:lnTo>
                    <a:lnTo>
                      <a:pt x="1111" y="475"/>
                    </a:lnTo>
                    <a:lnTo>
                      <a:pt x="1123" y="481"/>
                    </a:lnTo>
                    <a:lnTo>
                      <a:pt x="1129" y="487"/>
                    </a:lnTo>
                    <a:lnTo>
                      <a:pt x="1135" y="493"/>
                    </a:lnTo>
                    <a:lnTo>
                      <a:pt x="1147" y="499"/>
                    </a:lnTo>
                    <a:lnTo>
                      <a:pt x="1153" y="505"/>
                    </a:lnTo>
                    <a:lnTo>
                      <a:pt x="1165" y="505"/>
                    </a:lnTo>
                    <a:lnTo>
                      <a:pt x="1171" y="511"/>
                    </a:lnTo>
                    <a:lnTo>
                      <a:pt x="1183" y="517"/>
                    </a:lnTo>
                    <a:lnTo>
                      <a:pt x="1189" y="517"/>
                    </a:lnTo>
                    <a:lnTo>
                      <a:pt x="1201" y="523"/>
                    </a:lnTo>
                    <a:lnTo>
                      <a:pt x="1207" y="529"/>
                    </a:lnTo>
                    <a:lnTo>
                      <a:pt x="1219" y="529"/>
                    </a:lnTo>
                    <a:lnTo>
                      <a:pt x="1225" y="535"/>
                    </a:lnTo>
                    <a:lnTo>
                      <a:pt x="1237" y="535"/>
                    </a:lnTo>
                    <a:lnTo>
                      <a:pt x="1249" y="541"/>
                    </a:lnTo>
                    <a:lnTo>
                      <a:pt x="1255" y="541"/>
                    </a:lnTo>
                    <a:lnTo>
                      <a:pt x="1267" y="547"/>
                    </a:lnTo>
                    <a:lnTo>
                      <a:pt x="1273" y="547"/>
                    </a:lnTo>
                    <a:lnTo>
                      <a:pt x="1285" y="547"/>
                    </a:lnTo>
                    <a:lnTo>
                      <a:pt x="1297" y="553"/>
                    </a:lnTo>
                    <a:lnTo>
                      <a:pt x="1303" y="553"/>
                    </a:lnTo>
                    <a:lnTo>
                      <a:pt x="1315" y="553"/>
                    </a:lnTo>
                    <a:lnTo>
                      <a:pt x="1321" y="559"/>
                    </a:lnTo>
                    <a:lnTo>
                      <a:pt x="1333" y="559"/>
                    </a:lnTo>
                    <a:lnTo>
                      <a:pt x="1345" y="559"/>
                    </a:lnTo>
                    <a:lnTo>
                      <a:pt x="1351" y="559"/>
                    </a:lnTo>
                    <a:lnTo>
                      <a:pt x="1363" y="559"/>
                    </a:lnTo>
                    <a:lnTo>
                      <a:pt x="1375" y="565"/>
                    </a:lnTo>
                    <a:lnTo>
                      <a:pt x="1381" y="565"/>
                    </a:lnTo>
                    <a:lnTo>
                      <a:pt x="1393" y="565"/>
                    </a:lnTo>
                    <a:lnTo>
                      <a:pt x="1405" y="565"/>
                    </a:lnTo>
                    <a:lnTo>
                      <a:pt x="1411" y="565"/>
                    </a:lnTo>
                    <a:lnTo>
                      <a:pt x="1411" y="141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3e29"/>
                  </a:gs>
                  <a:gs pos="50000">
                    <a:srgbClr val="9c291b"/>
                  </a:gs>
                  <a:gs pos="100000">
                    <a:srgbClr val="eb3e2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5400000">
                <a:off x="3343320" y="1904400"/>
                <a:ext cx="2239920" cy="2249280"/>
              </a:xfrm>
              <a:custGeom>
                <a:avLst/>
                <a:gdLst/>
                <a:ahLst/>
                <a:rect l="l" t="t" r="r" b="b"/>
                <a:pathLst>
                  <a:path w="1411" h="1417">
                    <a:moveTo>
                      <a:pt x="1411" y="1417"/>
                    </a:moveTo>
                    <a:lnTo>
                      <a:pt x="1387" y="1417"/>
                    </a:lnTo>
                    <a:lnTo>
                      <a:pt x="1363" y="1417"/>
                    </a:lnTo>
                    <a:lnTo>
                      <a:pt x="1339" y="1411"/>
                    </a:lnTo>
                    <a:lnTo>
                      <a:pt x="1315" y="1411"/>
                    </a:lnTo>
                    <a:lnTo>
                      <a:pt x="1291" y="1411"/>
                    </a:lnTo>
                    <a:lnTo>
                      <a:pt x="1267" y="1405"/>
                    </a:lnTo>
                    <a:lnTo>
                      <a:pt x="1243" y="1405"/>
                    </a:lnTo>
                    <a:lnTo>
                      <a:pt x="1213" y="1399"/>
                    </a:lnTo>
                    <a:lnTo>
                      <a:pt x="1189" y="1399"/>
                    </a:lnTo>
                    <a:lnTo>
                      <a:pt x="1165" y="1393"/>
                    </a:lnTo>
                    <a:lnTo>
                      <a:pt x="1141" y="1387"/>
                    </a:lnTo>
                    <a:lnTo>
                      <a:pt x="1117" y="1387"/>
                    </a:lnTo>
                    <a:lnTo>
                      <a:pt x="1093" y="1381"/>
                    </a:lnTo>
                    <a:lnTo>
                      <a:pt x="1069" y="1375"/>
                    </a:lnTo>
                    <a:lnTo>
                      <a:pt x="1045" y="1369"/>
                    </a:lnTo>
                    <a:lnTo>
                      <a:pt x="1021" y="1363"/>
                    </a:lnTo>
                    <a:lnTo>
                      <a:pt x="997" y="1351"/>
                    </a:lnTo>
                    <a:lnTo>
                      <a:pt x="973" y="1345"/>
                    </a:lnTo>
                    <a:lnTo>
                      <a:pt x="955" y="1339"/>
                    </a:lnTo>
                    <a:lnTo>
                      <a:pt x="931" y="1333"/>
                    </a:lnTo>
                    <a:lnTo>
                      <a:pt x="907" y="1321"/>
                    </a:lnTo>
                    <a:lnTo>
                      <a:pt x="883" y="1315"/>
                    </a:lnTo>
                    <a:lnTo>
                      <a:pt x="859" y="1303"/>
                    </a:lnTo>
                    <a:lnTo>
                      <a:pt x="835" y="1291"/>
                    </a:lnTo>
                    <a:lnTo>
                      <a:pt x="817" y="1285"/>
                    </a:lnTo>
                    <a:lnTo>
                      <a:pt x="793" y="1273"/>
                    </a:lnTo>
                    <a:lnTo>
                      <a:pt x="769" y="1261"/>
                    </a:lnTo>
                    <a:lnTo>
                      <a:pt x="751" y="1249"/>
                    </a:lnTo>
                    <a:lnTo>
                      <a:pt x="727" y="1237"/>
                    </a:lnTo>
                    <a:lnTo>
                      <a:pt x="703" y="1225"/>
                    </a:lnTo>
                    <a:lnTo>
                      <a:pt x="685" y="1213"/>
                    </a:lnTo>
                    <a:lnTo>
                      <a:pt x="661" y="1201"/>
                    </a:lnTo>
                    <a:lnTo>
                      <a:pt x="643" y="1189"/>
                    </a:lnTo>
                    <a:lnTo>
                      <a:pt x="625" y="1171"/>
                    </a:lnTo>
                    <a:lnTo>
                      <a:pt x="601" y="1159"/>
                    </a:lnTo>
                    <a:lnTo>
                      <a:pt x="583" y="1147"/>
                    </a:lnTo>
                    <a:lnTo>
                      <a:pt x="565" y="1129"/>
                    </a:lnTo>
                    <a:lnTo>
                      <a:pt x="541" y="1117"/>
                    </a:lnTo>
                    <a:lnTo>
                      <a:pt x="523" y="1099"/>
                    </a:lnTo>
                    <a:lnTo>
                      <a:pt x="505" y="1087"/>
                    </a:lnTo>
                    <a:lnTo>
                      <a:pt x="487" y="1069"/>
                    </a:lnTo>
                    <a:lnTo>
                      <a:pt x="469" y="1051"/>
                    </a:lnTo>
                    <a:lnTo>
                      <a:pt x="451" y="1033"/>
                    </a:lnTo>
                    <a:lnTo>
                      <a:pt x="433" y="1021"/>
                    </a:lnTo>
                    <a:lnTo>
                      <a:pt x="415" y="1003"/>
                    </a:lnTo>
                    <a:lnTo>
                      <a:pt x="397" y="985"/>
                    </a:lnTo>
                    <a:lnTo>
                      <a:pt x="379" y="967"/>
                    </a:lnTo>
                    <a:lnTo>
                      <a:pt x="361" y="949"/>
                    </a:lnTo>
                    <a:lnTo>
                      <a:pt x="349" y="931"/>
                    </a:lnTo>
                    <a:lnTo>
                      <a:pt x="331" y="907"/>
                    </a:lnTo>
                    <a:lnTo>
                      <a:pt x="313" y="889"/>
                    </a:lnTo>
                    <a:lnTo>
                      <a:pt x="301" y="871"/>
                    </a:lnTo>
                    <a:lnTo>
                      <a:pt x="283" y="853"/>
                    </a:lnTo>
                    <a:lnTo>
                      <a:pt x="271" y="829"/>
                    </a:lnTo>
                    <a:lnTo>
                      <a:pt x="253" y="811"/>
                    </a:lnTo>
                    <a:lnTo>
                      <a:pt x="241" y="793"/>
                    </a:lnTo>
                    <a:lnTo>
                      <a:pt x="229" y="769"/>
                    </a:lnTo>
                    <a:lnTo>
                      <a:pt x="217" y="751"/>
                    </a:lnTo>
                    <a:lnTo>
                      <a:pt x="198" y="727"/>
                    </a:lnTo>
                    <a:lnTo>
                      <a:pt x="186" y="709"/>
                    </a:lnTo>
                    <a:lnTo>
                      <a:pt x="174" y="685"/>
                    </a:lnTo>
                    <a:lnTo>
                      <a:pt x="162" y="667"/>
                    </a:lnTo>
                    <a:lnTo>
                      <a:pt x="150" y="643"/>
                    </a:lnTo>
                    <a:lnTo>
                      <a:pt x="144" y="619"/>
                    </a:lnTo>
                    <a:lnTo>
                      <a:pt x="132" y="595"/>
                    </a:lnTo>
                    <a:lnTo>
                      <a:pt x="120" y="577"/>
                    </a:lnTo>
                    <a:lnTo>
                      <a:pt x="108" y="553"/>
                    </a:lnTo>
                    <a:lnTo>
                      <a:pt x="102" y="529"/>
                    </a:lnTo>
                    <a:lnTo>
                      <a:pt x="90" y="505"/>
                    </a:lnTo>
                    <a:lnTo>
                      <a:pt x="84" y="481"/>
                    </a:lnTo>
                    <a:lnTo>
                      <a:pt x="78" y="463"/>
                    </a:lnTo>
                    <a:lnTo>
                      <a:pt x="66" y="439"/>
                    </a:lnTo>
                    <a:lnTo>
                      <a:pt x="60" y="415"/>
                    </a:lnTo>
                    <a:lnTo>
                      <a:pt x="54" y="391"/>
                    </a:lnTo>
                    <a:lnTo>
                      <a:pt x="48" y="367"/>
                    </a:lnTo>
                    <a:lnTo>
                      <a:pt x="42" y="343"/>
                    </a:lnTo>
                    <a:lnTo>
                      <a:pt x="36" y="319"/>
                    </a:lnTo>
                    <a:lnTo>
                      <a:pt x="30" y="295"/>
                    </a:lnTo>
                    <a:lnTo>
                      <a:pt x="24" y="271"/>
                    </a:lnTo>
                    <a:lnTo>
                      <a:pt x="18" y="247"/>
                    </a:lnTo>
                    <a:lnTo>
                      <a:pt x="18" y="223"/>
                    </a:lnTo>
                    <a:lnTo>
                      <a:pt x="12" y="199"/>
                    </a:lnTo>
                    <a:lnTo>
                      <a:pt x="12" y="175"/>
                    </a:lnTo>
                    <a:lnTo>
                      <a:pt x="6" y="145"/>
                    </a:lnTo>
                    <a:lnTo>
                      <a:pt x="6" y="121"/>
                    </a:lnTo>
                    <a:lnTo>
                      <a:pt x="0" y="97"/>
                    </a:lnTo>
                    <a:lnTo>
                      <a:pt x="0" y="73"/>
                    </a:lnTo>
                    <a:lnTo>
                      <a:pt x="0" y="49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847" y="0"/>
                    </a:lnTo>
                    <a:lnTo>
                      <a:pt x="847" y="6"/>
                    </a:lnTo>
                    <a:lnTo>
                      <a:pt x="847" y="18"/>
                    </a:lnTo>
                    <a:lnTo>
                      <a:pt x="847" y="31"/>
                    </a:lnTo>
                    <a:lnTo>
                      <a:pt x="847" y="37"/>
                    </a:lnTo>
                    <a:lnTo>
                      <a:pt x="847" y="49"/>
                    </a:lnTo>
                    <a:lnTo>
                      <a:pt x="847" y="61"/>
                    </a:lnTo>
                    <a:lnTo>
                      <a:pt x="847" y="67"/>
                    </a:lnTo>
                    <a:lnTo>
                      <a:pt x="853" y="79"/>
                    </a:lnTo>
                    <a:lnTo>
                      <a:pt x="853" y="85"/>
                    </a:lnTo>
                    <a:lnTo>
                      <a:pt x="853" y="97"/>
                    </a:lnTo>
                    <a:lnTo>
                      <a:pt x="853" y="109"/>
                    </a:lnTo>
                    <a:lnTo>
                      <a:pt x="859" y="115"/>
                    </a:lnTo>
                    <a:lnTo>
                      <a:pt x="859" y="127"/>
                    </a:lnTo>
                    <a:lnTo>
                      <a:pt x="865" y="133"/>
                    </a:lnTo>
                    <a:lnTo>
                      <a:pt x="865" y="145"/>
                    </a:lnTo>
                    <a:lnTo>
                      <a:pt x="865" y="157"/>
                    </a:lnTo>
                    <a:lnTo>
                      <a:pt x="871" y="163"/>
                    </a:lnTo>
                    <a:lnTo>
                      <a:pt x="871" y="175"/>
                    </a:lnTo>
                    <a:lnTo>
                      <a:pt x="877" y="181"/>
                    </a:lnTo>
                    <a:lnTo>
                      <a:pt x="877" y="193"/>
                    </a:lnTo>
                    <a:lnTo>
                      <a:pt x="883" y="199"/>
                    </a:lnTo>
                    <a:lnTo>
                      <a:pt x="889" y="211"/>
                    </a:lnTo>
                    <a:lnTo>
                      <a:pt x="889" y="217"/>
                    </a:lnTo>
                    <a:lnTo>
                      <a:pt x="895" y="229"/>
                    </a:lnTo>
                    <a:lnTo>
                      <a:pt x="901" y="235"/>
                    </a:lnTo>
                    <a:lnTo>
                      <a:pt x="901" y="247"/>
                    </a:lnTo>
                    <a:lnTo>
                      <a:pt x="907" y="253"/>
                    </a:lnTo>
                    <a:lnTo>
                      <a:pt x="913" y="265"/>
                    </a:lnTo>
                    <a:lnTo>
                      <a:pt x="919" y="271"/>
                    </a:lnTo>
                    <a:lnTo>
                      <a:pt x="919" y="283"/>
                    </a:lnTo>
                    <a:lnTo>
                      <a:pt x="925" y="289"/>
                    </a:lnTo>
                    <a:lnTo>
                      <a:pt x="931" y="301"/>
                    </a:lnTo>
                    <a:lnTo>
                      <a:pt x="937" y="307"/>
                    </a:lnTo>
                    <a:lnTo>
                      <a:pt x="943" y="313"/>
                    </a:lnTo>
                    <a:lnTo>
                      <a:pt x="949" y="325"/>
                    </a:lnTo>
                    <a:lnTo>
                      <a:pt x="955" y="331"/>
                    </a:lnTo>
                    <a:lnTo>
                      <a:pt x="961" y="337"/>
                    </a:lnTo>
                    <a:lnTo>
                      <a:pt x="967" y="349"/>
                    </a:lnTo>
                    <a:lnTo>
                      <a:pt x="973" y="355"/>
                    </a:lnTo>
                    <a:lnTo>
                      <a:pt x="979" y="361"/>
                    </a:lnTo>
                    <a:lnTo>
                      <a:pt x="985" y="367"/>
                    </a:lnTo>
                    <a:lnTo>
                      <a:pt x="991" y="379"/>
                    </a:lnTo>
                    <a:lnTo>
                      <a:pt x="997" y="385"/>
                    </a:lnTo>
                    <a:lnTo>
                      <a:pt x="1003" y="391"/>
                    </a:lnTo>
                    <a:lnTo>
                      <a:pt x="1009" y="397"/>
                    </a:lnTo>
                    <a:lnTo>
                      <a:pt x="1021" y="403"/>
                    </a:lnTo>
                    <a:lnTo>
                      <a:pt x="1027" y="409"/>
                    </a:lnTo>
                    <a:lnTo>
                      <a:pt x="1033" y="421"/>
                    </a:lnTo>
                    <a:lnTo>
                      <a:pt x="1039" y="427"/>
                    </a:lnTo>
                    <a:lnTo>
                      <a:pt x="1051" y="433"/>
                    </a:lnTo>
                    <a:lnTo>
                      <a:pt x="1057" y="439"/>
                    </a:lnTo>
                    <a:lnTo>
                      <a:pt x="1063" y="445"/>
                    </a:lnTo>
                    <a:lnTo>
                      <a:pt x="1069" y="451"/>
                    </a:lnTo>
                    <a:lnTo>
                      <a:pt x="1081" y="457"/>
                    </a:lnTo>
                    <a:lnTo>
                      <a:pt x="1087" y="463"/>
                    </a:lnTo>
                    <a:lnTo>
                      <a:pt x="1093" y="469"/>
                    </a:lnTo>
                    <a:lnTo>
                      <a:pt x="1105" y="475"/>
                    </a:lnTo>
                    <a:lnTo>
                      <a:pt x="1111" y="475"/>
                    </a:lnTo>
                    <a:lnTo>
                      <a:pt x="1123" y="481"/>
                    </a:lnTo>
                    <a:lnTo>
                      <a:pt x="1129" y="487"/>
                    </a:lnTo>
                    <a:lnTo>
                      <a:pt x="1135" y="493"/>
                    </a:lnTo>
                    <a:lnTo>
                      <a:pt x="1147" y="499"/>
                    </a:lnTo>
                    <a:lnTo>
                      <a:pt x="1153" y="505"/>
                    </a:lnTo>
                    <a:lnTo>
                      <a:pt x="1165" y="505"/>
                    </a:lnTo>
                    <a:lnTo>
                      <a:pt x="1171" y="511"/>
                    </a:lnTo>
                    <a:lnTo>
                      <a:pt x="1183" y="517"/>
                    </a:lnTo>
                    <a:lnTo>
                      <a:pt x="1189" y="517"/>
                    </a:lnTo>
                    <a:lnTo>
                      <a:pt x="1201" y="523"/>
                    </a:lnTo>
                    <a:lnTo>
                      <a:pt x="1207" y="529"/>
                    </a:lnTo>
                    <a:lnTo>
                      <a:pt x="1219" y="529"/>
                    </a:lnTo>
                    <a:lnTo>
                      <a:pt x="1225" y="535"/>
                    </a:lnTo>
                    <a:lnTo>
                      <a:pt x="1237" y="535"/>
                    </a:lnTo>
                    <a:lnTo>
                      <a:pt x="1249" y="541"/>
                    </a:lnTo>
                    <a:lnTo>
                      <a:pt x="1255" y="541"/>
                    </a:lnTo>
                    <a:lnTo>
                      <a:pt x="1267" y="547"/>
                    </a:lnTo>
                    <a:lnTo>
                      <a:pt x="1273" y="547"/>
                    </a:lnTo>
                    <a:lnTo>
                      <a:pt x="1285" y="547"/>
                    </a:lnTo>
                    <a:lnTo>
                      <a:pt x="1297" y="553"/>
                    </a:lnTo>
                    <a:lnTo>
                      <a:pt x="1303" y="553"/>
                    </a:lnTo>
                    <a:lnTo>
                      <a:pt x="1315" y="553"/>
                    </a:lnTo>
                    <a:lnTo>
                      <a:pt x="1321" y="559"/>
                    </a:lnTo>
                    <a:lnTo>
                      <a:pt x="1333" y="559"/>
                    </a:lnTo>
                    <a:lnTo>
                      <a:pt x="1345" y="559"/>
                    </a:lnTo>
                    <a:lnTo>
                      <a:pt x="1351" y="559"/>
                    </a:lnTo>
                    <a:lnTo>
                      <a:pt x="1363" y="559"/>
                    </a:lnTo>
                    <a:lnTo>
                      <a:pt x="1375" y="565"/>
                    </a:lnTo>
                    <a:lnTo>
                      <a:pt x="1381" y="565"/>
                    </a:lnTo>
                    <a:lnTo>
                      <a:pt x="1393" y="565"/>
                    </a:lnTo>
                    <a:lnTo>
                      <a:pt x="1405" y="565"/>
                    </a:lnTo>
                    <a:lnTo>
                      <a:pt x="1411" y="565"/>
                    </a:lnTo>
                    <a:lnTo>
                      <a:pt x="1411" y="141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4c"/>
                  </a:gs>
                  <a:gs pos="100000">
                    <a:srgbClr val="eb3e2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10800000">
                <a:off x="5610240" y="1905120"/>
                <a:ext cx="2239920" cy="2249280"/>
              </a:xfrm>
              <a:custGeom>
                <a:avLst/>
                <a:gdLst/>
                <a:ahLst/>
                <a:rect l="l" t="t" r="r" b="b"/>
                <a:pathLst>
                  <a:path w="1411" h="1417">
                    <a:moveTo>
                      <a:pt x="1411" y="1417"/>
                    </a:moveTo>
                    <a:lnTo>
                      <a:pt x="1387" y="1417"/>
                    </a:lnTo>
                    <a:lnTo>
                      <a:pt x="1363" y="1417"/>
                    </a:lnTo>
                    <a:lnTo>
                      <a:pt x="1339" y="1411"/>
                    </a:lnTo>
                    <a:lnTo>
                      <a:pt x="1315" y="1411"/>
                    </a:lnTo>
                    <a:lnTo>
                      <a:pt x="1291" y="1411"/>
                    </a:lnTo>
                    <a:lnTo>
                      <a:pt x="1267" y="1405"/>
                    </a:lnTo>
                    <a:lnTo>
                      <a:pt x="1243" y="1405"/>
                    </a:lnTo>
                    <a:lnTo>
                      <a:pt x="1213" y="1399"/>
                    </a:lnTo>
                    <a:lnTo>
                      <a:pt x="1189" y="1399"/>
                    </a:lnTo>
                    <a:lnTo>
                      <a:pt x="1165" y="1393"/>
                    </a:lnTo>
                    <a:lnTo>
                      <a:pt x="1141" y="1387"/>
                    </a:lnTo>
                    <a:lnTo>
                      <a:pt x="1117" y="1387"/>
                    </a:lnTo>
                    <a:lnTo>
                      <a:pt x="1093" y="1381"/>
                    </a:lnTo>
                    <a:lnTo>
                      <a:pt x="1069" y="1375"/>
                    </a:lnTo>
                    <a:lnTo>
                      <a:pt x="1045" y="1369"/>
                    </a:lnTo>
                    <a:lnTo>
                      <a:pt x="1021" y="1363"/>
                    </a:lnTo>
                    <a:lnTo>
                      <a:pt x="997" y="1351"/>
                    </a:lnTo>
                    <a:lnTo>
                      <a:pt x="973" y="1345"/>
                    </a:lnTo>
                    <a:lnTo>
                      <a:pt x="955" y="1339"/>
                    </a:lnTo>
                    <a:lnTo>
                      <a:pt x="931" y="1333"/>
                    </a:lnTo>
                    <a:lnTo>
                      <a:pt x="907" y="1321"/>
                    </a:lnTo>
                    <a:lnTo>
                      <a:pt x="883" y="1315"/>
                    </a:lnTo>
                    <a:lnTo>
                      <a:pt x="859" y="1303"/>
                    </a:lnTo>
                    <a:lnTo>
                      <a:pt x="835" y="1291"/>
                    </a:lnTo>
                    <a:lnTo>
                      <a:pt x="817" y="1285"/>
                    </a:lnTo>
                    <a:lnTo>
                      <a:pt x="793" y="1273"/>
                    </a:lnTo>
                    <a:lnTo>
                      <a:pt x="769" y="1261"/>
                    </a:lnTo>
                    <a:lnTo>
                      <a:pt x="751" y="1249"/>
                    </a:lnTo>
                    <a:lnTo>
                      <a:pt x="727" y="1237"/>
                    </a:lnTo>
                    <a:lnTo>
                      <a:pt x="703" y="1225"/>
                    </a:lnTo>
                    <a:lnTo>
                      <a:pt x="685" y="1213"/>
                    </a:lnTo>
                    <a:lnTo>
                      <a:pt x="661" y="1201"/>
                    </a:lnTo>
                    <a:lnTo>
                      <a:pt x="643" y="1189"/>
                    </a:lnTo>
                    <a:lnTo>
                      <a:pt x="625" y="1171"/>
                    </a:lnTo>
                    <a:lnTo>
                      <a:pt x="601" y="1159"/>
                    </a:lnTo>
                    <a:lnTo>
                      <a:pt x="583" y="1147"/>
                    </a:lnTo>
                    <a:lnTo>
                      <a:pt x="565" y="1129"/>
                    </a:lnTo>
                    <a:lnTo>
                      <a:pt x="541" y="1117"/>
                    </a:lnTo>
                    <a:lnTo>
                      <a:pt x="523" y="1099"/>
                    </a:lnTo>
                    <a:lnTo>
                      <a:pt x="505" y="1087"/>
                    </a:lnTo>
                    <a:lnTo>
                      <a:pt x="487" y="1069"/>
                    </a:lnTo>
                    <a:lnTo>
                      <a:pt x="469" y="1051"/>
                    </a:lnTo>
                    <a:lnTo>
                      <a:pt x="451" y="1033"/>
                    </a:lnTo>
                    <a:lnTo>
                      <a:pt x="433" y="1021"/>
                    </a:lnTo>
                    <a:lnTo>
                      <a:pt x="415" y="1003"/>
                    </a:lnTo>
                    <a:lnTo>
                      <a:pt x="397" y="985"/>
                    </a:lnTo>
                    <a:lnTo>
                      <a:pt x="379" y="967"/>
                    </a:lnTo>
                    <a:lnTo>
                      <a:pt x="361" y="949"/>
                    </a:lnTo>
                    <a:lnTo>
                      <a:pt x="349" y="931"/>
                    </a:lnTo>
                    <a:lnTo>
                      <a:pt x="331" y="907"/>
                    </a:lnTo>
                    <a:lnTo>
                      <a:pt x="313" y="889"/>
                    </a:lnTo>
                    <a:lnTo>
                      <a:pt x="301" y="871"/>
                    </a:lnTo>
                    <a:lnTo>
                      <a:pt x="283" y="853"/>
                    </a:lnTo>
                    <a:lnTo>
                      <a:pt x="271" y="829"/>
                    </a:lnTo>
                    <a:lnTo>
                      <a:pt x="253" y="811"/>
                    </a:lnTo>
                    <a:lnTo>
                      <a:pt x="241" y="793"/>
                    </a:lnTo>
                    <a:lnTo>
                      <a:pt x="229" y="769"/>
                    </a:lnTo>
                    <a:lnTo>
                      <a:pt x="217" y="751"/>
                    </a:lnTo>
                    <a:lnTo>
                      <a:pt x="198" y="727"/>
                    </a:lnTo>
                    <a:lnTo>
                      <a:pt x="186" y="709"/>
                    </a:lnTo>
                    <a:lnTo>
                      <a:pt x="174" y="685"/>
                    </a:lnTo>
                    <a:lnTo>
                      <a:pt x="162" y="667"/>
                    </a:lnTo>
                    <a:lnTo>
                      <a:pt x="150" y="643"/>
                    </a:lnTo>
                    <a:lnTo>
                      <a:pt x="144" y="619"/>
                    </a:lnTo>
                    <a:lnTo>
                      <a:pt x="132" y="595"/>
                    </a:lnTo>
                    <a:lnTo>
                      <a:pt x="120" y="577"/>
                    </a:lnTo>
                    <a:lnTo>
                      <a:pt x="108" y="553"/>
                    </a:lnTo>
                    <a:lnTo>
                      <a:pt x="102" y="529"/>
                    </a:lnTo>
                    <a:lnTo>
                      <a:pt x="90" y="505"/>
                    </a:lnTo>
                    <a:lnTo>
                      <a:pt x="84" y="481"/>
                    </a:lnTo>
                    <a:lnTo>
                      <a:pt x="78" y="463"/>
                    </a:lnTo>
                    <a:lnTo>
                      <a:pt x="66" y="439"/>
                    </a:lnTo>
                    <a:lnTo>
                      <a:pt x="60" y="415"/>
                    </a:lnTo>
                    <a:lnTo>
                      <a:pt x="54" y="391"/>
                    </a:lnTo>
                    <a:lnTo>
                      <a:pt x="48" y="367"/>
                    </a:lnTo>
                    <a:lnTo>
                      <a:pt x="42" y="343"/>
                    </a:lnTo>
                    <a:lnTo>
                      <a:pt x="36" y="319"/>
                    </a:lnTo>
                    <a:lnTo>
                      <a:pt x="30" y="295"/>
                    </a:lnTo>
                    <a:lnTo>
                      <a:pt x="24" y="271"/>
                    </a:lnTo>
                    <a:lnTo>
                      <a:pt x="18" y="247"/>
                    </a:lnTo>
                    <a:lnTo>
                      <a:pt x="18" y="223"/>
                    </a:lnTo>
                    <a:lnTo>
                      <a:pt x="12" y="199"/>
                    </a:lnTo>
                    <a:lnTo>
                      <a:pt x="12" y="175"/>
                    </a:lnTo>
                    <a:lnTo>
                      <a:pt x="6" y="145"/>
                    </a:lnTo>
                    <a:lnTo>
                      <a:pt x="6" y="121"/>
                    </a:lnTo>
                    <a:lnTo>
                      <a:pt x="0" y="97"/>
                    </a:lnTo>
                    <a:lnTo>
                      <a:pt x="0" y="73"/>
                    </a:lnTo>
                    <a:lnTo>
                      <a:pt x="0" y="49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847" y="0"/>
                    </a:lnTo>
                    <a:lnTo>
                      <a:pt x="847" y="6"/>
                    </a:lnTo>
                    <a:lnTo>
                      <a:pt x="847" y="18"/>
                    </a:lnTo>
                    <a:lnTo>
                      <a:pt x="847" y="31"/>
                    </a:lnTo>
                    <a:lnTo>
                      <a:pt x="847" y="37"/>
                    </a:lnTo>
                    <a:lnTo>
                      <a:pt x="847" y="49"/>
                    </a:lnTo>
                    <a:lnTo>
                      <a:pt x="847" y="61"/>
                    </a:lnTo>
                    <a:lnTo>
                      <a:pt x="847" y="67"/>
                    </a:lnTo>
                    <a:lnTo>
                      <a:pt x="853" y="79"/>
                    </a:lnTo>
                    <a:lnTo>
                      <a:pt x="853" y="85"/>
                    </a:lnTo>
                    <a:lnTo>
                      <a:pt x="853" y="97"/>
                    </a:lnTo>
                    <a:lnTo>
                      <a:pt x="853" y="109"/>
                    </a:lnTo>
                    <a:lnTo>
                      <a:pt x="859" y="115"/>
                    </a:lnTo>
                    <a:lnTo>
                      <a:pt x="859" y="127"/>
                    </a:lnTo>
                    <a:lnTo>
                      <a:pt x="865" y="133"/>
                    </a:lnTo>
                    <a:lnTo>
                      <a:pt x="865" y="145"/>
                    </a:lnTo>
                    <a:lnTo>
                      <a:pt x="865" y="157"/>
                    </a:lnTo>
                    <a:lnTo>
                      <a:pt x="871" y="163"/>
                    </a:lnTo>
                    <a:lnTo>
                      <a:pt x="871" y="175"/>
                    </a:lnTo>
                    <a:lnTo>
                      <a:pt x="877" y="181"/>
                    </a:lnTo>
                    <a:lnTo>
                      <a:pt x="877" y="193"/>
                    </a:lnTo>
                    <a:lnTo>
                      <a:pt x="883" y="199"/>
                    </a:lnTo>
                    <a:lnTo>
                      <a:pt x="889" y="211"/>
                    </a:lnTo>
                    <a:lnTo>
                      <a:pt x="889" y="217"/>
                    </a:lnTo>
                    <a:lnTo>
                      <a:pt x="895" y="229"/>
                    </a:lnTo>
                    <a:lnTo>
                      <a:pt x="901" y="235"/>
                    </a:lnTo>
                    <a:lnTo>
                      <a:pt x="901" y="247"/>
                    </a:lnTo>
                    <a:lnTo>
                      <a:pt x="907" y="253"/>
                    </a:lnTo>
                    <a:lnTo>
                      <a:pt x="913" y="265"/>
                    </a:lnTo>
                    <a:lnTo>
                      <a:pt x="919" y="271"/>
                    </a:lnTo>
                    <a:lnTo>
                      <a:pt x="919" y="283"/>
                    </a:lnTo>
                    <a:lnTo>
                      <a:pt x="925" y="289"/>
                    </a:lnTo>
                    <a:lnTo>
                      <a:pt x="931" y="301"/>
                    </a:lnTo>
                    <a:lnTo>
                      <a:pt x="937" y="307"/>
                    </a:lnTo>
                    <a:lnTo>
                      <a:pt x="943" y="313"/>
                    </a:lnTo>
                    <a:lnTo>
                      <a:pt x="949" y="325"/>
                    </a:lnTo>
                    <a:lnTo>
                      <a:pt x="955" y="331"/>
                    </a:lnTo>
                    <a:lnTo>
                      <a:pt x="961" y="337"/>
                    </a:lnTo>
                    <a:lnTo>
                      <a:pt x="967" y="349"/>
                    </a:lnTo>
                    <a:lnTo>
                      <a:pt x="973" y="355"/>
                    </a:lnTo>
                    <a:lnTo>
                      <a:pt x="979" y="361"/>
                    </a:lnTo>
                    <a:lnTo>
                      <a:pt x="985" y="367"/>
                    </a:lnTo>
                    <a:lnTo>
                      <a:pt x="991" y="379"/>
                    </a:lnTo>
                    <a:lnTo>
                      <a:pt x="997" y="385"/>
                    </a:lnTo>
                    <a:lnTo>
                      <a:pt x="1003" y="391"/>
                    </a:lnTo>
                    <a:lnTo>
                      <a:pt x="1009" y="397"/>
                    </a:lnTo>
                    <a:lnTo>
                      <a:pt x="1021" y="403"/>
                    </a:lnTo>
                    <a:lnTo>
                      <a:pt x="1027" y="409"/>
                    </a:lnTo>
                    <a:lnTo>
                      <a:pt x="1033" y="421"/>
                    </a:lnTo>
                    <a:lnTo>
                      <a:pt x="1039" y="427"/>
                    </a:lnTo>
                    <a:lnTo>
                      <a:pt x="1051" y="433"/>
                    </a:lnTo>
                    <a:lnTo>
                      <a:pt x="1057" y="439"/>
                    </a:lnTo>
                    <a:lnTo>
                      <a:pt x="1063" y="445"/>
                    </a:lnTo>
                    <a:lnTo>
                      <a:pt x="1069" y="451"/>
                    </a:lnTo>
                    <a:lnTo>
                      <a:pt x="1081" y="457"/>
                    </a:lnTo>
                    <a:lnTo>
                      <a:pt x="1087" y="463"/>
                    </a:lnTo>
                    <a:lnTo>
                      <a:pt x="1093" y="469"/>
                    </a:lnTo>
                    <a:lnTo>
                      <a:pt x="1105" y="475"/>
                    </a:lnTo>
                    <a:lnTo>
                      <a:pt x="1111" y="475"/>
                    </a:lnTo>
                    <a:lnTo>
                      <a:pt x="1123" y="481"/>
                    </a:lnTo>
                    <a:lnTo>
                      <a:pt x="1129" y="487"/>
                    </a:lnTo>
                    <a:lnTo>
                      <a:pt x="1135" y="493"/>
                    </a:lnTo>
                    <a:lnTo>
                      <a:pt x="1147" y="499"/>
                    </a:lnTo>
                    <a:lnTo>
                      <a:pt x="1153" y="505"/>
                    </a:lnTo>
                    <a:lnTo>
                      <a:pt x="1165" y="505"/>
                    </a:lnTo>
                    <a:lnTo>
                      <a:pt x="1171" y="511"/>
                    </a:lnTo>
                    <a:lnTo>
                      <a:pt x="1183" y="517"/>
                    </a:lnTo>
                    <a:lnTo>
                      <a:pt x="1189" y="517"/>
                    </a:lnTo>
                    <a:lnTo>
                      <a:pt x="1201" y="523"/>
                    </a:lnTo>
                    <a:lnTo>
                      <a:pt x="1207" y="529"/>
                    </a:lnTo>
                    <a:lnTo>
                      <a:pt x="1219" y="529"/>
                    </a:lnTo>
                    <a:lnTo>
                      <a:pt x="1225" y="535"/>
                    </a:lnTo>
                    <a:lnTo>
                      <a:pt x="1237" y="535"/>
                    </a:lnTo>
                    <a:lnTo>
                      <a:pt x="1249" y="541"/>
                    </a:lnTo>
                    <a:lnTo>
                      <a:pt x="1255" y="541"/>
                    </a:lnTo>
                    <a:lnTo>
                      <a:pt x="1267" y="547"/>
                    </a:lnTo>
                    <a:lnTo>
                      <a:pt x="1273" y="547"/>
                    </a:lnTo>
                    <a:lnTo>
                      <a:pt x="1285" y="547"/>
                    </a:lnTo>
                    <a:lnTo>
                      <a:pt x="1297" y="553"/>
                    </a:lnTo>
                    <a:lnTo>
                      <a:pt x="1303" y="553"/>
                    </a:lnTo>
                    <a:lnTo>
                      <a:pt x="1315" y="553"/>
                    </a:lnTo>
                    <a:lnTo>
                      <a:pt x="1321" y="559"/>
                    </a:lnTo>
                    <a:lnTo>
                      <a:pt x="1333" y="559"/>
                    </a:lnTo>
                    <a:lnTo>
                      <a:pt x="1345" y="559"/>
                    </a:lnTo>
                    <a:lnTo>
                      <a:pt x="1351" y="559"/>
                    </a:lnTo>
                    <a:lnTo>
                      <a:pt x="1363" y="559"/>
                    </a:lnTo>
                    <a:lnTo>
                      <a:pt x="1375" y="565"/>
                    </a:lnTo>
                    <a:lnTo>
                      <a:pt x="1381" y="565"/>
                    </a:lnTo>
                    <a:lnTo>
                      <a:pt x="1393" y="565"/>
                    </a:lnTo>
                    <a:lnTo>
                      <a:pt x="1405" y="565"/>
                    </a:lnTo>
                    <a:lnTo>
                      <a:pt x="1411" y="565"/>
                    </a:lnTo>
                    <a:lnTo>
                      <a:pt x="1411" y="141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4c"/>
                  </a:gs>
                  <a:gs pos="50000">
                    <a:srgbClr val="fed697"/>
                  </a:gs>
                  <a:gs pos="100000">
                    <a:srgbClr val="ffbb4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4" name=""/>
          <p:cNvSpPr/>
          <p:nvPr/>
        </p:nvSpPr>
        <p:spPr>
          <a:xfrm>
            <a:off x="1222200" y="1917720"/>
            <a:ext cx="271656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0000c8"/>
                </a:solidFill>
                <a:latin typeface="Arial"/>
              </a:rPr>
              <a:t>Skill-</a:t>
            </a:r>
            <a:br>
              <a:rPr sz="3100"/>
            </a:br>
            <a:r>
              <a:rPr b="1" lang="de-DE" sz="3100" spc="-1" strike="noStrike">
                <a:solidFill>
                  <a:srgbClr val="0000c8"/>
                </a:solidFill>
                <a:latin typeface="Arial"/>
              </a:rPr>
              <a:t>management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063560" y="4716360"/>
            <a:ext cx="32652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0000c8"/>
                </a:solidFill>
                <a:latin typeface="Arial"/>
              </a:rPr>
              <a:t>Kommunikation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390680" y="3005280"/>
            <a:ext cx="22143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1800" spc="-1" strike="noStrike">
                <a:solidFill>
                  <a:srgbClr val="0000c8"/>
                </a:solidFill>
                <a:latin typeface="Arial"/>
              </a:rPr>
              <a:t>Ermittlung des persönlichen Qualifizierungs-bedar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201080" y="2357280"/>
            <a:ext cx="257616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c8"/>
              </a:buClr>
              <a:buSzPct val="140000"/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1800" spc="-1" strike="noStrike">
                <a:solidFill>
                  <a:srgbClr val="0000c8"/>
                </a:solidFill>
                <a:latin typeface="Arial"/>
              </a:rPr>
              <a:t>Integration von verschiedenen Bildungsmetho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c8"/>
              </a:buClr>
              <a:buSzPct val="140000"/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1800" spc="-1" strike="noStrike">
                <a:solidFill>
                  <a:srgbClr val="0000c8"/>
                </a:solidFill>
                <a:latin typeface="Arial"/>
              </a:rPr>
              <a:t>Obligatorische und fakultative Ele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c8"/>
              </a:buClr>
              <a:buSzPct val="140000"/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1800" spc="-1" strike="noStrike">
                <a:solidFill>
                  <a:srgbClr val="0000c8"/>
                </a:solidFill>
                <a:latin typeface="Arial"/>
              </a:rPr>
              <a:t>Individualisierbar für jeden Ler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201080" y="5253120"/>
            <a:ext cx="2938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1800" spc="-1" strike="noStrike">
                <a:solidFill>
                  <a:srgbClr val="0000c8"/>
                </a:solidFill>
                <a:latin typeface="Arial"/>
              </a:rPr>
              <a:t>zwisc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c8"/>
              </a:buClr>
              <a:buSzPct val="140000"/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1800" spc="-1" strike="noStrike">
                <a:solidFill>
                  <a:srgbClr val="0000c8"/>
                </a:solidFill>
                <a:latin typeface="Arial"/>
              </a:rPr>
              <a:t>Lerner / Ler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c8"/>
              </a:buClr>
              <a:buSzPct val="140000"/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1800" spc="-1" strike="noStrike">
                <a:solidFill>
                  <a:srgbClr val="0000c8"/>
                </a:solidFill>
                <a:latin typeface="Arial"/>
              </a:rPr>
              <a:t>Trainer / Ler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c8"/>
              </a:buClr>
              <a:buSzPct val="140000"/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1800" spc="-1" strike="noStrike">
                <a:solidFill>
                  <a:srgbClr val="0000c8"/>
                </a:solidFill>
                <a:latin typeface="Arial"/>
              </a:rPr>
              <a:t>Trainer / Trai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1800" spc="-1" strike="noStrike">
                <a:solidFill>
                  <a:srgbClr val="0000c8"/>
                </a:solidFill>
                <a:latin typeface="Arial"/>
              </a:rPr>
              <a:t>synchron und asynch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952560" y="5614920"/>
            <a:ext cx="3719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1800" spc="-1" strike="noStrike">
                <a:solidFill>
                  <a:srgbClr val="0000c8"/>
                </a:solidFill>
                <a:latin typeface="Arial"/>
              </a:rPr>
              <a:t>Adminis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c8"/>
              </a:buClr>
              <a:buSzPct val="140000"/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1800" spc="-1" strike="noStrike">
                <a:solidFill>
                  <a:srgbClr val="0000c8"/>
                </a:solidFill>
                <a:latin typeface="Arial"/>
              </a:rPr>
              <a:t>Anlegen von Benutz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c8"/>
              </a:buClr>
              <a:buSzPct val="140000"/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1800" spc="-1" strike="noStrike">
                <a:solidFill>
                  <a:srgbClr val="0000c8"/>
                </a:solidFill>
                <a:latin typeface="Arial"/>
              </a:rPr>
              <a:t>Einrichten von Diskussionsforen, Ch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c8"/>
              </a:buClr>
              <a:buSzPct val="140000"/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1800" spc="-1" strike="noStrike">
                <a:solidFill>
                  <a:srgbClr val="0000c8"/>
                </a:solidFill>
                <a:latin typeface="Arial"/>
              </a:rPr>
              <a:t>Generieren von Lernprozessen, Methodenauswah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114800" y="4700520"/>
            <a:ext cx="2881440" cy="11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c8"/>
              </a:buClr>
              <a:buSzPct val="140000"/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1800" spc="-1" strike="noStrike">
                <a:solidFill>
                  <a:srgbClr val="0000c8"/>
                </a:solidFill>
                <a:latin typeface="Arial"/>
              </a:rPr>
              <a:t>Zentrale Ablage und dezentraler Zugri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c8"/>
              </a:buClr>
              <a:buSzPct val="140000"/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1800" spc="-1" strike="noStrike">
                <a:solidFill>
                  <a:srgbClr val="0000c8"/>
                </a:solidFill>
                <a:latin typeface="Arial"/>
              </a:rPr>
              <a:t>Schnelles Auffinden von Wissenselemen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191120" y="2452680"/>
            <a:ext cx="2881080" cy="12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1800" spc="-1" strike="noStrike">
                <a:solidFill>
                  <a:srgbClr val="0000c8"/>
                </a:solidFill>
                <a:latin typeface="Arial"/>
              </a:rPr>
              <a:t>Bereitstellen v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c8"/>
              </a:buClr>
              <a:buSzPct val="140000"/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1800" spc="-1" strike="noStrike">
                <a:solidFill>
                  <a:srgbClr val="0000c8"/>
                </a:solidFill>
                <a:latin typeface="Arial"/>
              </a:rPr>
              <a:t>Lerninhalten u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c8"/>
              </a:buClr>
              <a:buSzPct val="140000"/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1800" spc="-1" strike="noStrike">
                <a:solidFill>
                  <a:srgbClr val="0000c8"/>
                </a:solidFill>
                <a:latin typeface="Arial"/>
              </a:rPr>
              <a:t>Informationen über Bildungsangeb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Wissensbasierte Informationssyste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9436320" cy="43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831960" indent="-32148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Anbindung an das Intr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32148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Benutzer- und Sicherheitskonz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32148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Anwesenheit bzw. Erreichbarkeit von Benutz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32148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Kommunikation und Diskussionsfo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32148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Einbeziehen externer Informationsqu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32148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okumenten-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32148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Unterstützung bei der Zusammenarbeit von Anwend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32148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Notifikation über Ereignisse und Änder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32148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Prozessautomatis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32148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eine intelligente, übergreifende Su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838080" y="685800"/>
            <a:ext cx="9068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Wissensmanagement in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35200" y="1892160"/>
            <a:ext cx="9208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Wissensmanagement ist kein Technik-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Das Management von Wissen erfordert au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das Management der Wisse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Das Management von Expertise erford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ein spezifisches Führungsverständn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               </a:t>
            </a: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Fachkarriere implementi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Wissensmanagement erford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neue, parallele Struktu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Die Einführung von Wissens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erfordert einen Prozess mit</a:t>
            </a:r>
            <a:r>
              <a:rPr b="0" lang="de-DE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cc3300"/>
                </a:solidFill>
                <a:latin typeface="Arial"/>
              </a:rPr>
              <a:t>Change-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447920" y="4406760"/>
            <a:ext cx="990360" cy="381240"/>
          </a:xfrm>
          <a:prstGeom prst="rightArrow">
            <a:avLst>
              <a:gd name="adj1" fmla="val 50000"/>
              <a:gd name="adj2" fmla="val 64943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"/>
          <p:cNvGrpSpPr/>
          <p:nvPr/>
        </p:nvGrpSpPr>
        <p:grpSpPr>
          <a:xfrm>
            <a:off x="2743200" y="3276720"/>
            <a:ext cx="749160" cy="2894760"/>
            <a:chOff x="2743200" y="3276720"/>
            <a:chExt cx="749160" cy="2894760"/>
          </a:xfrm>
        </p:grpSpPr>
        <p:sp>
          <p:nvSpPr>
            <p:cNvPr id="838" name=""/>
            <p:cNvSpPr/>
            <p:nvPr/>
          </p:nvSpPr>
          <p:spPr>
            <a:xfrm>
              <a:off x="2743200" y="3276720"/>
              <a:ext cx="749160" cy="2894760"/>
            </a:xfrm>
            <a:prstGeom prst="upArrow">
              <a:avLst>
                <a:gd name="adj1" fmla="val 50000"/>
                <a:gd name="adj2" fmla="val 96600"/>
              </a:avLst>
            </a:prstGeom>
            <a:solidFill>
              <a:srgbClr val="ef013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rot="16200000">
              <a:off x="2591640" y="5182200"/>
              <a:ext cx="95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c8"/>
                  </a:solidFill>
                  <a:latin typeface="Arial"/>
                </a:rPr>
                <a:t>integrier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3594240" y="4784760"/>
            <a:ext cx="749160" cy="1387440"/>
            <a:chOff x="3594240" y="4784760"/>
            <a:chExt cx="749160" cy="1387440"/>
          </a:xfrm>
        </p:grpSpPr>
        <p:sp>
          <p:nvSpPr>
            <p:cNvPr id="841" name=""/>
            <p:cNvSpPr/>
            <p:nvPr/>
          </p:nvSpPr>
          <p:spPr>
            <a:xfrm>
              <a:off x="3594240" y="4784760"/>
              <a:ext cx="749160" cy="1387440"/>
            </a:xfrm>
            <a:prstGeom prst="upArrow">
              <a:avLst>
                <a:gd name="adj1" fmla="val 50000"/>
                <a:gd name="adj2" fmla="val 46300"/>
              </a:avLst>
            </a:prstGeom>
            <a:solidFill>
              <a:srgbClr val="ef013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rot="16200000">
              <a:off x="3445920" y="5384880"/>
              <a:ext cx="95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c8"/>
                  </a:solidFill>
                  <a:latin typeface="Arial"/>
                </a:rPr>
                <a:t>integrier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3" name=""/>
          <p:cNvSpPr/>
          <p:nvPr/>
        </p:nvSpPr>
        <p:spPr>
          <a:xfrm>
            <a:off x="1197000" y="622440"/>
            <a:ext cx="5077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4  parallele Organisatione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8858160" y="1878120"/>
            <a:ext cx="1123920" cy="4979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rot="16200000">
            <a:off x="7243560" y="4184280"/>
            <a:ext cx="4266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66"/>
                </a:solidFill>
                <a:latin typeface="Arial"/>
              </a:rPr>
              <a:t>Wissens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9232200" y="6367320"/>
            <a:ext cx="361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0000"/>
                </a:solidFill>
                <a:latin typeface="Arial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1752480" y="1905120"/>
            <a:ext cx="1067040" cy="4267080"/>
            <a:chOff x="1752480" y="1905120"/>
            <a:chExt cx="1067040" cy="4267080"/>
          </a:xfrm>
        </p:grpSpPr>
        <p:sp>
          <p:nvSpPr>
            <p:cNvPr id="848" name=""/>
            <p:cNvSpPr/>
            <p:nvPr/>
          </p:nvSpPr>
          <p:spPr>
            <a:xfrm>
              <a:off x="1752480" y="1905120"/>
              <a:ext cx="1067040" cy="4267080"/>
            </a:xfrm>
            <a:prstGeom prst="upArrow">
              <a:avLst>
                <a:gd name="adj1" fmla="val 40000"/>
                <a:gd name="adj2" fmla="val 65780"/>
              </a:avLst>
            </a:prstGeom>
            <a:solidFill>
              <a:srgbClr val="ef013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rot="16200000">
              <a:off x="1760040" y="5276880"/>
              <a:ext cx="95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c8"/>
                  </a:solidFill>
                  <a:latin typeface="Arial"/>
                </a:rPr>
                <a:t>integrier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1152000" y="1066680"/>
            <a:ext cx="6632640" cy="1623600"/>
            <a:chOff x="1152000" y="1066680"/>
            <a:chExt cx="6632640" cy="1623600"/>
          </a:xfrm>
        </p:grpSpPr>
        <p:grpSp>
          <p:nvGrpSpPr>
            <p:cNvPr id="851" name=""/>
            <p:cNvGrpSpPr/>
            <p:nvPr/>
          </p:nvGrpSpPr>
          <p:grpSpPr>
            <a:xfrm>
              <a:off x="4130640" y="1465200"/>
              <a:ext cx="3654000" cy="1225080"/>
              <a:chOff x="4130640" y="1465200"/>
              <a:chExt cx="3654000" cy="1225080"/>
            </a:xfrm>
          </p:grpSpPr>
          <p:sp>
            <p:nvSpPr>
              <p:cNvPr id="852" name=""/>
              <p:cNvSpPr/>
              <p:nvPr/>
            </p:nvSpPr>
            <p:spPr>
              <a:xfrm>
                <a:off x="7460640" y="2021400"/>
                <a:ext cx="1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877440" y="2021400"/>
                <a:ext cx="10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211800" y="2021400"/>
                <a:ext cx="10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628960" y="2021400"/>
                <a:ext cx="10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962960" y="2021400"/>
                <a:ext cx="10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464360" y="2021400"/>
                <a:ext cx="10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878080" y="1798560"/>
                <a:ext cx="0" cy="22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613120" y="1465200"/>
                <a:ext cx="511200" cy="3963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667840" y="1641960"/>
                <a:ext cx="406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47600"/>
                    <a:tab algn="l" pos="2095560"/>
                    <a:tab algn="l" pos="3143160"/>
                    <a:tab algn="l" pos="4191120"/>
                    <a:tab algn="l" pos="5238720"/>
                    <a:tab algn="l" pos="6286680"/>
                    <a:tab algn="l" pos="7334280"/>
                    <a:tab algn="l" pos="8381880"/>
                    <a:tab algn="l" pos="9429840"/>
                    <a:tab algn="l" pos="10477440"/>
                  </a:tabLst>
                </a:pPr>
                <a:r>
                  <a:rPr b="1" lang="de-DE" sz="800" spc="-1" strike="noStrike">
                    <a:solidFill>
                      <a:srgbClr val="0000c8"/>
                    </a:solidFill>
                    <a:latin typeface="Arial"/>
                  </a:rPr>
                  <a:t>IS-Sac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130640" y="2071080"/>
                <a:ext cx="511200" cy="3963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172400" y="2213640"/>
                <a:ext cx="537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47600"/>
                    <a:tab algn="l" pos="2095560"/>
                    <a:tab algn="l" pos="3143160"/>
                    <a:tab algn="l" pos="4191120"/>
                    <a:tab algn="l" pos="5238720"/>
                    <a:tab algn="l" pos="6286680"/>
                    <a:tab algn="l" pos="7334280"/>
                    <a:tab algn="l" pos="8381880"/>
                    <a:tab algn="l" pos="9429840"/>
                    <a:tab algn="l" pos="10477440"/>
                  </a:tabLst>
                </a:pPr>
                <a:r>
                  <a:rPr b="1" lang="de-DE" sz="800" spc="-1" strike="noStrike">
                    <a:solidFill>
                      <a:srgbClr val="0000c8"/>
                    </a:solidFill>
                    <a:latin typeface="Arial"/>
                  </a:rPr>
                  <a:t>IS-Sach 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744440" y="2071080"/>
                <a:ext cx="511560" cy="3963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791600" y="2205360"/>
                <a:ext cx="495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47600"/>
                    <a:tab algn="l" pos="2095560"/>
                    <a:tab algn="l" pos="3143160"/>
                    <a:tab algn="l" pos="4191120"/>
                    <a:tab algn="l" pos="5238720"/>
                    <a:tab algn="l" pos="6286680"/>
                    <a:tab algn="l" pos="7334280"/>
                    <a:tab algn="l" pos="8381880"/>
                    <a:tab algn="l" pos="9429840"/>
                    <a:tab algn="l" pos="10477440"/>
                  </a:tabLst>
                </a:pPr>
                <a:r>
                  <a:rPr b="1" lang="de-DE" sz="800" spc="-1" strike="noStrike">
                    <a:solidFill>
                      <a:srgbClr val="0000c8"/>
                    </a:solidFill>
                    <a:latin typeface="Arial"/>
                  </a:rPr>
                  <a:t>IS-Sach 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358960" y="2071080"/>
                <a:ext cx="509760" cy="3963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394960" y="2206800"/>
                <a:ext cx="506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47600"/>
                    <a:tab algn="l" pos="2095560"/>
                    <a:tab algn="l" pos="3143160"/>
                    <a:tab algn="l" pos="4191120"/>
                    <a:tab algn="l" pos="5238720"/>
                    <a:tab algn="l" pos="6286680"/>
                    <a:tab algn="l" pos="7334280"/>
                    <a:tab algn="l" pos="8381880"/>
                    <a:tab algn="l" pos="9429840"/>
                    <a:tab algn="l" pos="10477440"/>
                  </a:tabLst>
                </a:pPr>
                <a:r>
                  <a:rPr b="1" lang="de-DE" sz="800" spc="-1" strike="noStrike">
                    <a:solidFill>
                      <a:srgbClr val="0000c8"/>
                    </a:solidFill>
                    <a:latin typeface="Arial"/>
                  </a:rPr>
                  <a:t>IS-Sach 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969880" y="2071080"/>
                <a:ext cx="511560" cy="3963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015240" y="2206800"/>
                <a:ext cx="491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47600"/>
                    <a:tab algn="l" pos="2095560"/>
                    <a:tab algn="l" pos="3143160"/>
                    <a:tab algn="l" pos="4191120"/>
                    <a:tab algn="l" pos="5238720"/>
                    <a:tab algn="l" pos="6286680"/>
                    <a:tab algn="l" pos="7334280"/>
                    <a:tab algn="l" pos="8381880"/>
                    <a:tab algn="l" pos="9429840"/>
                    <a:tab algn="l" pos="10477440"/>
                  </a:tabLst>
                </a:pPr>
                <a:r>
                  <a:rPr b="1" lang="de-DE" sz="800" spc="-1" strike="noStrike">
                    <a:solidFill>
                      <a:srgbClr val="0000c8"/>
                    </a:solidFill>
                    <a:latin typeface="Arial"/>
                  </a:rPr>
                  <a:t>IS-Sach 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584400" y="2071080"/>
                <a:ext cx="511200" cy="3963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629760" y="2205360"/>
                <a:ext cx="475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47600"/>
                    <a:tab algn="l" pos="2095560"/>
                    <a:tab algn="l" pos="3143160"/>
                    <a:tab algn="l" pos="4191120"/>
                    <a:tab algn="l" pos="5238720"/>
                    <a:tab algn="l" pos="6286680"/>
                    <a:tab algn="l" pos="7334280"/>
                    <a:tab algn="l" pos="8381880"/>
                    <a:tab algn="l" pos="9429840"/>
                    <a:tab algn="l" pos="10477440"/>
                  </a:tabLst>
                </a:pPr>
                <a:r>
                  <a:rPr b="1" lang="de-DE" sz="800" spc="-1" strike="noStrike">
                    <a:solidFill>
                      <a:srgbClr val="0000c8"/>
                    </a:solidFill>
                    <a:latin typeface="Arial"/>
                  </a:rPr>
                  <a:t>IS-Sach 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198560" y="2071080"/>
                <a:ext cx="511560" cy="3963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248600" y="2200320"/>
                <a:ext cx="53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47600"/>
                    <a:tab algn="l" pos="2095560"/>
                    <a:tab algn="l" pos="3143160"/>
                    <a:tab algn="l" pos="4191120"/>
                    <a:tab algn="l" pos="5238720"/>
                    <a:tab algn="l" pos="6286680"/>
                    <a:tab algn="l" pos="7334280"/>
                    <a:tab algn="l" pos="8381880"/>
                    <a:tab algn="l" pos="9429840"/>
                    <a:tab algn="l" pos="10477440"/>
                  </a:tabLst>
                </a:pPr>
                <a:r>
                  <a:rPr b="1" lang="de-DE" sz="800" spc="-1" strike="noStrike">
                    <a:solidFill>
                      <a:srgbClr val="0000c8"/>
                    </a:solidFill>
                    <a:latin typeface="Arial"/>
                  </a:rPr>
                  <a:t>IS-Sach 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464360" y="2021400"/>
                <a:ext cx="299628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460640" y="2467440"/>
                <a:ext cx="0" cy="22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6877440" y="2467440"/>
                <a:ext cx="0" cy="22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211800" y="2467440"/>
                <a:ext cx="0" cy="22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628960" y="2467440"/>
                <a:ext cx="0" cy="22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962960" y="2467440"/>
                <a:ext cx="0" cy="22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464360" y="2467440"/>
                <a:ext cx="0" cy="22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0" name=""/>
            <p:cNvSpPr/>
            <p:nvPr/>
          </p:nvSpPr>
          <p:spPr>
            <a:xfrm>
              <a:off x="1152000" y="1066680"/>
              <a:ext cx="6557040" cy="86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80000"/>
                </a:lnSpc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Aufbauorganisation 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Stati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1129680" y="2743200"/>
            <a:ext cx="7050960" cy="1443240"/>
            <a:chOff x="1129680" y="2743200"/>
            <a:chExt cx="7050960" cy="1443240"/>
          </a:xfrm>
        </p:grpSpPr>
        <p:grpSp>
          <p:nvGrpSpPr>
            <p:cNvPr id="882" name=""/>
            <p:cNvGrpSpPr/>
            <p:nvPr/>
          </p:nvGrpSpPr>
          <p:grpSpPr>
            <a:xfrm>
              <a:off x="4861080" y="2867040"/>
              <a:ext cx="2014200" cy="1319400"/>
              <a:chOff x="4861080" y="2867040"/>
              <a:chExt cx="2014200" cy="1319400"/>
            </a:xfrm>
          </p:grpSpPr>
          <p:grpSp>
            <p:nvGrpSpPr>
              <p:cNvPr id="883" name=""/>
              <p:cNvGrpSpPr/>
              <p:nvPr/>
            </p:nvGrpSpPr>
            <p:grpSpPr>
              <a:xfrm>
                <a:off x="4861080" y="2867040"/>
                <a:ext cx="1401120" cy="1141560"/>
                <a:chOff x="4861080" y="2867040"/>
                <a:chExt cx="1401120" cy="114156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5374800" y="3036240"/>
                  <a:ext cx="393120" cy="323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V="1">
                  <a:off x="5627520" y="3360240"/>
                  <a:ext cx="140040" cy="4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flipH="1">
                  <a:off x="5163480" y="3822480"/>
                  <a:ext cx="46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4984920" y="3353040"/>
                  <a:ext cx="178560" cy="469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4984920" y="3353040"/>
                  <a:ext cx="379800" cy="88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5374800" y="3045960"/>
                  <a:ext cx="0" cy="401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 flipH="1">
                  <a:off x="5374440" y="3360240"/>
                  <a:ext cx="387000" cy="87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 flipV="1">
                  <a:off x="5374800" y="3447000"/>
                  <a:ext cx="252720" cy="374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V="1">
                  <a:off x="5163840" y="3447000"/>
                  <a:ext cx="210600" cy="374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5423760" y="3006720"/>
                  <a:ext cx="220320" cy="2293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d5d5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414760" y="2993400"/>
                  <a:ext cx="220680" cy="2329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4992840" y="3343320"/>
                  <a:ext cx="220680" cy="2329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d5d5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4986360" y="3337200"/>
                  <a:ext cx="220680" cy="23256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5434920" y="3339000"/>
                  <a:ext cx="220320" cy="23256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d5d5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5425200" y="3325680"/>
                  <a:ext cx="220320" cy="2329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5434920" y="3679200"/>
                  <a:ext cx="216720" cy="23256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d5d5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5425200" y="3672720"/>
                  <a:ext cx="220320" cy="2329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6114600" y="2952360"/>
                  <a:ext cx="147600" cy="1587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6114600" y="3153600"/>
                  <a:ext cx="147600" cy="1587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6114600" y="3346200"/>
                  <a:ext cx="147600" cy="1587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6114600" y="3547440"/>
                  <a:ext cx="147600" cy="1587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6114600" y="3749040"/>
                  <a:ext cx="147600" cy="1587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4861080" y="2867040"/>
                  <a:ext cx="1065600" cy="1141560"/>
                </a:xfrm>
                <a:prstGeom prst="ellipse">
                  <a:avLst/>
                </a:prstGeom>
                <a:solidFill>
                  <a:srgbClr val="ff0000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 flipV="1">
                  <a:off x="5174280" y="3168720"/>
                  <a:ext cx="281880" cy="201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5205600" y="3471120"/>
                  <a:ext cx="219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5174280" y="3538440"/>
                  <a:ext cx="250560" cy="201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 flipV="1">
                  <a:off x="5644440" y="3269520"/>
                  <a:ext cx="470160" cy="134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 flipV="1">
                  <a:off x="5644440" y="3438000"/>
                  <a:ext cx="470160" cy="33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flipV="1">
                  <a:off x="5644440" y="3034800"/>
                  <a:ext cx="470160" cy="33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 flipV="1">
                  <a:off x="5644440" y="3638880"/>
                  <a:ext cx="501480" cy="100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 flipV="1">
                  <a:off x="5644440" y="3806640"/>
                  <a:ext cx="470160" cy="33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5" name=""/>
              <p:cNvSpPr/>
              <p:nvPr/>
            </p:nvSpPr>
            <p:spPr>
              <a:xfrm>
                <a:off x="5464800" y="3911760"/>
                <a:ext cx="14104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47600"/>
                    <a:tab algn="l" pos="2095560"/>
                    <a:tab algn="l" pos="3143160"/>
                    <a:tab algn="l" pos="4191120"/>
                    <a:tab algn="l" pos="5238720"/>
                    <a:tab algn="l" pos="6286680"/>
                    <a:tab algn="l" pos="7334280"/>
                    <a:tab algn="l" pos="8381880"/>
                    <a:tab algn="l" pos="9429840"/>
                    <a:tab algn="l" pos="10477440"/>
                  </a:tabLst>
                </a:pPr>
                <a:r>
                  <a:rPr b="1" lang="de-DE" sz="1800" spc="-1" strike="noStrike">
                    <a:solidFill>
                      <a:srgbClr val="0000c8"/>
                    </a:solidFill>
                    <a:latin typeface="Arial"/>
                  </a:rPr>
                  <a:t>Kunde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6" name=""/>
            <p:cNvSpPr/>
            <p:nvPr/>
          </p:nvSpPr>
          <p:spPr>
            <a:xfrm>
              <a:off x="1129680" y="2743200"/>
              <a:ext cx="705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Projektorganisation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 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Dynami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1153440" y="6019920"/>
            <a:ext cx="7149960" cy="1488240"/>
            <a:chOff x="1153440" y="6019920"/>
            <a:chExt cx="7149960" cy="1488240"/>
          </a:xfrm>
        </p:grpSpPr>
        <p:grpSp>
          <p:nvGrpSpPr>
            <p:cNvPr id="918" name=""/>
            <p:cNvGrpSpPr/>
            <p:nvPr/>
          </p:nvGrpSpPr>
          <p:grpSpPr>
            <a:xfrm>
              <a:off x="4791240" y="6203880"/>
              <a:ext cx="1871280" cy="1304280"/>
              <a:chOff x="4791240" y="6203880"/>
              <a:chExt cx="1871280" cy="1304280"/>
            </a:xfrm>
          </p:grpSpPr>
          <p:sp>
            <p:nvSpPr>
              <p:cNvPr id="919" name=""/>
              <p:cNvSpPr/>
              <p:nvPr/>
            </p:nvSpPr>
            <p:spPr>
              <a:xfrm>
                <a:off x="5240160" y="6203880"/>
                <a:ext cx="224280" cy="2444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839200" y="6203880"/>
                <a:ext cx="224280" cy="2444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438240" y="6366600"/>
                <a:ext cx="224280" cy="2444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988960" y="6774480"/>
                <a:ext cx="224280" cy="2444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464800" y="6693120"/>
                <a:ext cx="224280" cy="2444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090400" y="7100640"/>
                <a:ext cx="224280" cy="2444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689440" y="7263720"/>
                <a:ext cx="224280" cy="2444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791240" y="6611400"/>
                <a:ext cx="224280" cy="2444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363360" y="7100640"/>
                <a:ext cx="224280" cy="2444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4940280" y="6366600"/>
                <a:ext cx="374040" cy="32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464800" y="6366600"/>
                <a:ext cx="598680" cy="48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315040" y="7182360"/>
                <a:ext cx="1048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940640" y="6774480"/>
                <a:ext cx="748800" cy="57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V="1">
                <a:off x="5240160" y="6447960"/>
                <a:ext cx="74520" cy="65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V="1">
                <a:off x="6513120" y="6611040"/>
                <a:ext cx="0" cy="48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988960" y="6366600"/>
                <a:ext cx="149760" cy="48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988960" y="6284880"/>
                <a:ext cx="448920" cy="16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V="1">
                <a:off x="5689440" y="6366600"/>
                <a:ext cx="224280" cy="40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614560" y="6937560"/>
                <a:ext cx="149400" cy="32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V="1">
                <a:off x="5914080" y="7263720"/>
                <a:ext cx="448920" cy="8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H="1">
                <a:off x="5913720" y="6611400"/>
                <a:ext cx="598680" cy="73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940640" y="6855840"/>
                <a:ext cx="22428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940640" y="6774480"/>
                <a:ext cx="52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2" name=""/>
            <p:cNvSpPr/>
            <p:nvPr/>
          </p:nvSpPr>
          <p:spPr>
            <a:xfrm>
              <a:off x="1153440" y="6019920"/>
              <a:ext cx="714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Wissensorganisation 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Netzwer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1145160" y="4272120"/>
            <a:ext cx="7410600" cy="947160"/>
            <a:chOff x="1145160" y="4272120"/>
            <a:chExt cx="7410600" cy="947160"/>
          </a:xfrm>
        </p:grpSpPr>
        <p:sp>
          <p:nvSpPr>
            <p:cNvPr id="944" name=""/>
            <p:cNvSpPr/>
            <p:nvPr/>
          </p:nvSpPr>
          <p:spPr>
            <a:xfrm>
              <a:off x="1145160" y="4272120"/>
              <a:ext cx="7410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Prozessorganisation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 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stetig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Leistung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5" name=""/>
            <p:cNvGrpSpPr/>
            <p:nvPr/>
          </p:nvGrpSpPr>
          <p:grpSpPr>
            <a:xfrm>
              <a:off x="4876920" y="4343400"/>
              <a:ext cx="1447560" cy="838080"/>
              <a:chOff x="4876920" y="4343400"/>
              <a:chExt cx="1447560" cy="838080"/>
            </a:xfrm>
          </p:grpSpPr>
          <p:sp>
            <p:nvSpPr>
              <p:cNvPr id="946" name=""/>
              <p:cNvSpPr/>
              <p:nvPr/>
            </p:nvSpPr>
            <p:spPr>
              <a:xfrm>
                <a:off x="4876920" y="4876560"/>
                <a:ext cx="533160" cy="30492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34120" y="4876560"/>
                <a:ext cx="533160" cy="30492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791320" y="4876560"/>
                <a:ext cx="533160" cy="30492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4876920" y="4610160"/>
                <a:ext cx="1447560" cy="228600"/>
              </a:xfrm>
              <a:custGeom>
                <a:avLst/>
                <a:gdLst>
                  <a:gd name="textAreaLeft" fmla="*/ 0 w 1447560"/>
                  <a:gd name="textAreaRight" fmla="*/ 1447920 w 14475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326" y="0"/>
                    </a:lnTo>
                    <a:lnTo>
                      <a:pt x="21600" y="10800"/>
                    </a:lnTo>
                    <a:lnTo>
                      <a:pt x="19326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4876920" y="4343400"/>
                <a:ext cx="1447560" cy="228600"/>
              </a:xfrm>
              <a:custGeom>
                <a:avLst/>
                <a:gdLst>
                  <a:gd name="textAreaLeft" fmla="*/ 0 w 1447560"/>
                  <a:gd name="textAreaRight" fmla="*/ 1447920 w 14475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326" y="0"/>
                    </a:lnTo>
                    <a:lnTo>
                      <a:pt x="21600" y="10800"/>
                    </a:lnTo>
                    <a:lnTo>
                      <a:pt x="19326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784080" y="380880"/>
            <a:ext cx="7587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c8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c8"/>
                </a:solidFill>
                <a:latin typeface="Arial"/>
              </a:rPr>
              <a:t>einige Definitionen und Model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c8"/>
                </a:solidFill>
                <a:latin typeface="Arial"/>
              </a:rPr>
              <a:t>Wissensmanagement mit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c8"/>
                </a:solidFill>
                <a:latin typeface="Arial"/>
              </a:rPr>
              <a:t>Anforderungen von Benutze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c8"/>
                </a:solidFill>
                <a:latin typeface="Arial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c8"/>
                </a:solidFill>
                <a:latin typeface="Arial"/>
              </a:rPr>
              <a:t>Kommunik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c8"/>
                </a:solidFill>
                <a:latin typeface="Arial"/>
              </a:rPr>
              <a:t>Arbeit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c8"/>
                </a:solidFill>
                <a:latin typeface="Arial"/>
              </a:rPr>
              <a:t>Wissensmanagement in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c8"/>
                </a:solidFill>
                <a:latin typeface="Arial"/>
              </a:rPr>
              <a:t>Management der Wissend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c8"/>
                </a:solidFill>
                <a:latin typeface="Arial"/>
              </a:rPr>
              <a:t>Organisationsfor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Wissensmanagement im Kon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281400" y="2114640"/>
            <a:ext cx="3876480" cy="4495680"/>
          </a:xfrm>
          <a:prstGeom prst="triangle">
            <a:avLst>
              <a:gd name="adj" fmla="val 500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7342200" y="2113920"/>
            <a:ext cx="2030400" cy="4359240"/>
          </a:xfrm>
          <a:prstGeom prst="rtTriangle">
            <a:avLst/>
          </a:prstGeom>
          <a:solidFill>
            <a:srgbClr val="31587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1066680" y="2113920"/>
            <a:ext cx="2030400" cy="4359240"/>
          </a:xfrm>
          <a:prstGeom prst="rtTriangle">
            <a:avLst/>
          </a:prstGeom>
          <a:solidFill>
            <a:srgbClr val="31587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528920" y="2114640"/>
            <a:ext cx="2952720" cy="4495680"/>
          </a:xfrm>
          <a:prstGeom prst="parallelogram">
            <a:avLst>
              <a:gd name="adj" fmla="val 70444"/>
            </a:avLst>
          </a:prstGeom>
          <a:solidFill>
            <a:srgbClr val="ff9f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5865840" y="2114640"/>
            <a:ext cx="2952720" cy="4495680"/>
          </a:xfrm>
          <a:prstGeom prst="parallelogram">
            <a:avLst>
              <a:gd name="adj" fmla="val 70444"/>
            </a:avLst>
          </a:prstGeom>
          <a:solidFill>
            <a:srgbClr val="ff9f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67760" y="2190600"/>
            <a:ext cx="164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Kult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155080" y="2222640"/>
            <a:ext cx="67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3843600">
            <a:off x="6196680" y="4097520"/>
            <a:ext cx="240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Prozes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rot="17659800">
            <a:off x="1900440" y="399600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Führu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72000" y="3638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38480" y="485784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9440" y="307980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76240" y="3841920"/>
            <a:ext cx="144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16600" y="4984920"/>
            <a:ext cx="202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neh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00400" y="6000840"/>
            <a:ext cx="3962520" cy="685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60768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Wissens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799200" y="365040"/>
            <a:ext cx="5990040" cy="7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1200" bIns="612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Die Wissenstreppe.</a:t>
            </a: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(nach Prof. Nor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914400" y="3124080"/>
            <a:ext cx="7491240" cy="3186000"/>
            <a:chOff x="914400" y="3124080"/>
            <a:chExt cx="7491240" cy="3186000"/>
          </a:xfrm>
        </p:grpSpPr>
        <p:sp>
          <p:nvSpPr>
            <p:cNvPr id="396" name=""/>
            <p:cNvSpPr/>
            <p:nvPr/>
          </p:nvSpPr>
          <p:spPr>
            <a:xfrm>
              <a:off x="914400" y="6310080"/>
              <a:ext cx="100332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881360" y="5891040"/>
              <a:ext cx="0" cy="3808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44640" y="5852880"/>
              <a:ext cx="100332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2811600" y="5433840"/>
              <a:ext cx="0" cy="3808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770200" y="5395680"/>
              <a:ext cx="100332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3732120" y="4976640"/>
              <a:ext cx="0" cy="3808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695760" y="4943160"/>
              <a:ext cx="100332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4662360" y="4524120"/>
              <a:ext cx="0" cy="3808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626000" y="4485960"/>
              <a:ext cx="100332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5592600" y="4066920"/>
              <a:ext cx="0" cy="3808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53000" y="4028760"/>
              <a:ext cx="100188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513480" y="3614040"/>
              <a:ext cx="0" cy="3812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478560" y="3581280"/>
              <a:ext cx="100188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7443720" y="3162240"/>
              <a:ext cx="0" cy="3808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404120" y="3124080"/>
              <a:ext cx="100152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2241360" y="3596400"/>
            <a:ext cx="6830640" cy="3697920"/>
            <a:chOff x="2241360" y="3596400"/>
            <a:chExt cx="6830640" cy="3697920"/>
          </a:xfrm>
        </p:grpSpPr>
        <p:sp>
          <p:nvSpPr>
            <p:cNvPr id="412" name=""/>
            <p:cNvSpPr/>
            <p:nvPr/>
          </p:nvSpPr>
          <p:spPr>
            <a:xfrm flipV="1">
              <a:off x="2241360" y="3596400"/>
              <a:ext cx="6567840" cy="333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19977600">
              <a:off x="2044440" y="5249160"/>
              <a:ext cx="733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Operatives Daten-, Informations- und Wissens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2112120" y="1488600"/>
            <a:ext cx="5834160" cy="3110760"/>
            <a:chOff x="2112120" y="1488600"/>
            <a:chExt cx="5834160" cy="3110760"/>
          </a:xfrm>
        </p:grpSpPr>
        <p:sp>
          <p:nvSpPr>
            <p:cNvPr id="415" name=""/>
            <p:cNvSpPr/>
            <p:nvPr/>
          </p:nvSpPr>
          <p:spPr>
            <a:xfrm flipV="1">
              <a:off x="2112120" y="1488600"/>
              <a:ext cx="5834160" cy="3042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9977600">
              <a:off x="2510280" y="3200040"/>
              <a:ext cx="449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trategisches Wissens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838800" y="4537080"/>
            <a:ext cx="4447080" cy="1789560"/>
            <a:chOff x="838800" y="4537080"/>
            <a:chExt cx="4447080" cy="1789560"/>
          </a:xfrm>
        </p:grpSpPr>
        <p:grpSp>
          <p:nvGrpSpPr>
            <p:cNvPr id="418" name=""/>
            <p:cNvGrpSpPr/>
            <p:nvPr/>
          </p:nvGrpSpPr>
          <p:grpSpPr>
            <a:xfrm>
              <a:off x="838800" y="4537080"/>
              <a:ext cx="3831480" cy="1789560"/>
              <a:chOff x="838800" y="4537080"/>
              <a:chExt cx="3831480" cy="1789560"/>
            </a:xfrm>
          </p:grpSpPr>
          <p:sp>
            <p:nvSpPr>
              <p:cNvPr id="419" name=""/>
              <p:cNvSpPr/>
              <p:nvPr/>
            </p:nvSpPr>
            <p:spPr>
              <a:xfrm>
                <a:off x="838800" y="5927760"/>
                <a:ext cx="1087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Zeich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958040" y="5451480"/>
                <a:ext cx="860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Dat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682000" y="4689360"/>
                <a:ext cx="11286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Informa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tion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652920" y="4537080"/>
                <a:ext cx="1017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Wiss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82440" y="5867280"/>
                <a:ext cx="117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de-DE" sz="2000" spc="-1" strike="noStrike">
                    <a:solidFill>
                      <a:srgbClr val="000000"/>
                    </a:solidFill>
                    <a:latin typeface="Arial"/>
                  </a:rPr>
                  <a:t>+ Synta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783880" y="5410080"/>
                <a:ext cx="1631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de-DE" sz="2000" spc="-1" strike="noStrike">
                    <a:solidFill>
                      <a:srgbClr val="000000"/>
                    </a:solidFill>
                    <a:latin typeface="Arial"/>
                  </a:rPr>
                  <a:t>+ Bedeutu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3702960" y="4952880"/>
              <a:ext cx="15829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+ Kontext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Erfahrung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4579200" y="2895480"/>
            <a:ext cx="3196080" cy="2247120"/>
            <a:chOff x="4579200" y="2895480"/>
            <a:chExt cx="3196080" cy="2247120"/>
          </a:xfrm>
        </p:grpSpPr>
        <p:sp>
          <p:nvSpPr>
            <p:cNvPr id="427" name=""/>
            <p:cNvSpPr/>
            <p:nvPr/>
          </p:nvSpPr>
          <p:spPr>
            <a:xfrm>
              <a:off x="4579200" y="4114800"/>
              <a:ext cx="105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önn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21960" y="3657600"/>
              <a:ext cx="113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Handel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01160" y="2895480"/>
              <a:ext cx="1072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ompe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ten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646520" y="4438800"/>
              <a:ext cx="195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+ Anwendungs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bezu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562720" y="4038480"/>
              <a:ext cx="117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+ Woll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77480" y="3565440"/>
              <a:ext cx="129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+ richt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handel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7077960" y="2422440"/>
            <a:ext cx="1987560" cy="1337040"/>
            <a:chOff x="7077960" y="2422440"/>
            <a:chExt cx="1987560" cy="1337040"/>
          </a:xfrm>
        </p:grpSpPr>
        <p:sp>
          <p:nvSpPr>
            <p:cNvPr id="434" name=""/>
            <p:cNvSpPr/>
            <p:nvPr/>
          </p:nvSpPr>
          <p:spPr>
            <a:xfrm>
              <a:off x="7077960" y="2422440"/>
              <a:ext cx="185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Wettbewerbs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fähigke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391160" y="3086280"/>
              <a:ext cx="16743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+ Einzigartig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ke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-36000" y="4246560"/>
            <a:ext cx="4263120" cy="3165120"/>
            <a:chOff x="-36000" y="4246560"/>
            <a:chExt cx="4263120" cy="3165120"/>
          </a:xfrm>
        </p:grpSpPr>
        <p:sp>
          <p:nvSpPr>
            <p:cNvPr id="437" name=""/>
            <p:cNvSpPr/>
            <p:nvPr/>
          </p:nvSpPr>
          <p:spPr>
            <a:xfrm rot="20180400">
              <a:off x="152280" y="4952520"/>
              <a:ext cx="3886200" cy="17528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20133600">
              <a:off x="1156320" y="5015520"/>
              <a:ext cx="13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Arial"/>
                </a:rPr>
                <a:t>Techni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393000" y="2570760"/>
            <a:ext cx="4262400" cy="3164040"/>
            <a:chOff x="3393000" y="2570760"/>
            <a:chExt cx="4262400" cy="3164040"/>
          </a:xfrm>
        </p:grpSpPr>
        <p:sp>
          <p:nvSpPr>
            <p:cNvPr id="440" name=""/>
            <p:cNvSpPr/>
            <p:nvPr/>
          </p:nvSpPr>
          <p:spPr>
            <a:xfrm rot="20180400">
              <a:off x="3580920" y="3276720"/>
              <a:ext cx="3886200" cy="17517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20133600">
              <a:off x="4569840" y="326988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Arial"/>
                </a:rPr>
                <a:t>Mensch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5311080" y="1442520"/>
            <a:ext cx="4542120" cy="3287520"/>
            <a:chOff x="5311080" y="1442520"/>
            <a:chExt cx="4542120" cy="3287520"/>
          </a:xfrm>
        </p:grpSpPr>
        <p:sp>
          <p:nvSpPr>
            <p:cNvPr id="443" name=""/>
            <p:cNvSpPr/>
            <p:nvPr/>
          </p:nvSpPr>
          <p:spPr>
            <a:xfrm rot="20180400">
              <a:off x="5486400" y="2209680"/>
              <a:ext cx="4191120" cy="17528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20133600">
              <a:off x="6264000" y="2270880"/>
              <a:ext cx="21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Arial"/>
                </a:rPr>
                <a:t>Unternehm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 rot="19962000">
            <a:off x="723240" y="428112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Ken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rot="19969200">
            <a:off x="3965040" y="251460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Kön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rot="19887000">
            <a:off x="6139440" y="1447560"/>
            <a:ext cx="126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Wo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rot="16200000">
            <a:off x="7069680" y="3949920"/>
            <a:ext cx="5837040" cy="5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4300" spc="-1" strike="noStrike">
                <a:solidFill>
                  <a:srgbClr val="a1bae0"/>
                </a:solidFill>
                <a:latin typeface="Arial"/>
              </a:rPr>
              <a:t>Definitione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5800" y="6095880"/>
            <a:ext cx="8534520" cy="13716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04960" y="484200"/>
            <a:ext cx="49402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1200" bIns="61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Wissen, Können, Handel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rot="16200000">
            <a:off x="7069680" y="3949920"/>
            <a:ext cx="5837040" cy="5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4300" spc="-1" strike="noStrike">
                <a:solidFill>
                  <a:srgbClr val="a1bae0"/>
                </a:solidFill>
                <a:latin typeface="Arial"/>
              </a:rPr>
              <a:t>Definitione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14400" y="3886200"/>
            <a:ext cx="1828800" cy="762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66"/>
                </a:solidFill>
                <a:latin typeface="Arial"/>
              </a:rPr>
              <a:t>Kön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914400" y="6324480"/>
            <a:ext cx="1828800" cy="762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66"/>
                </a:solidFill>
                <a:latin typeface="Arial"/>
              </a:rPr>
              <a:t>Handel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934320" y="1600200"/>
            <a:ext cx="1828800" cy="762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66"/>
                </a:solidFill>
                <a:latin typeface="Arial"/>
              </a:rPr>
              <a:t>Wi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934320" y="3886200"/>
            <a:ext cx="1828800" cy="762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66"/>
                </a:solidFill>
                <a:latin typeface="Arial"/>
              </a:rPr>
              <a:t>Kön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934320" y="6324480"/>
            <a:ext cx="1828800" cy="762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66"/>
                </a:solidFill>
                <a:latin typeface="Arial"/>
              </a:rPr>
              <a:t>Handel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914400" y="1600200"/>
            <a:ext cx="1828800" cy="1465920"/>
            <a:chOff x="914400" y="1600200"/>
            <a:chExt cx="1828800" cy="1465920"/>
          </a:xfrm>
        </p:grpSpPr>
        <p:sp>
          <p:nvSpPr>
            <p:cNvPr id="458" name=""/>
            <p:cNvSpPr/>
            <p:nvPr/>
          </p:nvSpPr>
          <p:spPr>
            <a:xfrm>
              <a:off x="914400" y="1600200"/>
              <a:ext cx="1828800" cy="762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66"/>
                  </a:solidFill>
                  <a:latin typeface="Arial"/>
                </a:rPr>
                <a:t>Wiss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066680" y="2362320"/>
              <a:ext cx="1509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66"/>
                  </a:solidFill>
                  <a:latin typeface="Arial"/>
                </a:rPr>
                <a:t>Know why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66"/>
                  </a:solidFill>
                  <a:latin typeface="Arial"/>
                </a:rPr>
                <a:t>know wh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067040" y="348948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Know 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066680" y="562284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Just do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523880" y="3048120"/>
            <a:ext cx="53352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523880" y="5105520"/>
            <a:ext cx="53352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14800" y="6400800"/>
            <a:ext cx="1676520" cy="60948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beobach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3200400" y="65530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7211000">
            <a:off x="4152600" y="4076280"/>
            <a:ext cx="4114800" cy="380880"/>
          </a:xfrm>
          <a:prstGeom prst="rightArrow">
            <a:avLst>
              <a:gd name="adj1" fmla="val 58333"/>
              <a:gd name="adj2" fmla="val 160050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0" y="2514600"/>
            <a:ext cx="304920" cy="1295280"/>
          </a:xfrm>
          <a:custGeom>
            <a:avLst/>
            <a:gdLst>
              <a:gd name="textAreaLeft" fmla="*/ 40680 w 304920"/>
              <a:gd name="textAreaRight" fmla="*/ 264240 w 30492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8609760" y="2437560"/>
            <a:ext cx="304920" cy="1295640"/>
          </a:xfrm>
          <a:custGeom>
            <a:avLst/>
            <a:gdLst>
              <a:gd name="textAreaLeft" fmla="*/ 40680 w 304920"/>
              <a:gd name="textAreaRight" fmla="*/ 264240 w 304920"/>
              <a:gd name="textAreaTop" fmla="*/ 226440 h 1295640"/>
              <a:gd name="textAreaBottom" fmla="*/ 93924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2819520"/>
            <a:ext cx="1371600" cy="60948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ler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2286000" y="4681440"/>
            <a:ext cx="990360" cy="2709720"/>
            <a:chOff x="2286000" y="4681440"/>
            <a:chExt cx="990360" cy="2709720"/>
          </a:xfrm>
        </p:grpSpPr>
        <p:sp>
          <p:nvSpPr>
            <p:cNvPr id="471" name=""/>
            <p:cNvSpPr/>
            <p:nvPr/>
          </p:nvSpPr>
          <p:spPr>
            <a:xfrm>
              <a:off x="2464560" y="5128920"/>
              <a:ext cx="498240" cy="4716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22040" y="4681440"/>
              <a:ext cx="442440" cy="105444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286000" y="5654520"/>
              <a:ext cx="399960" cy="63468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611800" y="5625360"/>
              <a:ext cx="375480" cy="7822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99840" y="6260400"/>
              <a:ext cx="285480" cy="113076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809800" y="6260400"/>
              <a:ext cx="466560" cy="95436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4866840" y="3962520"/>
            <a:ext cx="492120" cy="480960"/>
            <a:chOff x="4866840" y="3962520"/>
            <a:chExt cx="492120" cy="480960"/>
          </a:xfrm>
        </p:grpSpPr>
        <p:sp>
          <p:nvSpPr>
            <p:cNvPr id="478" name=""/>
            <p:cNvSpPr/>
            <p:nvPr/>
          </p:nvSpPr>
          <p:spPr>
            <a:xfrm flipH="1">
              <a:off x="5016960" y="4149720"/>
              <a:ext cx="165240" cy="293760"/>
            </a:xfrm>
            <a:custGeom>
              <a:avLst/>
              <a:gdLst/>
              <a:ahLst/>
              <a:rect l="l" t="t" r="r" b="b"/>
              <a:pathLst>
                <a:path w="208" h="370">
                  <a:moveTo>
                    <a:pt x="67" y="335"/>
                  </a:moveTo>
                  <a:lnTo>
                    <a:pt x="70" y="275"/>
                  </a:lnTo>
                  <a:lnTo>
                    <a:pt x="56" y="229"/>
                  </a:lnTo>
                  <a:lnTo>
                    <a:pt x="30" y="190"/>
                  </a:lnTo>
                  <a:lnTo>
                    <a:pt x="0" y="130"/>
                  </a:lnTo>
                  <a:lnTo>
                    <a:pt x="3" y="90"/>
                  </a:lnTo>
                  <a:lnTo>
                    <a:pt x="24" y="42"/>
                  </a:lnTo>
                  <a:lnTo>
                    <a:pt x="63" y="9"/>
                  </a:lnTo>
                  <a:lnTo>
                    <a:pt x="98" y="0"/>
                  </a:lnTo>
                  <a:lnTo>
                    <a:pt x="134" y="7"/>
                  </a:lnTo>
                  <a:lnTo>
                    <a:pt x="158" y="21"/>
                  </a:lnTo>
                  <a:lnTo>
                    <a:pt x="190" y="49"/>
                  </a:lnTo>
                  <a:lnTo>
                    <a:pt x="208" y="90"/>
                  </a:lnTo>
                  <a:lnTo>
                    <a:pt x="201" y="134"/>
                  </a:lnTo>
                  <a:lnTo>
                    <a:pt x="176" y="172"/>
                  </a:lnTo>
                  <a:lnTo>
                    <a:pt x="141" y="232"/>
                  </a:lnTo>
                  <a:lnTo>
                    <a:pt x="134" y="275"/>
                  </a:lnTo>
                  <a:lnTo>
                    <a:pt x="137" y="310"/>
                  </a:lnTo>
                  <a:lnTo>
                    <a:pt x="120" y="345"/>
                  </a:lnTo>
                  <a:lnTo>
                    <a:pt x="102" y="370"/>
                  </a:lnTo>
                  <a:lnTo>
                    <a:pt x="67" y="33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5238000" y="4135320"/>
              <a:ext cx="120960" cy="55800"/>
            </a:xfrm>
            <a:custGeom>
              <a:avLst/>
              <a:gdLst/>
              <a:ahLst/>
              <a:rect l="l" t="t" r="r" b="b"/>
              <a:pathLst>
                <a:path w="153" h="71">
                  <a:moveTo>
                    <a:pt x="153" y="71"/>
                  </a:moveTo>
                  <a:lnTo>
                    <a:pt x="26" y="49"/>
                  </a:lnTo>
                  <a:lnTo>
                    <a:pt x="0" y="24"/>
                  </a:lnTo>
                  <a:lnTo>
                    <a:pt x="10" y="3"/>
                  </a:lnTo>
                  <a:lnTo>
                    <a:pt x="39" y="0"/>
                  </a:lnTo>
                  <a:lnTo>
                    <a:pt x="153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5185440" y="3987720"/>
              <a:ext cx="52200" cy="92160"/>
            </a:xfrm>
            <a:custGeom>
              <a:avLst/>
              <a:gdLst/>
              <a:ahLst/>
              <a:rect l="l" t="t" r="r" b="b"/>
              <a:pathLst>
                <a:path w="67" h="118">
                  <a:moveTo>
                    <a:pt x="67" y="118"/>
                  </a:moveTo>
                  <a:lnTo>
                    <a:pt x="0" y="44"/>
                  </a:lnTo>
                  <a:lnTo>
                    <a:pt x="7" y="12"/>
                  </a:lnTo>
                  <a:lnTo>
                    <a:pt x="39" y="0"/>
                  </a:lnTo>
                  <a:lnTo>
                    <a:pt x="57" y="23"/>
                  </a:lnTo>
                  <a:lnTo>
                    <a:pt x="67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5022360" y="3962520"/>
              <a:ext cx="46080" cy="112680"/>
            </a:xfrm>
            <a:custGeom>
              <a:avLst/>
              <a:gdLst/>
              <a:ahLst/>
              <a:rect l="l" t="t" r="r" b="b"/>
              <a:pathLst>
                <a:path w="57" h="141">
                  <a:moveTo>
                    <a:pt x="8" y="141"/>
                  </a:moveTo>
                  <a:lnTo>
                    <a:pt x="0" y="36"/>
                  </a:lnTo>
                  <a:lnTo>
                    <a:pt x="30" y="0"/>
                  </a:lnTo>
                  <a:lnTo>
                    <a:pt x="57" y="15"/>
                  </a:lnTo>
                  <a:lnTo>
                    <a:pt x="53" y="43"/>
                  </a:lnTo>
                  <a:lnTo>
                    <a:pt x="8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4866480" y="4049640"/>
              <a:ext cx="107640" cy="69840"/>
            </a:xfrm>
            <a:custGeom>
              <a:avLst/>
              <a:gdLst/>
              <a:ahLst/>
              <a:rect l="l" t="t" r="r" b="b"/>
              <a:pathLst>
                <a:path w="137" h="88">
                  <a:moveTo>
                    <a:pt x="0" y="88"/>
                  </a:moveTo>
                  <a:lnTo>
                    <a:pt x="102" y="0"/>
                  </a:lnTo>
                  <a:lnTo>
                    <a:pt x="137" y="16"/>
                  </a:lnTo>
                  <a:lnTo>
                    <a:pt x="134" y="46"/>
                  </a:lnTo>
                  <a:lnTo>
                    <a:pt x="116" y="6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737600" y="4125960"/>
            <a:ext cx="901080" cy="2579760"/>
            <a:chOff x="4737600" y="4125960"/>
            <a:chExt cx="901080" cy="2579760"/>
          </a:xfrm>
        </p:grpSpPr>
        <p:sp>
          <p:nvSpPr>
            <p:cNvPr id="484" name=""/>
            <p:cNvSpPr/>
            <p:nvPr/>
          </p:nvSpPr>
          <p:spPr>
            <a:xfrm flipH="1">
              <a:off x="5023440" y="4551480"/>
              <a:ext cx="452160" cy="449280"/>
            </a:xfrm>
            <a:custGeom>
              <a:avLst/>
              <a:gdLst/>
              <a:ahLst/>
              <a:rect l="l" t="t" r="r" b="b"/>
              <a:pathLst>
                <a:path w="571" h="566">
                  <a:moveTo>
                    <a:pt x="373" y="164"/>
                  </a:moveTo>
                  <a:lnTo>
                    <a:pt x="303" y="58"/>
                  </a:lnTo>
                  <a:lnTo>
                    <a:pt x="232" y="0"/>
                  </a:lnTo>
                  <a:lnTo>
                    <a:pt x="148" y="0"/>
                  </a:lnTo>
                  <a:lnTo>
                    <a:pt x="56" y="37"/>
                  </a:lnTo>
                  <a:lnTo>
                    <a:pt x="14" y="100"/>
                  </a:lnTo>
                  <a:lnTo>
                    <a:pt x="0" y="185"/>
                  </a:lnTo>
                  <a:lnTo>
                    <a:pt x="14" y="298"/>
                  </a:lnTo>
                  <a:lnTo>
                    <a:pt x="70" y="425"/>
                  </a:lnTo>
                  <a:lnTo>
                    <a:pt x="169" y="510"/>
                  </a:lnTo>
                  <a:lnTo>
                    <a:pt x="246" y="552"/>
                  </a:lnTo>
                  <a:lnTo>
                    <a:pt x="324" y="566"/>
                  </a:lnTo>
                  <a:lnTo>
                    <a:pt x="387" y="545"/>
                  </a:lnTo>
                  <a:lnTo>
                    <a:pt x="422" y="510"/>
                  </a:lnTo>
                  <a:lnTo>
                    <a:pt x="444" y="425"/>
                  </a:lnTo>
                  <a:lnTo>
                    <a:pt x="437" y="326"/>
                  </a:lnTo>
                  <a:lnTo>
                    <a:pt x="415" y="242"/>
                  </a:lnTo>
                  <a:lnTo>
                    <a:pt x="556" y="164"/>
                  </a:lnTo>
                  <a:lnTo>
                    <a:pt x="571" y="129"/>
                  </a:lnTo>
                  <a:lnTo>
                    <a:pt x="556" y="114"/>
                  </a:lnTo>
                  <a:lnTo>
                    <a:pt x="401" y="206"/>
                  </a:lnTo>
                  <a:lnTo>
                    <a:pt x="373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4748400" y="4125960"/>
              <a:ext cx="402840" cy="1003320"/>
            </a:xfrm>
            <a:custGeom>
              <a:avLst/>
              <a:gdLst/>
              <a:ahLst/>
              <a:rect l="l" t="t" r="r" b="b"/>
              <a:pathLst>
                <a:path w="509" h="1264">
                  <a:moveTo>
                    <a:pt x="141" y="1067"/>
                  </a:moveTo>
                  <a:lnTo>
                    <a:pt x="49" y="1137"/>
                  </a:lnTo>
                  <a:lnTo>
                    <a:pt x="21" y="1159"/>
                  </a:lnTo>
                  <a:lnTo>
                    <a:pt x="0" y="1208"/>
                  </a:lnTo>
                  <a:lnTo>
                    <a:pt x="28" y="1257"/>
                  </a:lnTo>
                  <a:lnTo>
                    <a:pt x="56" y="1264"/>
                  </a:lnTo>
                  <a:lnTo>
                    <a:pt x="141" y="1236"/>
                  </a:lnTo>
                  <a:lnTo>
                    <a:pt x="268" y="1137"/>
                  </a:lnTo>
                  <a:lnTo>
                    <a:pt x="382" y="1018"/>
                  </a:lnTo>
                  <a:lnTo>
                    <a:pt x="502" y="883"/>
                  </a:lnTo>
                  <a:lnTo>
                    <a:pt x="509" y="827"/>
                  </a:lnTo>
                  <a:lnTo>
                    <a:pt x="509" y="672"/>
                  </a:lnTo>
                  <a:lnTo>
                    <a:pt x="474" y="432"/>
                  </a:lnTo>
                  <a:lnTo>
                    <a:pt x="495" y="291"/>
                  </a:lnTo>
                  <a:lnTo>
                    <a:pt x="509" y="233"/>
                  </a:lnTo>
                  <a:lnTo>
                    <a:pt x="488" y="205"/>
                  </a:lnTo>
                  <a:lnTo>
                    <a:pt x="437" y="177"/>
                  </a:lnTo>
                  <a:lnTo>
                    <a:pt x="403" y="156"/>
                  </a:lnTo>
                  <a:lnTo>
                    <a:pt x="423" y="29"/>
                  </a:lnTo>
                  <a:lnTo>
                    <a:pt x="410" y="0"/>
                  </a:lnTo>
                  <a:lnTo>
                    <a:pt x="382" y="8"/>
                  </a:lnTo>
                  <a:lnTo>
                    <a:pt x="368" y="170"/>
                  </a:lnTo>
                  <a:lnTo>
                    <a:pt x="354" y="212"/>
                  </a:lnTo>
                  <a:lnTo>
                    <a:pt x="347" y="240"/>
                  </a:lnTo>
                  <a:lnTo>
                    <a:pt x="289" y="219"/>
                  </a:lnTo>
                  <a:lnTo>
                    <a:pt x="248" y="219"/>
                  </a:lnTo>
                  <a:lnTo>
                    <a:pt x="248" y="247"/>
                  </a:lnTo>
                  <a:lnTo>
                    <a:pt x="275" y="270"/>
                  </a:lnTo>
                  <a:lnTo>
                    <a:pt x="326" y="270"/>
                  </a:lnTo>
                  <a:lnTo>
                    <a:pt x="361" y="297"/>
                  </a:lnTo>
                  <a:lnTo>
                    <a:pt x="389" y="346"/>
                  </a:lnTo>
                  <a:lnTo>
                    <a:pt x="416" y="425"/>
                  </a:lnTo>
                  <a:lnTo>
                    <a:pt x="437" y="580"/>
                  </a:lnTo>
                  <a:lnTo>
                    <a:pt x="437" y="721"/>
                  </a:lnTo>
                  <a:lnTo>
                    <a:pt x="423" y="834"/>
                  </a:lnTo>
                  <a:lnTo>
                    <a:pt x="396" y="883"/>
                  </a:lnTo>
                  <a:lnTo>
                    <a:pt x="296" y="954"/>
                  </a:lnTo>
                  <a:lnTo>
                    <a:pt x="190" y="1018"/>
                  </a:lnTo>
                  <a:lnTo>
                    <a:pt x="141" y="10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5273640" y="5051520"/>
              <a:ext cx="364680" cy="606240"/>
            </a:xfrm>
            <a:custGeom>
              <a:avLst/>
              <a:gdLst/>
              <a:ahLst/>
              <a:rect l="l" t="t" r="r" b="b"/>
              <a:pathLst>
                <a:path w="459" h="763">
                  <a:moveTo>
                    <a:pt x="459" y="21"/>
                  </a:moveTo>
                  <a:lnTo>
                    <a:pt x="409" y="0"/>
                  </a:lnTo>
                  <a:lnTo>
                    <a:pt x="303" y="7"/>
                  </a:lnTo>
                  <a:lnTo>
                    <a:pt x="211" y="79"/>
                  </a:lnTo>
                  <a:lnTo>
                    <a:pt x="77" y="227"/>
                  </a:lnTo>
                  <a:lnTo>
                    <a:pt x="7" y="347"/>
                  </a:lnTo>
                  <a:lnTo>
                    <a:pt x="0" y="389"/>
                  </a:lnTo>
                  <a:lnTo>
                    <a:pt x="35" y="467"/>
                  </a:lnTo>
                  <a:lnTo>
                    <a:pt x="112" y="502"/>
                  </a:lnTo>
                  <a:lnTo>
                    <a:pt x="211" y="544"/>
                  </a:lnTo>
                  <a:lnTo>
                    <a:pt x="289" y="565"/>
                  </a:lnTo>
                  <a:lnTo>
                    <a:pt x="324" y="601"/>
                  </a:lnTo>
                  <a:lnTo>
                    <a:pt x="303" y="650"/>
                  </a:lnTo>
                  <a:lnTo>
                    <a:pt x="247" y="707"/>
                  </a:lnTo>
                  <a:lnTo>
                    <a:pt x="176" y="714"/>
                  </a:lnTo>
                  <a:lnTo>
                    <a:pt x="127" y="692"/>
                  </a:lnTo>
                  <a:lnTo>
                    <a:pt x="98" y="714"/>
                  </a:lnTo>
                  <a:lnTo>
                    <a:pt x="105" y="742"/>
                  </a:lnTo>
                  <a:lnTo>
                    <a:pt x="162" y="763"/>
                  </a:lnTo>
                  <a:lnTo>
                    <a:pt x="247" y="763"/>
                  </a:lnTo>
                  <a:lnTo>
                    <a:pt x="324" y="742"/>
                  </a:lnTo>
                  <a:lnTo>
                    <a:pt x="367" y="714"/>
                  </a:lnTo>
                  <a:lnTo>
                    <a:pt x="395" y="664"/>
                  </a:lnTo>
                  <a:lnTo>
                    <a:pt x="409" y="608"/>
                  </a:lnTo>
                  <a:lnTo>
                    <a:pt x="374" y="558"/>
                  </a:lnTo>
                  <a:lnTo>
                    <a:pt x="289" y="523"/>
                  </a:lnTo>
                  <a:lnTo>
                    <a:pt x="190" y="495"/>
                  </a:lnTo>
                  <a:lnTo>
                    <a:pt x="105" y="446"/>
                  </a:lnTo>
                  <a:lnTo>
                    <a:pt x="84" y="403"/>
                  </a:lnTo>
                  <a:lnTo>
                    <a:pt x="98" y="326"/>
                  </a:lnTo>
                  <a:lnTo>
                    <a:pt x="162" y="227"/>
                  </a:lnTo>
                  <a:lnTo>
                    <a:pt x="240" y="169"/>
                  </a:lnTo>
                  <a:lnTo>
                    <a:pt x="360" y="128"/>
                  </a:lnTo>
                  <a:lnTo>
                    <a:pt x="459" y="107"/>
                  </a:lnTo>
                  <a:lnTo>
                    <a:pt x="459" y="49"/>
                  </a:lnTo>
                  <a:lnTo>
                    <a:pt x="45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5001120" y="5024520"/>
              <a:ext cx="341280" cy="744480"/>
            </a:xfrm>
            <a:custGeom>
              <a:avLst/>
              <a:gdLst/>
              <a:ahLst/>
              <a:rect l="l" t="t" r="r" b="b"/>
              <a:pathLst>
                <a:path w="430" h="939">
                  <a:moveTo>
                    <a:pt x="374" y="297"/>
                  </a:moveTo>
                  <a:lnTo>
                    <a:pt x="331" y="121"/>
                  </a:lnTo>
                  <a:lnTo>
                    <a:pt x="282" y="35"/>
                  </a:lnTo>
                  <a:lnTo>
                    <a:pt x="176" y="0"/>
                  </a:lnTo>
                  <a:lnTo>
                    <a:pt x="70" y="14"/>
                  </a:lnTo>
                  <a:lnTo>
                    <a:pt x="21" y="107"/>
                  </a:lnTo>
                  <a:lnTo>
                    <a:pt x="28" y="220"/>
                  </a:lnTo>
                  <a:lnTo>
                    <a:pt x="56" y="403"/>
                  </a:lnTo>
                  <a:lnTo>
                    <a:pt x="56" y="565"/>
                  </a:lnTo>
                  <a:lnTo>
                    <a:pt x="21" y="706"/>
                  </a:lnTo>
                  <a:lnTo>
                    <a:pt x="0" y="784"/>
                  </a:lnTo>
                  <a:lnTo>
                    <a:pt x="14" y="854"/>
                  </a:lnTo>
                  <a:lnTo>
                    <a:pt x="63" y="890"/>
                  </a:lnTo>
                  <a:lnTo>
                    <a:pt x="127" y="925"/>
                  </a:lnTo>
                  <a:lnTo>
                    <a:pt x="190" y="939"/>
                  </a:lnTo>
                  <a:lnTo>
                    <a:pt x="268" y="939"/>
                  </a:lnTo>
                  <a:lnTo>
                    <a:pt x="360" y="868"/>
                  </a:lnTo>
                  <a:lnTo>
                    <a:pt x="430" y="720"/>
                  </a:lnTo>
                  <a:lnTo>
                    <a:pt x="423" y="586"/>
                  </a:lnTo>
                  <a:lnTo>
                    <a:pt x="381" y="431"/>
                  </a:lnTo>
                  <a:lnTo>
                    <a:pt x="374" y="2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5185440" y="5629320"/>
              <a:ext cx="258480" cy="1076400"/>
            </a:xfrm>
            <a:custGeom>
              <a:avLst/>
              <a:gdLst/>
              <a:ahLst/>
              <a:rect l="l" t="t" r="r" b="b"/>
              <a:pathLst>
                <a:path w="326" h="1357">
                  <a:moveTo>
                    <a:pt x="311" y="21"/>
                  </a:moveTo>
                  <a:lnTo>
                    <a:pt x="227" y="0"/>
                  </a:lnTo>
                  <a:lnTo>
                    <a:pt x="177" y="21"/>
                  </a:lnTo>
                  <a:lnTo>
                    <a:pt x="156" y="91"/>
                  </a:lnTo>
                  <a:lnTo>
                    <a:pt x="177" y="479"/>
                  </a:lnTo>
                  <a:lnTo>
                    <a:pt x="177" y="572"/>
                  </a:lnTo>
                  <a:lnTo>
                    <a:pt x="149" y="742"/>
                  </a:lnTo>
                  <a:lnTo>
                    <a:pt x="142" y="939"/>
                  </a:lnTo>
                  <a:lnTo>
                    <a:pt x="156" y="1038"/>
                  </a:lnTo>
                  <a:lnTo>
                    <a:pt x="142" y="1094"/>
                  </a:lnTo>
                  <a:lnTo>
                    <a:pt x="43" y="1179"/>
                  </a:lnTo>
                  <a:lnTo>
                    <a:pt x="0" y="1285"/>
                  </a:lnTo>
                  <a:lnTo>
                    <a:pt x="8" y="1320"/>
                  </a:lnTo>
                  <a:lnTo>
                    <a:pt x="85" y="1357"/>
                  </a:lnTo>
                  <a:lnTo>
                    <a:pt x="106" y="1341"/>
                  </a:lnTo>
                  <a:lnTo>
                    <a:pt x="114" y="1278"/>
                  </a:lnTo>
                  <a:lnTo>
                    <a:pt x="135" y="1186"/>
                  </a:lnTo>
                  <a:lnTo>
                    <a:pt x="170" y="1144"/>
                  </a:lnTo>
                  <a:lnTo>
                    <a:pt x="212" y="1116"/>
                  </a:lnTo>
                  <a:lnTo>
                    <a:pt x="248" y="1080"/>
                  </a:lnTo>
                  <a:lnTo>
                    <a:pt x="255" y="1052"/>
                  </a:lnTo>
                  <a:lnTo>
                    <a:pt x="234" y="1017"/>
                  </a:lnTo>
                  <a:lnTo>
                    <a:pt x="212" y="996"/>
                  </a:lnTo>
                  <a:lnTo>
                    <a:pt x="198" y="911"/>
                  </a:lnTo>
                  <a:lnTo>
                    <a:pt x="212" y="734"/>
                  </a:lnTo>
                  <a:lnTo>
                    <a:pt x="262" y="530"/>
                  </a:lnTo>
                  <a:lnTo>
                    <a:pt x="311" y="366"/>
                  </a:lnTo>
                  <a:lnTo>
                    <a:pt x="326" y="169"/>
                  </a:lnTo>
                  <a:lnTo>
                    <a:pt x="3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4737240" y="5629320"/>
              <a:ext cx="425160" cy="907920"/>
            </a:xfrm>
            <a:custGeom>
              <a:avLst/>
              <a:gdLst/>
              <a:ahLst/>
              <a:rect l="l" t="t" r="r" b="b"/>
              <a:pathLst>
                <a:path w="537" h="1144">
                  <a:moveTo>
                    <a:pt x="176" y="169"/>
                  </a:moveTo>
                  <a:lnTo>
                    <a:pt x="162" y="56"/>
                  </a:lnTo>
                  <a:lnTo>
                    <a:pt x="100" y="0"/>
                  </a:lnTo>
                  <a:lnTo>
                    <a:pt x="7" y="7"/>
                  </a:lnTo>
                  <a:lnTo>
                    <a:pt x="0" y="56"/>
                  </a:lnTo>
                  <a:lnTo>
                    <a:pt x="7" y="162"/>
                  </a:lnTo>
                  <a:lnTo>
                    <a:pt x="56" y="324"/>
                  </a:lnTo>
                  <a:lnTo>
                    <a:pt x="93" y="444"/>
                  </a:lnTo>
                  <a:lnTo>
                    <a:pt x="134" y="606"/>
                  </a:lnTo>
                  <a:lnTo>
                    <a:pt x="148" y="748"/>
                  </a:lnTo>
                  <a:lnTo>
                    <a:pt x="148" y="861"/>
                  </a:lnTo>
                  <a:lnTo>
                    <a:pt x="127" y="946"/>
                  </a:lnTo>
                  <a:lnTo>
                    <a:pt x="107" y="974"/>
                  </a:lnTo>
                  <a:lnTo>
                    <a:pt x="107" y="1002"/>
                  </a:lnTo>
                  <a:lnTo>
                    <a:pt x="134" y="1045"/>
                  </a:lnTo>
                  <a:lnTo>
                    <a:pt x="183" y="1059"/>
                  </a:lnTo>
                  <a:lnTo>
                    <a:pt x="262" y="1059"/>
                  </a:lnTo>
                  <a:lnTo>
                    <a:pt x="403" y="1094"/>
                  </a:lnTo>
                  <a:lnTo>
                    <a:pt x="444" y="1144"/>
                  </a:lnTo>
                  <a:lnTo>
                    <a:pt x="509" y="1115"/>
                  </a:lnTo>
                  <a:lnTo>
                    <a:pt x="537" y="1045"/>
                  </a:lnTo>
                  <a:lnTo>
                    <a:pt x="509" y="1017"/>
                  </a:lnTo>
                  <a:lnTo>
                    <a:pt x="389" y="1002"/>
                  </a:lnTo>
                  <a:lnTo>
                    <a:pt x="255" y="1002"/>
                  </a:lnTo>
                  <a:lnTo>
                    <a:pt x="197" y="995"/>
                  </a:lnTo>
                  <a:lnTo>
                    <a:pt x="183" y="953"/>
                  </a:lnTo>
                  <a:lnTo>
                    <a:pt x="197" y="875"/>
                  </a:lnTo>
                  <a:lnTo>
                    <a:pt x="206" y="741"/>
                  </a:lnTo>
                  <a:lnTo>
                    <a:pt x="190" y="592"/>
                  </a:lnTo>
                  <a:lnTo>
                    <a:pt x="169" y="396"/>
                  </a:lnTo>
                  <a:lnTo>
                    <a:pt x="176" y="225"/>
                  </a:lnTo>
                  <a:lnTo>
                    <a:pt x="176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8534880" y="1447920"/>
            <a:ext cx="901080" cy="2743200"/>
            <a:chOff x="8534880" y="1447920"/>
            <a:chExt cx="901080" cy="2743200"/>
          </a:xfrm>
        </p:grpSpPr>
        <p:grpSp>
          <p:nvGrpSpPr>
            <p:cNvPr id="491" name=""/>
            <p:cNvGrpSpPr/>
            <p:nvPr/>
          </p:nvGrpSpPr>
          <p:grpSpPr>
            <a:xfrm>
              <a:off x="8664120" y="1447920"/>
              <a:ext cx="492120" cy="480960"/>
              <a:chOff x="8664120" y="1447920"/>
              <a:chExt cx="492120" cy="480960"/>
            </a:xfrm>
          </p:grpSpPr>
          <p:sp>
            <p:nvSpPr>
              <p:cNvPr id="492" name=""/>
              <p:cNvSpPr/>
              <p:nvPr/>
            </p:nvSpPr>
            <p:spPr>
              <a:xfrm flipH="1">
                <a:off x="8814240" y="1635120"/>
                <a:ext cx="165240" cy="293760"/>
              </a:xfrm>
              <a:custGeom>
                <a:avLst/>
                <a:gdLst/>
                <a:ahLst/>
                <a:rect l="l" t="t" r="r" b="b"/>
                <a:pathLst>
                  <a:path w="208" h="370">
                    <a:moveTo>
                      <a:pt x="67" y="335"/>
                    </a:moveTo>
                    <a:lnTo>
                      <a:pt x="70" y="275"/>
                    </a:lnTo>
                    <a:lnTo>
                      <a:pt x="56" y="229"/>
                    </a:lnTo>
                    <a:lnTo>
                      <a:pt x="30" y="190"/>
                    </a:lnTo>
                    <a:lnTo>
                      <a:pt x="0" y="130"/>
                    </a:lnTo>
                    <a:lnTo>
                      <a:pt x="3" y="90"/>
                    </a:lnTo>
                    <a:lnTo>
                      <a:pt x="24" y="42"/>
                    </a:lnTo>
                    <a:lnTo>
                      <a:pt x="63" y="9"/>
                    </a:lnTo>
                    <a:lnTo>
                      <a:pt x="98" y="0"/>
                    </a:lnTo>
                    <a:lnTo>
                      <a:pt x="134" y="7"/>
                    </a:lnTo>
                    <a:lnTo>
                      <a:pt x="158" y="21"/>
                    </a:lnTo>
                    <a:lnTo>
                      <a:pt x="190" y="49"/>
                    </a:lnTo>
                    <a:lnTo>
                      <a:pt x="208" y="90"/>
                    </a:lnTo>
                    <a:lnTo>
                      <a:pt x="201" y="134"/>
                    </a:lnTo>
                    <a:lnTo>
                      <a:pt x="176" y="172"/>
                    </a:lnTo>
                    <a:lnTo>
                      <a:pt x="141" y="232"/>
                    </a:lnTo>
                    <a:lnTo>
                      <a:pt x="134" y="275"/>
                    </a:lnTo>
                    <a:lnTo>
                      <a:pt x="137" y="310"/>
                    </a:lnTo>
                    <a:lnTo>
                      <a:pt x="120" y="345"/>
                    </a:lnTo>
                    <a:lnTo>
                      <a:pt x="102" y="370"/>
                    </a:lnTo>
                    <a:lnTo>
                      <a:pt x="67" y="335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9035280" y="1620720"/>
                <a:ext cx="120960" cy="55800"/>
              </a:xfrm>
              <a:custGeom>
                <a:avLst/>
                <a:gdLst/>
                <a:ahLst/>
                <a:rect l="l" t="t" r="r" b="b"/>
                <a:pathLst>
                  <a:path w="153" h="71">
                    <a:moveTo>
                      <a:pt x="153" y="71"/>
                    </a:moveTo>
                    <a:lnTo>
                      <a:pt x="26" y="49"/>
                    </a:lnTo>
                    <a:lnTo>
                      <a:pt x="0" y="24"/>
                    </a:lnTo>
                    <a:lnTo>
                      <a:pt x="10" y="3"/>
                    </a:lnTo>
                    <a:lnTo>
                      <a:pt x="39" y="0"/>
                    </a:lnTo>
                    <a:lnTo>
                      <a:pt x="153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>
                <a:off x="8982720" y="1473120"/>
                <a:ext cx="52200" cy="92160"/>
              </a:xfrm>
              <a:custGeom>
                <a:avLst/>
                <a:gdLst/>
                <a:ahLst/>
                <a:rect l="l" t="t" r="r" b="b"/>
                <a:pathLst>
                  <a:path w="67" h="118">
                    <a:moveTo>
                      <a:pt x="67" y="118"/>
                    </a:moveTo>
                    <a:lnTo>
                      <a:pt x="0" y="44"/>
                    </a:lnTo>
                    <a:lnTo>
                      <a:pt x="7" y="12"/>
                    </a:lnTo>
                    <a:lnTo>
                      <a:pt x="39" y="0"/>
                    </a:lnTo>
                    <a:lnTo>
                      <a:pt x="57" y="23"/>
                    </a:lnTo>
                    <a:lnTo>
                      <a:pt x="67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H="1">
                <a:off x="8819640" y="1447920"/>
                <a:ext cx="46080" cy="112680"/>
              </a:xfrm>
              <a:custGeom>
                <a:avLst/>
                <a:gdLst/>
                <a:ahLst/>
                <a:rect l="l" t="t" r="r" b="b"/>
                <a:pathLst>
                  <a:path w="57" h="141">
                    <a:moveTo>
                      <a:pt x="8" y="141"/>
                    </a:moveTo>
                    <a:lnTo>
                      <a:pt x="0" y="36"/>
                    </a:lnTo>
                    <a:lnTo>
                      <a:pt x="30" y="0"/>
                    </a:lnTo>
                    <a:lnTo>
                      <a:pt x="57" y="15"/>
                    </a:lnTo>
                    <a:lnTo>
                      <a:pt x="53" y="43"/>
                    </a:lnTo>
                    <a:lnTo>
                      <a:pt x="8" y="1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8663760" y="1535040"/>
                <a:ext cx="107640" cy="69840"/>
              </a:xfrm>
              <a:custGeom>
                <a:avLst/>
                <a:gdLst/>
                <a:ahLst/>
                <a:rect l="l" t="t" r="r" b="b"/>
                <a:pathLst>
                  <a:path w="137" h="88">
                    <a:moveTo>
                      <a:pt x="0" y="88"/>
                    </a:moveTo>
                    <a:lnTo>
                      <a:pt x="102" y="0"/>
                    </a:lnTo>
                    <a:lnTo>
                      <a:pt x="137" y="16"/>
                    </a:lnTo>
                    <a:lnTo>
                      <a:pt x="134" y="46"/>
                    </a:lnTo>
                    <a:lnTo>
                      <a:pt x="116" y="6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8534880" y="1611360"/>
              <a:ext cx="901080" cy="2579760"/>
              <a:chOff x="8534880" y="1611360"/>
              <a:chExt cx="901080" cy="2579760"/>
            </a:xfrm>
          </p:grpSpPr>
          <p:sp>
            <p:nvSpPr>
              <p:cNvPr id="498" name=""/>
              <p:cNvSpPr/>
              <p:nvPr/>
            </p:nvSpPr>
            <p:spPr>
              <a:xfrm flipH="1">
                <a:off x="8820720" y="2036880"/>
                <a:ext cx="452160" cy="449280"/>
              </a:xfrm>
              <a:custGeom>
                <a:avLst/>
                <a:gdLst/>
                <a:ahLst/>
                <a:rect l="l" t="t" r="r" b="b"/>
                <a:pathLst>
                  <a:path w="571" h="566">
                    <a:moveTo>
                      <a:pt x="373" y="164"/>
                    </a:moveTo>
                    <a:lnTo>
                      <a:pt x="303" y="58"/>
                    </a:lnTo>
                    <a:lnTo>
                      <a:pt x="232" y="0"/>
                    </a:lnTo>
                    <a:lnTo>
                      <a:pt x="148" y="0"/>
                    </a:lnTo>
                    <a:lnTo>
                      <a:pt x="56" y="37"/>
                    </a:lnTo>
                    <a:lnTo>
                      <a:pt x="14" y="100"/>
                    </a:lnTo>
                    <a:lnTo>
                      <a:pt x="0" y="185"/>
                    </a:lnTo>
                    <a:lnTo>
                      <a:pt x="14" y="298"/>
                    </a:lnTo>
                    <a:lnTo>
                      <a:pt x="70" y="425"/>
                    </a:lnTo>
                    <a:lnTo>
                      <a:pt x="169" y="510"/>
                    </a:lnTo>
                    <a:lnTo>
                      <a:pt x="246" y="552"/>
                    </a:lnTo>
                    <a:lnTo>
                      <a:pt x="324" y="566"/>
                    </a:lnTo>
                    <a:lnTo>
                      <a:pt x="387" y="545"/>
                    </a:lnTo>
                    <a:lnTo>
                      <a:pt x="422" y="510"/>
                    </a:lnTo>
                    <a:lnTo>
                      <a:pt x="444" y="425"/>
                    </a:lnTo>
                    <a:lnTo>
                      <a:pt x="437" y="326"/>
                    </a:lnTo>
                    <a:lnTo>
                      <a:pt x="415" y="242"/>
                    </a:lnTo>
                    <a:lnTo>
                      <a:pt x="556" y="164"/>
                    </a:lnTo>
                    <a:lnTo>
                      <a:pt x="571" y="129"/>
                    </a:lnTo>
                    <a:lnTo>
                      <a:pt x="556" y="114"/>
                    </a:lnTo>
                    <a:lnTo>
                      <a:pt x="401" y="206"/>
                    </a:lnTo>
                    <a:lnTo>
                      <a:pt x="373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8545680" y="1611360"/>
                <a:ext cx="402840" cy="1003320"/>
              </a:xfrm>
              <a:custGeom>
                <a:avLst/>
                <a:gdLst/>
                <a:ahLst/>
                <a:rect l="l" t="t" r="r" b="b"/>
                <a:pathLst>
                  <a:path w="509" h="1264">
                    <a:moveTo>
                      <a:pt x="141" y="1067"/>
                    </a:moveTo>
                    <a:lnTo>
                      <a:pt x="49" y="1137"/>
                    </a:lnTo>
                    <a:lnTo>
                      <a:pt x="21" y="1159"/>
                    </a:lnTo>
                    <a:lnTo>
                      <a:pt x="0" y="1208"/>
                    </a:lnTo>
                    <a:lnTo>
                      <a:pt x="28" y="1257"/>
                    </a:lnTo>
                    <a:lnTo>
                      <a:pt x="56" y="1264"/>
                    </a:lnTo>
                    <a:lnTo>
                      <a:pt x="141" y="1236"/>
                    </a:lnTo>
                    <a:lnTo>
                      <a:pt x="268" y="1137"/>
                    </a:lnTo>
                    <a:lnTo>
                      <a:pt x="382" y="1018"/>
                    </a:lnTo>
                    <a:lnTo>
                      <a:pt x="502" y="883"/>
                    </a:lnTo>
                    <a:lnTo>
                      <a:pt x="509" y="827"/>
                    </a:lnTo>
                    <a:lnTo>
                      <a:pt x="509" y="672"/>
                    </a:lnTo>
                    <a:lnTo>
                      <a:pt x="474" y="432"/>
                    </a:lnTo>
                    <a:lnTo>
                      <a:pt x="495" y="291"/>
                    </a:lnTo>
                    <a:lnTo>
                      <a:pt x="509" y="233"/>
                    </a:lnTo>
                    <a:lnTo>
                      <a:pt x="488" y="205"/>
                    </a:lnTo>
                    <a:lnTo>
                      <a:pt x="437" y="177"/>
                    </a:lnTo>
                    <a:lnTo>
                      <a:pt x="403" y="156"/>
                    </a:lnTo>
                    <a:lnTo>
                      <a:pt x="423" y="29"/>
                    </a:lnTo>
                    <a:lnTo>
                      <a:pt x="410" y="0"/>
                    </a:lnTo>
                    <a:lnTo>
                      <a:pt x="382" y="8"/>
                    </a:lnTo>
                    <a:lnTo>
                      <a:pt x="368" y="170"/>
                    </a:lnTo>
                    <a:lnTo>
                      <a:pt x="354" y="212"/>
                    </a:lnTo>
                    <a:lnTo>
                      <a:pt x="347" y="240"/>
                    </a:lnTo>
                    <a:lnTo>
                      <a:pt x="289" y="219"/>
                    </a:lnTo>
                    <a:lnTo>
                      <a:pt x="248" y="219"/>
                    </a:lnTo>
                    <a:lnTo>
                      <a:pt x="248" y="247"/>
                    </a:lnTo>
                    <a:lnTo>
                      <a:pt x="275" y="270"/>
                    </a:lnTo>
                    <a:lnTo>
                      <a:pt x="326" y="270"/>
                    </a:lnTo>
                    <a:lnTo>
                      <a:pt x="361" y="297"/>
                    </a:lnTo>
                    <a:lnTo>
                      <a:pt x="389" y="346"/>
                    </a:lnTo>
                    <a:lnTo>
                      <a:pt x="416" y="425"/>
                    </a:lnTo>
                    <a:lnTo>
                      <a:pt x="437" y="580"/>
                    </a:lnTo>
                    <a:lnTo>
                      <a:pt x="437" y="721"/>
                    </a:lnTo>
                    <a:lnTo>
                      <a:pt x="423" y="834"/>
                    </a:lnTo>
                    <a:lnTo>
                      <a:pt x="396" y="883"/>
                    </a:lnTo>
                    <a:lnTo>
                      <a:pt x="296" y="954"/>
                    </a:lnTo>
                    <a:lnTo>
                      <a:pt x="190" y="1018"/>
                    </a:lnTo>
                    <a:lnTo>
                      <a:pt x="141" y="10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9070920" y="2536920"/>
                <a:ext cx="364680" cy="606240"/>
              </a:xfrm>
              <a:custGeom>
                <a:avLst/>
                <a:gdLst/>
                <a:ahLst/>
                <a:rect l="l" t="t" r="r" b="b"/>
                <a:pathLst>
                  <a:path w="459" h="763">
                    <a:moveTo>
                      <a:pt x="459" y="21"/>
                    </a:moveTo>
                    <a:lnTo>
                      <a:pt x="409" y="0"/>
                    </a:lnTo>
                    <a:lnTo>
                      <a:pt x="303" y="7"/>
                    </a:lnTo>
                    <a:lnTo>
                      <a:pt x="211" y="79"/>
                    </a:lnTo>
                    <a:lnTo>
                      <a:pt x="77" y="227"/>
                    </a:lnTo>
                    <a:lnTo>
                      <a:pt x="7" y="347"/>
                    </a:lnTo>
                    <a:lnTo>
                      <a:pt x="0" y="389"/>
                    </a:lnTo>
                    <a:lnTo>
                      <a:pt x="35" y="467"/>
                    </a:lnTo>
                    <a:lnTo>
                      <a:pt x="112" y="502"/>
                    </a:lnTo>
                    <a:lnTo>
                      <a:pt x="211" y="544"/>
                    </a:lnTo>
                    <a:lnTo>
                      <a:pt x="289" y="565"/>
                    </a:lnTo>
                    <a:lnTo>
                      <a:pt x="324" y="601"/>
                    </a:lnTo>
                    <a:lnTo>
                      <a:pt x="303" y="650"/>
                    </a:lnTo>
                    <a:lnTo>
                      <a:pt x="247" y="707"/>
                    </a:lnTo>
                    <a:lnTo>
                      <a:pt x="176" y="714"/>
                    </a:lnTo>
                    <a:lnTo>
                      <a:pt x="127" y="692"/>
                    </a:lnTo>
                    <a:lnTo>
                      <a:pt x="98" y="714"/>
                    </a:lnTo>
                    <a:lnTo>
                      <a:pt x="105" y="742"/>
                    </a:lnTo>
                    <a:lnTo>
                      <a:pt x="162" y="763"/>
                    </a:lnTo>
                    <a:lnTo>
                      <a:pt x="247" y="763"/>
                    </a:lnTo>
                    <a:lnTo>
                      <a:pt x="324" y="742"/>
                    </a:lnTo>
                    <a:lnTo>
                      <a:pt x="367" y="714"/>
                    </a:lnTo>
                    <a:lnTo>
                      <a:pt x="395" y="664"/>
                    </a:lnTo>
                    <a:lnTo>
                      <a:pt x="409" y="608"/>
                    </a:lnTo>
                    <a:lnTo>
                      <a:pt x="374" y="558"/>
                    </a:lnTo>
                    <a:lnTo>
                      <a:pt x="289" y="523"/>
                    </a:lnTo>
                    <a:lnTo>
                      <a:pt x="190" y="495"/>
                    </a:lnTo>
                    <a:lnTo>
                      <a:pt x="105" y="446"/>
                    </a:lnTo>
                    <a:lnTo>
                      <a:pt x="84" y="403"/>
                    </a:lnTo>
                    <a:lnTo>
                      <a:pt x="98" y="326"/>
                    </a:lnTo>
                    <a:lnTo>
                      <a:pt x="162" y="227"/>
                    </a:lnTo>
                    <a:lnTo>
                      <a:pt x="240" y="169"/>
                    </a:lnTo>
                    <a:lnTo>
                      <a:pt x="360" y="128"/>
                    </a:lnTo>
                    <a:lnTo>
                      <a:pt x="459" y="107"/>
                    </a:lnTo>
                    <a:lnTo>
                      <a:pt x="459" y="49"/>
                    </a:lnTo>
                    <a:lnTo>
                      <a:pt x="45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8798400" y="2509920"/>
                <a:ext cx="341280" cy="744480"/>
              </a:xfrm>
              <a:custGeom>
                <a:avLst/>
                <a:gdLst/>
                <a:ahLst/>
                <a:rect l="l" t="t" r="r" b="b"/>
                <a:pathLst>
                  <a:path w="430" h="939">
                    <a:moveTo>
                      <a:pt x="374" y="297"/>
                    </a:moveTo>
                    <a:lnTo>
                      <a:pt x="331" y="121"/>
                    </a:lnTo>
                    <a:lnTo>
                      <a:pt x="282" y="35"/>
                    </a:lnTo>
                    <a:lnTo>
                      <a:pt x="176" y="0"/>
                    </a:lnTo>
                    <a:lnTo>
                      <a:pt x="70" y="14"/>
                    </a:lnTo>
                    <a:lnTo>
                      <a:pt x="21" y="107"/>
                    </a:lnTo>
                    <a:lnTo>
                      <a:pt x="28" y="220"/>
                    </a:lnTo>
                    <a:lnTo>
                      <a:pt x="56" y="403"/>
                    </a:lnTo>
                    <a:lnTo>
                      <a:pt x="56" y="565"/>
                    </a:lnTo>
                    <a:lnTo>
                      <a:pt x="21" y="706"/>
                    </a:lnTo>
                    <a:lnTo>
                      <a:pt x="0" y="784"/>
                    </a:lnTo>
                    <a:lnTo>
                      <a:pt x="14" y="854"/>
                    </a:lnTo>
                    <a:lnTo>
                      <a:pt x="63" y="890"/>
                    </a:lnTo>
                    <a:lnTo>
                      <a:pt x="127" y="925"/>
                    </a:lnTo>
                    <a:lnTo>
                      <a:pt x="190" y="939"/>
                    </a:lnTo>
                    <a:lnTo>
                      <a:pt x="268" y="939"/>
                    </a:lnTo>
                    <a:lnTo>
                      <a:pt x="360" y="868"/>
                    </a:lnTo>
                    <a:lnTo>
                      <a:pt x="430" y="720"/>
                    </a:lnTo>
                    <a:lnTo>
                      <a:pt x="423" y="586"/>
                    </a:lnTo>
                    <a:lnTo>
                      <a:pt x="381" y="431"/>
                    </a:lnTo>
                    <a:lnTo>
                      <a:pt x="374" y="2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>
                <a:off x="8982720" y="3114720"/>
                <a:ext cx="258480" cy="1076400"/>
              </a:xfrm>
              <a:custGeom>
                <a:avLst/>
                <a:gdLst/>
                <a:ahLst/>
                <a:rect l="l" t="t" r="r" b="b"/>
                <a:pathLst>
                  <a:path w="326" h="1357">
                    <a:moveTo>
                      <a:pt x="311" y="21"/>
                    </a:moveTo>
                    <a:lnTo>
                      <a:pt x="227" y="0"/>
                    </a:lnTo>
                    <a:lnTo>
                      <a:pt x="177" y="21"/>
                    </a:lnTo>
                    <a:lnTo>
                      <a:pt x="156" y="91"/>
                    </a:lnTo>
                    <a:lnTo>
                      <a:pt x="177" y="479"/>
                    </a:lnTo>
                    <a:lnTo>
                      <a:pt x="177" y="572"/>
                    </a:lnTo>
                    <a:lnTo>
                      <a:pt x="149" y="742"/>
                    </a:lnTo>
                    <a:lnTo>
                      <a:pt x="142" y="939"/>
                    </a:lnTo>
                    <a:lnTo>
                      <a:pt x="156" y="1038"/>
                    </a:lnTo>
                    <a:lnTo>
                      <a:pt x="142" y="1094"/>
                    </a:lnTo>
                    <a:lnTo>
                      <a:pt x="43" y="1179"/>
                    </a:lnTo>
                    <a:lnTo>
                      <a:pt x="0" y="1285"/>
                    </a:lnTo>
                    <a:lnTo>
                      <a:pt x="8" y="1320"/>
                    </a:lnTo>
                    <a:lnTo>
                      <a:pt x="85" y="1357"/>
                    </a:lnTo>
                    <a:lnTo>
                      <a:pt x="106" y="1341"/>
                    </a:lnTo>
                    <a:lnTo>
                      <a:pt x="114" y="1278"/>
                    </a:lnTo>
                    <a:lnTo>
                      <a:pt x="135" y="1186"/>
                    </a:lnTo>
                    <a:lnTo>
                      <a:pt x="170" y="1144"/>
                    </a:lnTo>
                    <a:lnTo>
                      <a:pt x="212" y="1116"/>
                    </a:lnTo>
                    <a:lnTo>
                      <a:pt x="248" y="1080"/>
                    </a:lnTo>
                    <a:lnTo>
                      <a:pt x="255" y="1052"/>
                    </a:lnTo>
                    <a:lnTo>
                      <a:pt x="234" y="1017"/>
                    </a:lnTo>
                    <a:lnTo>
                      <a:pt x="212" y="996"/>
                    </a:lnTo>
                    <a:lnTo>
                      <a:pt x="198" y="911"/>
                    </a:lnTo>
                    <a:lnTo>
                      <a:pt x="212" y="734"/>
                    </a:lnTo>
                    <a:lnTo>
                      <a:pt x="262" y="530"/>
                    </a:lnTo>
                    <a:lnTo>
                      <a:pt x="311" y="366"/>
                    </a:lnTo>
                    <a:lnTo>
                      <a:pt x="326" y="169"/>
                    </a:lnTo>
                    <a:lnTo>
                      <a:pt x="311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8534520" y="3114720"/>
                <a:ext cx="425160" cy="907920"/>
              </a:xfrm>
              <a:custGeom>
                <a:avLst/>
                <a:gdLst/>
                <a:ahLst/>
                <a:rect l="l" t="t" r="r" b="b"/>
                <a:pathLst>
                  <a:path w="537" h="1144">
                    <a:moveTo>
                      <a:pt x="176" y="169"/>
                    </a:moveTo>
                    <a:lnTo>
                      <a:pt x="162" y="56"/>
                    </a:lnTo>
                    <a:lnTo>
                      <a:pt x="100" y="0"/>
                    </a:lnTo>
                    <a:lnTo>
                      <a:pt x="7" y="7"/>
                    </a:lnTo>
                    <a:lnTo>
                      <a:pt x="0" y="56"/>
                    </a:lnTo>
                    <a:lnTo>
                      <a:pt x="7" y="162"/>
                    </a:lnTo>
                    <a:lnTo>
                      <a:pt x="56" y="324"/>
                    </a:lnTo>
                    <a:lnTo>
                      <a:pt x="93" y="444"/>
                    </a:lnTo>
                    <a:lnTo>
                      <a:pt x="134" y="606"/>
                    </a:lnTo>
                    <a:lnTo>
                      <a:pt x="148" y="748"/>
                    </a:lnTo>
                    <a:lnTo>
                      <a:pt x="148" y="861"/>
                    </a:lnTo>
                    <a:lnTo>
                      <a:pt x="127" y="946"/>
                    </a:lnTo>
                    <a:lnTo>
                      <a:pt x="107" y="974"/>
                    </a:lnTo>
                    <a:lnTo>
                      <a:pt x="107" y="1002"/>
                    </a:lnTo>
                    <a:lnTo>
                      <a:pt x="134" y="1045"/>
                    </a:lnTo>
                    <a:lnTo>
                      <a:pt x="183" y="1059"/>
                    </a:lnTo>
                    <a:lnTo>
                      <a:pt x="262" y="1059"/>
                    </a:lnTo>
                    <a:lnTo>
                      <a:pt x="403" y="1094"/>
                    </a:lnTo>
                    <a:lnTo>
                      <a:pt x="444" y="1144"/>
                    </a:lnTo>
                    <a:lnTo>
                      <a:pt x="509" y="1115"/>
                    </a:lnTo>
                    <a:lnTo>
                      <a:pt x="537" y="1045"/>
                    </a:lnTo>
                    <a:lnTo>
                      <a:pt x="509" y="1017"/>
                    </a:lnTo>
                    <a:lnTo>
                      <a:pt x="389" y="1002"/>
                    </a:lnTo>
                    <a:lnTo>
                      <a:pt x="255" y="1002"/>
                    </a:lnTo>
                    <a:lnTo>
                      <a:pt x="197" y="995"/>
                    </a:lnTo>
                    <a:lnTo>
                      <a:pt x="183" y="953"/>
                    </a:lnTo>
                    <a:lnTo>
                      <a:pt x="197" y="875"/>
                    </a:lnTo>
                    <a:lnTo>
                      <a:pt x="206" y="741"/>
                    </a:lnTo>
                    <a:lnTo>
                      <a:pt x="190" y="592"/>
                    </a:lnTo>
                    <a:lnTo>
                      <a:pt x="169" y="396"/>
                    </a:lnTo>
                    <a:lnTo>
                      <a:pt x="176" y="225"/>
                    </a:lnTo>
                    <a:lnTo>
                      <a:pt x="176" y="1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4" name=""/>
          <p:cNvGrpSpPr/>
          <p:nvPr/>
        </p:nvGrpSpPr>
        <p:grpSpPr>
          <a:xfrm>
            <a:off x="7147080" y="5105520"/>
            <a:ext cx="1311480" cy="916200"/>
            <a:chOff x="7147080" y="5105520"/>
            <a:chExt cx="1311480" cy="916200"/>
          </a:xfrm>
        </p:grpSpPr>
        <p:sp>
          <p:nvSpPr>
            <p:cNvPr id="505" name=""/>
            <p:cNvSpPr/>
            <p:nvPr/>
          </p:nvSpPr>
          <p:spPr>
            <a:xfrm>
              <a:off x="7147080" y="5622840"/>
              <a:ext cx="131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66"/>
                  </a:solidFill>
                  <a:latin typeface="Arial"/>
                </a:rPr>
                <a:t>Just do 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04280" y="5105520"/>
              <a:ext cx="533160" cy="533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 rot="16200000">
            <a:off x="7069680" y="3949920"/>
            <a:ext cx="5837040" cy="5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4300" spc="-1" strike="noStrike">
                <a:solidFill>
                  <a:srgbClr val="a1bae0"/>
                </a:solidFill>
                <a:latin typeface="Arial"/>
              </a:rPr>
              <a:t>Definitione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916200" y="1981080"/>
            <a:ext cx="7921080" cy="4482720"/>
            <a:chOff x="916200" y="1981080"/>
            <a:chExt cx="7921080" cy="4482720"/>
          </a:xfrm>
        </p:grpSpPr>
        <p:sp>
          <p:nvSpPr>
            <p:cNvPr id="509" name=""/>
            <p:cNvSpPr/>
            <p:nvPr/>
          </p:nvSpPr>
          <p:spPr>
            <a:xfrm>
              <a:off x="2438280" y="2590920"/>
              <a:ext cx="4572000" cy="36576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971880" y="1981080"/>
              <a:ext cx="1692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66"/>
                  </a:solidFill>
                  <a:latin typeface="Arial"/>
                </a:rPr>
                <a:t>Handel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171560" y="5634000"/>
              <a:ext cx="1514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66"/>
                  </a:solidFill>
                  <a:latin typeface="Arial"/>
                </a:rPr>
                <a:t>Wiss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916920" y="5638680"/>
              <a:ext cx="1443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66"/>
                  </a:solidFill>
                  <a:latin typeface="Arial"/>
                </a:rPr>
                <a:t>Lern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07520" y="4238640"/>
              <a:ext cx="21297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66"/>
                  </a:solidFill>
                  <a:latin typeface="Arial"/>
                </a:rPr>
                <a:t>Informati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66"/>
                  </a:solidFill>
                  <a:latin typeface="Arial"/>
                </a:rPr>
                <a:t>+ (Problem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66"/>
                  </a:solidFill>
                  <a:latin typeface="Arial"/>
                </a:rPr>
                <a:t>   </a:t>
              </a:r>
              <a:r>
                <a:rPr b="0" lang="de-DE" sz="2400" spc="-1" strike="noStrike">
                  <a:solidFill>
                    <a:srgbClr val="000066"/>
                  </a:solidFill>
                  <a:latin typeface="Arial"/>
                </a:rPr>
                <a:t>orientierun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66"/>
                  </a:solidFill>
                  <a:latin typeface="Arial"/>
                </a:rPr>
                <a:t>+ Relevanz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16200" y="3873600"/>
              <a:ext cx="21297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66"/>
                  </a:solidFill>
                  <a:latin typeface="Arial"/>
                </a:rPr>
                <a:t>Informations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66"/>
                  </a:solidFill>
                  <a:latin typeface="Arial"/>
                </a:rPr>
                <a:t>bedürfn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66"/>
                  </a:solidFill>
                  <a:latin typeface="Arial"/>
                </a:rPr>
                <a:t>+ (Problem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66"/>
                  </a:solidFill>
                  <a:latin typeface="Arial"/>
                </a:rPr>
                <a:t>   </a:t>
              </a:r>
              <a:r>
                <a:rPr b="0" lang="de-DE" sz="2400" spc="-1" strike="noStrike">
                  <a:solidFill>
                    <a:srgbClr val="000066"/>
                  </a:solidFill>
                  <a:latin typeface="Arial"/>
                </a:rPr>
                <a:t>orientierun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66"/>
                  </a:solidFill>
                  <a:latin typeface="Arial"/>
                </a:rPr>
                <a:t>+ Relevanz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18152400">
              <a:off x="2324160" y="3619440"/>
              <a:ext cx="2209680" cy="457200"/>
            </a:xfrm>
            <a:prstGeom prst="rightArrow">
              <a:avLst>
                <a:gd name="adj1" fmla="val 50000"/>
                <a:gd name="adj2" fmla="val 10415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rot="3447600">
              <a:off x="4915080" y="3619440"/>
              <a:ext cx="2209680" cy="456840"/>
            </a:xfrm>
            <a:prstGeom prst="rightArrow">
              <a:avLst>
                <a:gd name="adj1" fmla="val 50000"/>
                <a:gd name="adj2" fmla="val 104239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48760" y="5037120"/>
              <a:ext cx="3598920" cy="11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66"/>
                  </a:solidFill>
                  <a:latin typeface="Arial"/>
                </a:rPr>
                <a:t>abhängig vom sozialen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66"/>
                  </a:solidFill>
                  <a:latin typeface="Arial"/>
                </a:rPr>
                <a:t>betrieblichen Kontext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66"/>
                  </a:solidFill>
                  <a:latin typeface="Arial"/>
                </a:rPr>
                <a:t>Innenwelt und Außenwe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495680" y="3276720"/>
              <a:ext cx="381240" cy="1447560"/>
            </a:xfrm>
            <a:prstGeom prst="upArrow">
              <a:avLst>
                <a:gd name="adj1" fmla="val 50000"/>
                <a:gd name="adj2" fmla="val 94924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666880" y="5486400"/>
              <a:ext cx="609840" cy="228600"/>
            </a:xfrm>
            <a:prstGeom prst="leftRightArrow">
              <a:avLst>
                <a:gd name="adj1" fmla="val 50000"/>
                <a:gd name="adj2" fmla="val 5310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172200" y="5486400"/>
              <a:ext cx="609480" cy="228600"/>
            </a:xfrm>
            <a:prstGeom prst="leftRightArrow">
              <a:avLst>
                <a:gd name="adj1" fmla="val 50000"/>
                <a:gd name="adj2" fmla="val 53076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804960" y="484200"/>
            <a:ext cx="49402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1200" bIns="61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Wissen, Können, Handel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Wissensmanagement als Marktmod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09480" y="1828800"/>
            <a:ext cx="8991720" cy="45720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3123720" y="5715000"/>
            <a:ext cx="3924720" cy="457200"/>
            <a:chOff x="3123720" y="5715000"/>
            <a:chExt cx="3924720" cy="457200"/>
          </a:xfrm>
        </p:grpSpPr>
        <p:sp>
          <p:nvSpPr>
            <p:cNvPr id="525" name=""/>
            <p:cNvSpPr/>
            <p:nvPr/>
          </p:nvSpPr>
          <p:spPr>
            <a:xfrm flipH="1">
              <a:off x="3123360" y="5715000"/>
              <a:ext cx="3581640" cy="457200"/>
            </a:xfrm>
            <a:custGeom>
              <a:avLst/>
              <a:gdLst>
                <a:gd name="textAreaLeft" fmla="*/ -360 w 3581640"/>
                <a:gd name="textAreaRight" fmla="*/ 3581640 w 35816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18" y="0"/>
                  </a:lnTo>
                  <a:lnTo>
                    <a:pt x="21600" y="10800"/>
                  </a:lnTo>
                  <a:lnTo>
                    <a:pt x="19518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6f6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467160" y="5715000"/>
              <a:ext cx="3581280" cy="457200"/>
            </a:xfrm>
            <a:custGeom>
              <a:avLst/>
              <a:gdLst>
                <a:gd name="textAreaLeft" fmla="*/ 0 w 3581280"/>
                <a:gd name="textAreaRight" fmla="*/ 3581640 w 3581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18" y="0"/>
                  </a:lnTo>
                  <a:lnTo>
                    <a:pt x="21600" y="10800"/>
                  </a:lnTo>
                  <a:lnTo>
                    <a:pt x="19518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6f6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66"/>
                  </a:solidFill>
                  <a:latin typeface="Arial"/>
                </a:rPr>
                <a:t>Kommunizier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838080" y="1878120"/>
            <a:ext cx="8607600" cy="3305880"/>
            <a:chOff x="838080" y="1878120"/>
            <a:chExt cx="8607600" cy="3305880"/>
          </a:xfrm>
        </p:grpSpPr>
        <p:sp>
          <p:nvSpPr>
            <p:cNvPr id="528" name=""/>
            <p:cNvSpPr/>
            <p:nvPr/>
          </p:nvSpPr>
          <p:spPr>
            <a:xfrm>
              <a:off x="2910600" y="1878120"/>
              <a:ext cx="4434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66"/>
                  </a:solidFill>
                  <a:latin typeface="Arial"/>
                </a:rPr>
                <a:t>Zielerfüllu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66"/>
                  </a:solidFill>
                  <a:latin typeface="Arial"/>
                </a:rPr>
                <a:t>(Person, Gruppe, Organisatio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838080" y="3581280"/>
              <a:ext cx="8607600" cy="1067040"/>
              <a:chOff x="838080" y="3581280"/>
              <a:chExt cx="8607600" cy="1067040"/>
            </a:xfrm>
          </p:grpSpPr>
          <p:sp>
            <p:nvSpPr>
              <p:cNvPr id="530" name=""/>
              <p:cNvSpPr/>
              <p:nvPr/>
            </p:nvSpPr>
            <p:spPr>
              <a:xfrm>
                <a:off x="838080" y="3581280"/>
                <a:ext cx="1905120" cy="106704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200" spc="-1" strike="noStrike">
                    <a:solidFill>
                      <a:srgbClr val="000066"/>
                    </a:solidFill>
                    <a:latin typeface="Arial"/>
                  </a:rPr>
                  <a:t>Wissens-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200" spc="-1" strike="noStrike">
                    <a:solidFill>
                      <a:srgbClr val="000066"/>
                    </a:solidFill>
                    <a:latin typeface="Arial"/>
                  </a:rPr>
                  <a:t>Angebo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315200" y="3581280"/>
                <a:ext cx="2130480" cy="106524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200" spc="-1" strike="noStrike">
                    <a:solidFill>
                      <a:srgbClr val="000066"/>
                    </a:solidFill>
                    <a:latin typeface="Arial"/>
                  </a:rPr>
                  <a:t>Wissens-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200" spc="-1" strike="noStrike">
                    <a:solidFill>
                      <a:srgbClr val="000066"/>
                    </a:solidFill>
                    <a:latin typeface="Arial"/>
                  </a:rPr>
                  <a:t>Nachfrag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2971800" y="4419720"/>
              <a:ext cx="4038480" cy="764280"/>
              <a:chOff x="2971800" y="4419720"/>
              <a:chExt cx="4038480" cy="764280"/>
            </a:xfrm>
          </p:grpSpPr>
          <p:grpSp>
            <p:nvGrpSpPr>
              <p:cNvPr id="533" name=""/>
              <p:cNvGrpSpPr/>
              <p:nvPr/>
            </p:nvGrpSpPr>
            <p:grpSpPr>
              <a:xfrm>
                <a:off x="2971800" y="4419720"/>
                <a:ext cx="4038480" cy="398880"/>
                <a:chOff x="2971800" y="4419720"/>
                <a:chExt cx="4038480" cy="39888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2971800" y="4449600"/>
                  <a:ext cx="4038480" cy="0"/>
                </a:xfrm>
                <a:prstGeom prst="line">
                  <a:avLst/>
                </a:prstGeom>
                <a:ln w="57240">
                  <a:solidFill>
                    <a:srgbClr val="ffff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113360" y="4419720"/>
                  <a:ext cx="1895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66"/>
                      </a:solidFill>
                      <a:latin typeface="Arial"/>
                    </a:rPr>
                    <a:t>Marktausgleic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6" name=""/>
              <p:cNvSpPr/>
              <p:nvPr/>
            </p:nvSpPr>
            <p:spPr>
              <a:xfrm>
                <a:off x="3908160" y="4724280"/>
                <a:ext cx="2414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000066"/>
                    </a:solidFill>
                    <a:latin typeface="Arial"/>
                  </a:rPr>
                  <a:t>Wertschöpfu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3200400" y="2666880"/>
              <a:ext cx="4037040" cy="1676520"/>
              <a:chOff x="3200400" y="2666880"/>
              <a:chExt cx="4037040" cy="1676520"/>
            </a:xfrm>
          </p:grpSpPr>
          <p:sp>
            <p:nvSpPr>
              <p:cNvPr id="538" name=""/>
              <p:cNvSpPr/>
              <p:nvPr/>
            </p:nvSpPr>
            <p:spPr>
              <a:xfrm>
                <a:off x="3201840" y="3429000"/>
                <a:ext cx="1903680" cy="9144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6f6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66"/>
                    </a:solidFill>
                    <a:latin typeface="Arial"/>
                  </a:rPr>
                  <a:t>Generiert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66"/>
                    </a:solidFill>
                    <a:latin typeface="Arial"/>
                  </a:rPr>
                  <a:t>Wiss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334120" y="3124080"/>
                <a:ext cx="1903320" cy="9144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6f6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66"/>
                    </a:solidFill>
                    <a:latin typeface="Arial"/>
                  </a:rPr>
                  <a:t>Wiss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66"/>
                    </a:solidFill>
                    <a:latin typeface="Arial"/>
                  </a:rPr>
                  <a:t>nutz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200400" y="2666880"/>
                <a:ext cx="1903320" cy="9144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6f6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66"/>
                    </a:solidFill>
                    <a:latin typeface="Arial"/>
                  </a:rPr>
                  <a:t>Gespeichert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66"/>
                    </a:solidFill>
                    <a:latin typeface="Arial"/>
                  </a:rPr>
                  <a:t>Wiss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 rot="6181800">
                <a:off x="5105160" y="2894400"/>
                <a:ext cx="152280" cy="914040"/>
              </a:xfrm>
              <a:custGeom>
                <a:avLst/>
                <a:gdLst/>
                <a:ahLst/>
                <a:rect l="l" t="t" r="r" b="b"/>
                <a:pathLst>
                  <a:path w="248" h="480">
                    <a:moveTo>
                      <a:pt x="248" y="0"/>
                    </a:moveTo>
                    <a:cubicBezTo>
                      <a:pt x="132" y="56"/>
                      <a:pt x="16" y="112"/>
                      <a:pt x="8" y="192"/>
                    </a:cubicBezTo>
                    <a:cubicBezTo>
                      <a:pt x="0" y="272"/>
                      <a:pt x="100" y="376"/>
                      <a:pt x="200" y="480"/>
                    </a:cubicBezTo>
                  </a:path>
                </a:pathLst>
              </a:custGeom>
              <a:noFill/>
              <a:ln w="28440">
                <a:solidFill>
                  <a:srgbClr val="000066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15726600">
                <a:off x="5104800" y="3428640"/>
                <a:ext cx="152640" cy="914400"/>
              </a:xfrm>
              <a:custGeom>
                <a:avLst/>
                <a:gdLst/>
                <a:ahLst/>
                <a:rect l="l" t="t" r="r" b="b"/>
                <a:pathLst>
                  <a:path w="248" h="480">
                    <a:moveTo>
                      <a:pt x="248" y="0"/>
                    </a:moveTo>
                    <a:cubicBezTo>
                      <a:pt x="132" y="56"/>
                      <a:pt x="16" y="112"/>
                      <a:pt x="8" y="192"/>
                    </a:cubicBezTo>
                    <a:cubicBezTo>
                      <a:pt x="0" y="272"/>
                      <a:pt x="100" y="376"/>
                      <a:pt x="200" y="480"/>
                    </a:cubicBezTo>
                  </a:path>
                </a:pathLst>
              </a:custGeom>
              <a:noFill/>
              <a:ln w="28440">
                <a:solidFill>
                  <a:srgbClr val="000066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3" name=""/>
          <p:cNvGrpSpPr/>
          <p:nvPr/>
        </p:nvGrpSpPr>
        <p:grpSpPr>
          <a:xfrm>
            <a:off x="2959200" y="3200400"/>
            <a:ext cx="4216320" cy="2438280"/>
            <a:chOff x="2959200" y="3200400"/>
            <a:chExt cx="4216320" cy="2438280"/>
          </a:xfrm>
        </p:grpSpPr>
        <p:sp>
          <p:nvSpPr>
            <p:cNvPr id="544" name=""/>
            <p:cNvSpPr/>
            <p:nvPr/>
          </p:nvSpPr>
          <p:spPr>
            <a:xfrm flipH="1">
              <a:off x="6794640" y="4038480"/>
              <a:ext cx="380880" cy="990720"/>
            </a:xfrm>
            <a:custGeom>
              <a:avLst/>
              <a:gdLst/>
              <a:ahLst/>
              <a:rect l="l" t="t" r="r" b="b"/>
              <a:pathLst>
                <a:path w="248" h="480">
                  <a:moveTo>
                    <a:pt x="248" y="0"/>
                  </a:moveTo>
                  <a:cubicBezTo>
                    <a:pt x="132" y="56"/>
                    <a:pt x="16" y="112"/>
                    <a:pt x="8" y="192"/>
                  </a:cubicBezTo>
                  <a:cubicBezTo>
                    <a:pt x="0" y="272"/>
                    <a:pt x="100" y="376"/>
                    <a:pt x="200" y="480"/>
                  </a:cubicBezTo>
                </a:path>
              </a:pathLst>
            </a:custGeom>
            <a:noFill/>
            <a:ln w="28440">
              <a:solidFill>
                <a:srgbClr val="00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3123720" y="5181480"/>
              <a:ext cx="3924720" cy="457200"/>
              <a:chOff x="3123720" y="5181480"/>
              <a:chExt cx="3924720" cy="457200"/>
            </a:xfrm>
          </p:grpSpPr>
          <p:sp>
            <p:nvSpPr>
              <p:cNvPr id="546" name=""/>
              <p:cNvSpPr/>
              <p:nvPr/>
            </p:nvSpPr>
            <p:spPr>
              <a:xfrm flipH="1">
                <a:off x="3123360" y="5181480"/>
                <a:ext cx="3581640" cy="457200"/>
              </a:xfrm>
              <a:custGeom>
                <a:avLst/>
                <a:gdLst>
                  <a:gd name="textAreaLeft" fmla="*/ -360 w 3581640"/>
                  <a:gd name="textAreaRight" fmla="*/ 3581640 w 3581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518" y="0"/>
                    </a:lnTo>
                    <a:lnTo>
                      <a:pt x="21600" y="10800"/>
                    </a:lnTo>
                    <a:lnTo>
                      <a:pt x="19518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100000">
                    <a:srgbClr val="f6f6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467160" y="5181480"/>
                <a:ext cx="3581280" cy="457200"/>
              </a:xfrm>
              <a:custGeom>
                <a:avLst/>
                <a:gdLst>
                  <a:gd name="textAreaLeft" fmla="*/ 0 w 3581280"/>
                  <a:gd name="textAreaRight" fmla="*/ 3581640 w 358128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518" y="0"/>
                    </a:lnTo>
                    <a:lnTo>
                      <a:pt x="21600" y="10800"/>
                    </a:lnTo>
                    <a:lnTo>
                      <a:pt x="19518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100000">
                    <a:srgbClr val="f6f6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200" spc="-1" strike="noStrike">
                    <a:solidFill>
                      <a:srgbClr val="000066"/>
                    </a:solidFill>
                    <a:latin typeface="Arial"/>
                  </a:rPr>
                  <a:t>Dokumentiere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8" name=""/>
            <p:cNvSpPr/>
            <p:nvPr/>
          </p:nvSpPr>
          <p:spPr>
            <a:xfrm>
              <a:off x="3048120" y="3886200"/>
              <a:ext cx="228600" cy="1219320"/>
            </a:xfrm>
            <a:custGeom>
              <a:avLst/>
              <a:gdLst/>
              <a:ahLst/>
              <a:rect l="l" t="t" r="r" b="b"/>
              <a:pathLst>
                <a:path w="248" h="480">
                  <a:moveTo>
                    <a:pt x="248" y="0"/>
                  </a:moveTo>
                  <a:cubicBezTo>
                    <a:pt x="132" y="56"/>
                    <a:pt x="16" y="112"/>
                    <a:pt x="8" y="192"/>
                  </a:cubicBezTo>
                  <a:cubicBezTo>
                    <a:pt x="0" y="272"/>
                    <a:pt x="100" y="376"/>
                    <a:pt x="200" y="480"/>
                  </a:cubicBezTo>
                </a:path>
              </a:pathLst>
            </a:custGeom>
            <a:noFill/>
            <a:ln w="28440">
              <a:solidFill>
                <a:srgbClr val="00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959200" y="3200400"/>
              <a:ext cx="393480" cy="1905120"/>
            </a:xfrm>
            <a:custGeom>
              <a:avLst/>
              <a:gdLst/>
              <a:ahLst/>
              <a:rect l="l" t="t" r="r" b="b"/>
              <a:pathLst>
                <a:path w="248" h="480">
                  <a:moveTo>
                    <a:pt x="248" y="0"/>
                  </a:moveTo>
                  <a:cubicBezTo>
                    <a:pt x="132" y="56"/>
                    <a:pt x="16" y="112"/>
                    <a:pt x="8" y="192"/>
                  </a:cubicBezTo>
                  <a:cubicBezTo>
                    <a:pt x="0" y="272"/>
                    <a:pt x="100" y="376"/>
                    <a:pt x="200" y="480"/>
                  </a:cubicBezTo>
                </a:path>
              </a:pathLst>
            </a:custGeom>
            <a:noFill/>
            <a:ln w="28440">
              <a:solidFill>
                <a:srgbClr val="00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3124080" y="6477120"/>
            <a:ext cx="3962520" cy="1197000"/>
            <a:chOff x="3124080" y="6477120"/>
            <a:chExt cx="3962520" cy="1197000"/>
          </a:xfrm>
        </p:grpSpPr>
        <p:sp>
          <p:nvSpPr>
            <p:cNvPr id="551" name=""/>
            <p:cNvSpPr/>
            <p:nvPr/>
          </p:nvSpPr>
          <p:spPr>
            <a:xfrm>
              <a:off x="3124080" y="6477120"/>
              <a:ext cx="3962520" cy="11912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Arial"/>
                </a:rPr>
                <a:t>Rahmenbedingun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66"/>
                  </a:solidFill>
                  <a:latin typeface="Arial"/>
                </a:rPr>
                <a:t>Wer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66"/>
                  </a:solidFill>
                  <a:latin typeface="Arial"/>
                </a:rPr>
                <a:t>Spielregel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76920" y="6848640"/>
              <a:ext cx="191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66"/>
                  </a:solidFill>
                  <a:latin typeface="Arial"/>
                </a:rPr>
                <a:t>Anre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66"/>
                  </a:solidFill>
                  <a:latin typeface="Arial"/>
                </a:rPr>
                <a:t>Infrastrukt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 rot="16200000">
            <a:off x="7069680" y="3949920"/>
            <a:ext cx="5837040" cy="5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4300" spc="-1" strike="noStrike">
                <a:solidFill>
                  <a:srgbClr val="a1bae0"/>
                </a:solidFill>
                <a:latin typeface="Arial"/>
              </a:rPr>
              <a:t>Definitione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0T07:27:46Z</dcterms:created>
  <dc:creator>G3316</dc:creator>
  <dc:description/>
  <dc:language>en-US</dc:language>
  <cp:lastModifiedBy>G3316</cp:lastModifiedBy>
  <cp:lastPrinted>1999-03-29T13:43:00Z</cp:lastPrinted>
  <dcterms:modified xsi:type="dcterms:W3CDTF">2001-07-17T15:55:23Z</dcterms:modified>
  <cp:revision>5</cp:revision>
  <dc:subject/>
  <dc:title>Kein Folientitel</dc:title>
</cp:coreProperties>
</file>